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36.png" ContentType="image/png"/>
  <Override PartName="/ppt/media/image24.wmf" ContentType="image/x-wmf"/>
  <Override PartName="/ppt/media/image29.png" ContentType="image/png"/>
  <Override PartName="/ppt/media/image31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4.wmf" ContentType="image/x-wmf"/>
  <Override PartName="/ppt/media/image16.wmf" ContentType="image/x-wmf"/>
  <Override PartName="/ppt/media/image55.png" ContentType="image/png"/>
  <Override PartName="/ppt/media/image25.wmf" ContentType="image/x-wmf"/>
  <Override PartName="/ppt/media/image15.jpeg" ContentType="image/jpeg"/>
  <Override PartName="/ppt/media/image17.jpeg" ContentType="image/jpeg"/>
  <Override PartName="/ppt/media/image45.wmf" ContentType="image/x-wmf"/>
  <Override PartName="/ppt/media/image22.png" ContentType="image/png"/>
  <Override PartName="/ppt/media/image60.jpeg" ContentType="image/jpeg"/>
  <Override PartName="/ppt/media/image21.wmf" ContentType="image/x-wmf"/>
  <Override PartName="/ppt/media/image42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0.wmf" ContentType="image/x-wmf"/>
  <Override PartName="/ppt/media/image26.wmf" ContentType="image/x-wmf"/>
  <Override PartName="/ppt/media/image2.gif" ContentType="image/gif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7.wmf" ContentType="image/x-wmf"/>
  <Override PartName="/ppt/media/image11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32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40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48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3.png" ContentType="image/png"/>
  <Override PartName="/ppt/media/image5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F29-ABC1-472F-80FA-8AD506DA9C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7262-6E8C-40E2-8CF1-E038B125FAD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D0D-3DCB-49F0-BEB7-9BC02DA3B786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B8F-7596-469F-AE27-A6AFD9C8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753-A323-48BE-B2B7-B064E0E4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07F-6F36-4916-AF13-3C17E188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B6F-E28E-4363-93BE-A019FC95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7053-DE18-4903-94C0-1B6491A3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D293-516C-497A-BFA9-672EB38A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95F3-85BD-4FDB-95CB-B1D946E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2E0E-F136-4EA3-A176-BC74A78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79D3-B5DC-40AA-B05F-48884AD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A881-2E01-437A-BDDF-C234D08E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436F-4921-4EB5-AE62-6627E1E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E2B-5474-4DF9-A0CA-46EBC46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B8B0-0D82-4148-B226-EF4E14C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1C98-6AAF-4B8E-A2FE-31163C8D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03BD-A565-4C06-8ACA-EE8F8390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A159-A43C-4B4D-8EDE-F5C526A8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FDBA-7C5F-403C-8DD8-8E5D7BB8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401-7D92-41F2-BDC1-649F332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36A-91C8-47C9-9A45-BC2D0D0B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1EB-DC17-479D-874C-E9CD1C7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DE4-1C25-490C-8FD4-D63884F1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46E-545D-4114-896F-233936C3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580-7BBC-4BD7-8017-3B0E798C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DD4-A924-4A4F-A173-28E1B11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5D02-B2C2-464A-A3A6-AE8C0529475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FA1E-A3F0-4C02-81CC-9A612D462A4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8458200" cy="43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500720" y="4406760"/>
            <a:ext cx="2620800" cy="245124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7121520" y="5084640"/>
            <a:ext cx="1627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igure 10 | Activated Carbon from the Chinese Herbal Medicine Waste by H3PO4 Activation (hindawi.co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http://upload.wikimedia.org/wikipedia/commons/thumb/0/0b/Langmuir_izoterma.png/800px-Langmuir_izoterma.png"/>
          <p:cNvPicPr/>
          <p:nvPr/>
        </p:nvPicPr>
        <p:blipFill>
          <a:blip r:embed="rId3"/>
          <a:stretch/>
        </p:blipFill>
        <p:spPr>
          <a:xfrm>
            <a:off x="611280" y="46782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1"/>
          <p:cNvSpPr/>
          <p:nvPr/>
        </p:nvSpPr>
        <p:spPr>
          <a:xfrm>
            <a:off x="5085360" y="209700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…Míra množství aktivních cent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…Míra afin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ovéPole 2"/>
          <p:cNvSpPr/>
          <p:nvPr/>
        </p:nvSpPr>
        <p:spPr>
          <a:xfrm>
            <a:off x="1541880" y="6270480"/>
            <a:ext cx="2329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íra kvality sorbent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Přímá spojnice se šipkou 4"/>
          <p:cNvCxnSpPr/>
          <p:nvPr/>
        </p:nvCxnSpPr>
        <p:spPr>
          <a:xfrm flipH="1" flipV="1">
            <a:off x="2267640" y="5558760"/>
            <a:ext cx="72360" cy="711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1" name="TextovéPole 1"/>
          <p:cNvSpPr/>
          <p:nvPr/>
        </p:nvSpPr>
        <p:spPr>
          <a:xfrm>
            <a:off x="1508760" y="333360"/>
            <a:ext cx="6493320" cy="4597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motnost naadsorbova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ého množství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5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23920" y="189000"/>
            <a:ext cx="8534160" cy="31464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3"/>
          <p:cNvSpPr/>
          <p:nvPr/>
        </p:nvSpPr>
        <p:spPr>
          <a:xfrm>
            <a:off x="223920" y="3429000"/>
            <a:ext cx="3409920" cy="67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TextovéPole 1" descr=""/>
          <p:cNvPicPr/>
          <p:nvPr/>
        </p:nvPicPr>
        <p:blipFill>
          <a:blip r:embed="rId2"/>
          <a:stretch/>
        </p:blipFill>
        <p:spPr>
          <a:xfrm>
            <a:off x="901800" y="4175280"/>
            <a:ext cx="5267160" cy="933120"/>
          </a:xfrm>
          <a:prstGeom prst="rect">
            <a:avLst/>
          </a:prstGeom>
          <a:ln w="0">
            <a:noFill/>
          </a:ln>
        </p:spPr>
      </p:pic>
      <p:pic>
        <p:nvPicPr>
          <p:cNvPr id="199" name="TextovéPole 2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479680" cy="8524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3831840" y="5424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TextovéPole 4" descr=""/>
          <p:cNvPicPr/>
          <p:nvPr/>
        </p:nvPicPr>
        <p:blipFill>
          <a:blip r:embed="rId4"/>
          <a:stretch/>
        </p:blipFill>
        <p:spPr>
          <a:xfrm>
            <a:off x="4657680" y="5315040"/>
            <a:ext cx="2876760" cy="647640"/>
          </a:xfrm>
          <a:prstGeom prst="rect">
            <a:avLst/>
          </a:prstGeom>
          <a:ln w="0">
            <a:noFill/>
          </a:ln>
        </p:spPr>
      </p:pic>
      <p:pic>
        <p:nvPicPr>
          <p:cNvPr id="202" name="TextovéPole 7" descr=""/>
          <p:cNvPicPr/>
          <p:nvPr/>
        </p:nvPicPr>
        <p:blipFill>
          <a:blip r:embed="rId5"/>
          <a:stretch/>
        </p:blipFill>
        <p:spPr>
          <a:xfrm>
            <a:off x="4621320" y="5851440"/>
            <a:ext cx="1925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2"/>
          <p:cNvSpPr/>
          <p:nvPr/>
        </p:nvSpPr>
        <p:spPr>
          <a:xfrm>
            <a:off x="1547640" y="3716280"/>
            <a:ext cx="2448000" cy="7923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41280" y="2602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ungují triky na prádlo voňavé i bez aviváže? – Tchibo"/>
          <p:cNvPicPr/>
          <p:nvPr/>
        </p:nvPicPr>
        <p:blipFill>
          <a:blip r:embed="rId2"/>
          <a:stretch/>
        </p:blipFill>
        <p:spPr>
          <a:xfrm>
            <a:off x="2373480" y="4981680"/>
            <a:ext cx="3230280" cy="185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Domácí aviváž: Vyměňte chemické koktejly za bílý ocet a voňavé olejíčky |  BydlímeKvalitně.cz"/>
          <p:cNvPicPr/>
          <p:nvPr/>
        </p:nvPicPr>
        <p:blipFill>
          <a:blip r:embed="rId3"/>
          <a:stretch/>
        </p:blipFill>
        <p:spPr>
          <a:xfrm>
            <a:off x="5749920" y="4764240"/>
            <a:ext cx="3103560" cy="206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Mladí lidé méně kouří a pijí, více sportují | Hospodářské noviny (iHNed.cz)"/>
          <p:cNvPicPr/>
          <p:nvPr/>
        </p:nvPicPr>
        <p:blipFill>
          <a:blip r:embed="rId4"/>
          <a:stretch/>
        </p:blipFill>
        <p:spPr>
          <a:xfrm>
            <a:off x="341280" y="2565360"/>
            <a:ext cx="4062600" cy="2284560"/>
          </a:xfrm>
          <a:prstGeom prst="rect">
            <a:avLst/>
          </a:prstGeom>
          <a:ln w="0">
            <a:noFill/>
          </a:ln>
        </p:spPr>
      </p:pic>
      <p:sp>
        <p:nvSpPr>
          <p:cNvPr id="215" name="TextovéPole 1"/>
          <p:cNvSpPr/>
          <p:nvPr/>
        </p:nvSpPr>
        <p:spPr>
          <a:xfrm>
            <a:off x="351720" y="52293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o-ad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12" descr="Interfacial molecular interactions of cellobiohydrolase Cel7A and its  variants on cellulose | SpringerLink"/>
          <p:cNvPicPr/>
          <p:nvPr/>
        </p:nvPicPr>
        <p:blipFill>
          <a:blip r:embed="rId5"/>
          <a:stretch/>
        </p:blipFill>
        <p:spPr>
          <a:xfrm>
            <a:off x="4572000" y="2565360"/>
            <a:ext cx="41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3960"/>
            <a:ext cx="8408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Activated carbon </a:t>
            </a:r>
            <a:r>
              <a:rPr b="0" lang="en-GB" sz="3600" spc="-1" strike="noStrike">
                <a:solidFill>
                  <a:srgbClr val="4d4d4d"/>
                </a:solidFill>
                <a:latin typeface="Arial Black"/>
              </a:rPr>
              <a:t>&amp; tobaco ste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384200"/>
            <a:ext cx="8028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221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224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8"/>
          <p:cNvSpPr/>
          <p:nvPr/>
        </p:nvSpPr>
        <p:spPr>
          <a:xfrm>
            <a:off x="3635280" y="449568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2"/>
          <p:cNvSpPr/>
          <p:nvPr/>
        </p:nvSpPr>
        <p:spPr>
          <a:xfrm>
            <a:off x="1528920" y="3141720"/>
            <a:ext cx="3835080" cy="5745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  <p:sp>
        <p:nvSpPr>
          <p:cNvPr id="236" name="Obdélník 5"/>
          <p:cNvSpPr/>
          <p:nvPr/>
        </p:nvSpPr>
        <p:spPr>
          <a:xfrm>
            <a:off x="1332000" y="75888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bdélník 6"/>
          <p:cNvSpPr/>
          <p:nvPr/>
        </p:nvSpPr>
        <p:spPr>
          <a:xfrm>
            <a:off x="1547640" y="558972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1"/>
          <p:cNvSpPr/>
          <p:nvPr/>
        </p:nvSpPr>
        <p:spPr>
          <a:xfrm>
            <a:off x="4655880" y="1674720"/>
            <a:ext cx="314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…hmotnost monovrstv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bdélník 3"/>
          <p:cNvSpPr/>
          <p:nvPr/>
        </p:nvSpPr>
        <p:spPr>
          <a:xfrm>
            <a:off x="971640" y="5084640"/>
            <a:ext cx="7200720" cy="93672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  <p:sp>
        <p:nvSpPr>
          <p:cNvPr id="243" name="Obdélník 3"/>
          <p:cNvSpPr/>
          <p:nvPr/>
        </p:nvSpPr>
        <p:spPr>
          <a:xfrm>
            <a:off x="1547640" y="1916280"/>
            <a:ext cx="403236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ovéPole 1"/>
          <p:cNvSpPr/>
          <p:nvPr/>
        </p:nvSpPr>
        <p:spPr>
          <a:xfrm>
            <a:off x="249120" y="32464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Fyz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Waalsovy síl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ízké adsorpční tepl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žné i více vrstev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Jen do teploty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ovéPole 3"/>
          <p:cNvSpPr/>
          <p:nvPr/>
        </p:nvSpPr>
        <p:spPr>
          <a:xfrm>
            <a:off x="4779720" y="32446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cké vazb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elké tepelné efekt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novrstv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 nad teplotou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" y="1112760"/>
            <a:ext cx="8648640" cy="184788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D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B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8200" y="927000"/>
            <a:ext cx="8667720" cy="19717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415080" y="3068640"/>
            <a:ext cx="38656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kyslíku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5165640" y="3068640"/>
            <a:ext cx="34754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SO2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5" descr="http://www.tlakinfo.cz/docu/clanky/0018/001827o2.jpg"/>
          <p:cNvPicPr/>
          <p:nvPr/>
        </p:nvPicPr>
        <p:blipFill>
          <a:blip r:embed="rId2"/>
          <a:stretch/>
        </p:blipFill>
        <p:spPr>
          <a:xfrm>
            <a:off x="49320" y="4038480"/>
            <a:ext cx="455292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1547640" y="4365720"/>
            <a:ext cx="28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tlakinfo.cz/t.py?t=2&amp;i=1827&amp;z=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7" descr="http://slideplayer.cz/2773948/10/images/13/Absorp%C4%8Dn%C3%AD+v%C4%9B%C5%BEe.jpg"/>
          <p:cNvPicPr/>
          <p:nvPr/>
        </p:nvPicPr>
        <p:blipFill>
          <a:blip r:embed="rId3"/>
          <a:stretch/>
        </p:blipFill>
        <p:spPr>
          <a:xfrm>
            <a:off x="4857840" y="4038480"/>
            <a:ext cx="3800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4533840" y="907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ychlé ustavení adsorpční rovnováh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304920" y="4452840"/>
            <a:ext cx="2928960" cy="3988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dsorpční isoterm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1403280" y="4741920"/>
            <a:ext cx="27370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9:18:30Z</dcterms:modified>
  <cp:revision>166</cp:revision>
  <dc:subject/>
  <dc:title>C6730 Fázové rovnováhy</dc:title>
</cp:coreProperties>
</file>