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88A-534A-480A-8865-D1AF4837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D10-5F4C-404B-AAAE-B5396C34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6C0-07A6-4830-8158-33217E1F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B9B-4A58-4D60-A0C9-DCD3E410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A92A-469E-4C23-A29A-12CD379C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CB6B-27B0-4BC1-8F67-3AB68918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6474-5B89-4C4C-99B5-8D42BFF5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0802-41E6-4D69-9D99-DBAC759F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DAA5-5992-45B4-9CA9-39A330EA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5021-A609-4838-8192-2E8DF6D3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303F-FE83-49A6-A9C5-3BB99F48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117-B765-4C07-9B0A-1740034B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E381-3FB2-49CB-99AD-4A5A3167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686F-4381-4BF4-AAB8-166EFDB2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5078-58C2-4701-8E4C-EB9B43D2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F626-7712-4E3F-8EC1-B2C33FA1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E6E5-81C4-4462-9E9E-2C17A6CE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472-4293-4A88-B89C-9FED129A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76F-CAE1-4790-B434-AC6C5442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FDD-64AB-4EB9-BC9D-3B489068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2B2-227A-4FDB-BB9E-9299278D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5ADF-0D99-40DE-BB09-DCD6E8FC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F5C-E153-4232-AF27-297F1CF8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2B2E-BAC6-4ACF-9B9F-5E2A9FBB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5289-FEDD-47D6-82F3-2C0712DAD14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8CED-D21E-4CB2-8039-CA05680F8C5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Experimentální metody chemické kine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CC0B-8F50-4992-8347-DC918519F91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http://www.scielo.br/img/revistas/bjce/v25n4/a15fig03.gif"/>
          <p:cNvPicPr/>
          <p:nvPr/>
        </p:nvPicPr>
        <p:blipFill>
          <a:blip r:embed="rId1"/>
          <a:stretch/>
        </p:blipFill>
        <p:spPr>
          <a:xfrm>
            <a:off x="1538280" y="2637000"/>
            <a:ext cx="4435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45E8-EF7C-475A-B291-5331FB39C35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11280" y="7920"/>
            <a:ext cx="7950240" cy="63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B694-DDF7-4DE4-9A6D-DCA97EC8A22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4860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ferenciální met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3D99-0FDA-4658-83AC-AB4634090EF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993080" cy="3024000"/>
          </a:xfrm>
          <a:prstGeom prst="rect">
            <a:avLst/>
          </a:prstGeom>
          <a:ln w="0">
            <a:noFill/>
          </a:ln>
        </p:spPr>
      </p:pic>
      <p:sp>
        <p:nvSpPr>
          <p:cNvPr id="132" name="TextovéPole 3"/>
          <p:cNvSpPr/>
          <p:nvPr/>
        </p:nvSpPr>
        <p:spPr>
          <a:xfrm>
            <a:off x="6241680" y="2708280"/>
            <a:ext cx="2019960" cy="5101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iz:   v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k*A</a:t>
            </a:r>
            <a:r>
              <a:rPr b="0" lang="cs-CZ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250920" y="4653000"/>
            <a:ext cx="86994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vyhodnoc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B93E-3FD5-4688-B86C-B78235E6F68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95280" y="1076400"/>
            <a:ext cx="857412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lánování kinetických experimen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24D0-A53A-4883-8E1A-E128672566F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551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2E78-0508-4C35-87ED-8354B35FF4C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04800" y="260280"/>
            <a:ext cx="7927920" cy="6332760"/>
          </a:xfrm>
          <a:prstGeom prst="rect">
            <a:avLst/>
          </a:prstGeom>
          <a:ln w="0">
            <a:noFill/>
          </a:ln>
        </p:spPr>
      </p:pic>
      <p:sp>
        <p:nvSpPr>
          <p:cNvPr id="143" name="Přímá spojnice 3"/>
          <p:cNvSpPr/>
          <p:nvPr/>
        </p:nvSpPr>
        <p:spPr>
          <a:xfrm>
            <a:off x="1403280" y="2852640"/>
            <a:ext cx="6913800" cy="1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římá spojnice 5"/>
          <p:cNvSpPr/>
          <p:nvPr/>
        </p:nvSpPr>
        <p:spPr>
          <a:xfrm>
            <a:off x="900000" y="3068640"/>
            <a:ext cx="727236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6D31-E0F4-4258-8BFF-8AC90C522F6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78800" cy="1728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98600" y="3933720"/>
            <a:ext cx="8083440" cy="2427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1058760" y="2271600"/>
            <a:ext cx="696276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1200240" y="3057480"/>
            <a:ext cx="6743520" cy="743040"/>
          </a:xfrm>
          <a:prstGeom prst="rect">
            <a:avLst/>
          </a:prstGeom>
          <a:ln w="0">
            <a:noFill/>
          </a:ln>
        </p:spPr>
      </p:pic>
      <p:sp>
        <p:nvSpPr>
          <p:cNvPr id="151" name="TextovéPole 1"/>
          <p:cNvSpPr/>
          <p:nvPr/>
        </p:nvSpPr>
        <p:spPr>
          <a:xfrm>
            <a:off x="5648400" y="1844640"/>
            <a:ext cx="316872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iz průtokový reaktor nebo metoda zastaveného to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bdélník 3"/>
          <p:cNvSpPr/>
          <p:nvPr/>
        </p:nvSpPr>
        <p:spPr>
          <a:xfrm>
            <a:off x="498600" y="6364440"/>
            <a:ext cx="603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etailed video eng: </a:t>
            </a:r>
            <a:r>
              <a:rPr b="0" lang="cs-CZ" sz="1600" spc="-1" strike="noStrike">
                <a:solidFill>
                  <a:srgbClr val="1f497d"/>
                </a:solidFill>
                <a:latin typeface="Times New Roman"/>
              </a:rPr>
              <a:t>https://www.youtube.com/watch?v=thNq_AhtEr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sk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7D11-6B51-4626-988A-C3E8A3E3C24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228600" y="1628640"/>
            <a:ext cx="8686800" cy="4888080"/>
          </a:xfrm>
          <a:prstGeom prst="rect">
            <a:avLst/>
          </a:prstGeom>
          <a:ln w="0">
            <a:noFill/>
          </a:ln>
        </p:spPr>
      </p:pic>
      <p:sp>
        <p:nvSpPr>
          <p:cNvPr id="156" name="Obdélník 4"/>
          <p:cNvSpPr/>
          <p:nvPr/>
        </p:nvSpPr>
        <p:spPr>
          <a:xfrm>
            <a:off x="228600" y="10936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ttps://demonstrations.wolfram.com/topic.html?topic=Chemical+Kinetics&amp;limit=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emicko-kinetické experimen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D2D5-B979-4C01-92E9-2A4A976B83D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ovéPole 4"/>
          <p:cNvSpPr/>
          <p:nvPr/>
        </p:nvSpPr>
        <p:spPr>
          <a:xfrm>
            <a:off x="611280" y="1700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novení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onverzních křive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šech detekovatelných reaktantů, meziproduktů a produkt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novení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ávislostí reakčních rychlost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 definovaných podmínek (teplota, tlak, podmínky experiment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ovéPole 5"/>
          <p:cNvSpPr/>
          <p:nvPr/>
        </p:nvSpPr>
        <p:spPr>
          <a:xfrm>
            <a:off x="306360" y="378936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Základní typy experime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ovéPole 6"/>
          <p:cNvSpPr/>
          <p:nvPr/>
        </p:nvSpPr>
        <p:spPr>
          <a:xfrm>
            <a:off x="395280" y="4251240"/>
            <a:ext cx="6769080" cy="228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zotermický, dokonale promíchávaný vsádkový (uzavřený) rea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zotermický, trubkový reaktor s pístovým tokem reakční smě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zotermický, dokonale promíchávaný průtokový rea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http://upload.wikimedia.org/wikipedia/commons/5/5c/Batch_reactor.2.jpg"/>
          <p:cNvPicPr/>
          <p:nvPr/>
        </p:nvPicPr>
        <p:blipFill>
          <a:blip r:embed="rId1"/>
          <a:stretch/>
        </p:blipFill>
        <p:spPr>
          <a:xfrm>
            <a:off x="6732720" y="3213000"/>
            <a:ext cx="2363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BDD5-50AD-4860-A9FA-0910F1A4FFE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79520" y="189000"/>
            <a:ext cx="8121600" cy="2819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52600" y="3008160"/>
            <a:ext cx="7975440" cy="75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479520" y="3763800"/>
            <a:ext cx="79693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onale promíchávaný reaktor a konverzní kři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4A82-B1CE-478A-82F2-CC70B8E9668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24000" y="1239840"/>
            <a:ext cx="8605800" cy="434016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3"/>
          <p:cNvSpPr/>
          <p:nvPr/>
        </p:nvSpPr>
        <p:spPr>
          <a:xfrm>
            <a:off x="1187280" y="5950080"/>
            <a:ext cx="6337440" cy="4597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utno měřit až do vysokých konverzí (tj 0,9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0AA8-4AEC-484D-9F45-3CF11191B0F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19040" y="476280"/>
            <a:ext cx="824220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720A-8427-45A9-980E-D391AD386AF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58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21240" y="39816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zor na dosažený stupeň konverze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8AEA-F567-414F-80C2-F6794716C44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705120" cy="532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284720" y="2313000"/>
            <a:ext cx="4757760" cy="244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611280" y="5425920"/>
            <a:ext cx="8096040" cy="1338480"/>
          </a:xfrm>
          <a:prstGeom prst="rect">
            <a:avLst/>
          </a:prstGeom>
          <a:ln w="0">
            <a:noFill/>
          </a:ln>
        </p:spPr>
      </p:pic>
      <p:cxnSp>
        <p:nvCxnSpPr>
          <p:cNvPr id="111" name="Přímá spojnice se šipkou 4"/>
          <p:cNvCxnSpPr/>
          <p:nvPr/>
        </p:nvCxnSpPr>
        <p:spPr>
          <a:xfrm flipH="1">
            <a:off x="3850920" y="3537000"/>
            <a:ext cx="1658160" cy="900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zlomkových ča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55CE-0A73-4C07-9B90-184093A3BBB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977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94EA-A691-4D0D-B326-B36CA38298E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20840" y="74520"/>
            <a:ext cx="7391160" cy="5437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420840" y="5603760"/>
            <a:ext cx="7808760" cy="1228680"/>
          </a:xfrm>
          <a:prstGeom prst="rect">
            <a:avLst/>
          </a:prstGeom>
          <a:ln w="0">
            <a:noFill/>
          </a:ln>
        </p:spPr>
      </p:pic>
      <p:cxnSp>
        <p:nvCxnSpPr>
          <p:cNvPr id="119" name="Přímá spojnice se šipkou 3"/>
          <p:cNvCxnSpPr/>
          <p:nvPr/>
        </p:nvCxnSpPr>
        <p:spPr>
          <a:xfrm>
            <a:off x="3492360" y="476280"/>
            <a:ext cx="504000" cy="15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0" name="Přímá spojnice se šipkou 5"/>
          <p:cNvCxnSpPr/>
          <p:nvPr/>
        </p:nvCxnSpPr>
        <p:spPr>
          <a:xfrm flipH="1">
            <a:off x="3276360" y="476280"/>
            <a:ext cx="1800720" cy="231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Přímá spojnice se šipkou 7"/>
          <p:cNvCxnSpPr/>
          <p:nvPr/>
        </p:nvCxnSpPr>
        <p:spPr>
          <a:xfrm flipV="1">
            <a:off x="1763280" y="5511240"/>
            <a:ext cx="4033080" cy="221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2" name="TextovéPole 1"/>
          <p:cNvSpPr/>
          <p:nvPr/>
        </p:nvSpPr>
        <p:spPr>
          <a:xfrm>
            <a:off x="6132600" y="5235480"/>
            <a:ext cx="75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v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21-04-13T10:26:42Z</dcterms:modified>
  <cp:revision>44</cp:revision>
  <dc:subject/>
  <dc:title>Prezentace aplikace PowerPoint</dc:title>
</cp:coreProperties>
</file>