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png" ContentType="image/png"/>
  <Override PartName="/ppt/media/image56.png" ContentType="image/png"/>
  <Override PartName="/ppt/media/image55.png" ContentType="image/png"/>
  <Override PartName="/ppt/media/image20.jpeg" ContentType="image/jpeg"/>
  <Override PartName="/ppt/media/image54.png" ContentType="image/png"/>
  <Override PartName="/ppt/media/image53.png" ContentType="image/png"/>
  <Override PartName="/ppt/media/image51.png" ContentType="image/png"/>
  <Override PartName="/ppt/media/image6.jpeg" ContentType="image/jpeg"/>
  <Override PartName="/ppt/media/image52.png" ContentType="image/png"/>
  <Override PartName="/ppt/media/image27.jpeg" ContentType="image/jpeg"/>
  <Override PartName="/ppt/media/image10.jpeg" ContentType="image/jpeg"/>
  <Override PartName="/ppt/media/image14.png" ContentType="image/png"/>
  <Override PartName="/ppt/media/image36.jpeg" ContentType="image/jpeg"/>
  <Override PartName="/ppt/media/image57.png" ContentType="image/png"/>
  <Override PartName="/ppt/media/image15.jpeg" ContentType="image/jpeg"/>
  <Override PartName="/ppt/media/image17.jpeg" ContentType="image/jpeg"/>
  <Override PartName="/ppt/media/image18.jpeg" ContentType="image/jpeg"/>
  <Override PartName="/ppt/media/image24.jpeg" ContentType="image/jpeg"/>
  <Override PartName="/ppt/media/image59.png" ContentType="image/png"/>
  <Override PartName="/ppt/media/image22.png" ContentType="image/png"/>
  <Override PartName="/ppt/media/image26.jpeg" ContentType="image/jpeg"/>
  <Override PartName="/ppt/media/image42.png" ContentType="image/png"/>
  <Override PartName="/ppt/media/image61.png" ContentType="image/png"/>
  <Override PartName="/ppt/media/image2.jpeg" ContentType="image/jpeg"/>
  <Override PartName="/ppt/media/image31.png" ContentType="image/png"/>
  <Override PartName="/ppt/media/image66.png" ContentType="image/png"/>
  <Override PartName="/ppt/media/image63.jpeg" ContentType="image/jpeg"/>
  <Override PartName="/ppt/media/image29.png" ContentType="image/png"/>
  <Override PartName="/ppt/media/image21.jpeg" ContentType="image/jpeg"/>
  <Override PartName="/ppt/media/image4.png" ContentType="image/png"/>
  <Override PartName="/ppt/media/image16.png" ContentType="image/png"/>
  <Override PartName="/ppt/media/image64.png" ContentType="image/png"/>
  <Override PartName="/ppt/media/image60.jpeg" ContentType="image/jpeg"/>
  <Override PartName="/ppt/media/image62.png" ContentType="image/png"/>
  <Override PartName="/ppt/media/image25.png" ContentType="image/png"/>
  <Override PartName="/ppt/media/image23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19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2.png" ContentType="image/png"/>
  <Override PartName="/ppt/media/image65.jpeg" ContentType="image/jpeg"/>
  <Override PartName="/ppt/media/image49.png" ContentType="image/png"/>
  <Override PartName="/ppt/media/image9.jpeg" ContentType="image/jpeg"/>
  <Override PartName="/ppt/media/image11.png" ContentType="image/png"/>
  <Override PartName="/ppt/media/image48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0.jpeg" ContentType="image/jpeg"/>
  <Override PartName="/ppt/media/image32.png" ContentType="image/png"/>
  <Override PartName="/ppt/media/image33.png" ContentType="image/png"/>
  <Override PartName="/ppt/media/image39.png" ContentType="image/png"/>
  <Override PartName="/ppt/media/image40.png" ContentType="image/png"/>
  <Override PartName="/ppt/media/image3.jpeg" ContentType="image/jpeg"/>
  <Override PartName="/ppt/media/image41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7.jpeg" ContentType="image/jpeg"/>
  <Override PartName="/ppt/media/image5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A97FA3-6E6A-4B5D-A869-717037C9332A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813601-E5A3-4809-9C12-D1B3B4082148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C0D611-5103-4029-AF72-4089ED8ECEF5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B4B2-A5C0-48A6-BF02-5363E4B86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BC8C-C62B-4A3F-B303-DE8C781F1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C290-E87B-4785-99C0-441D157FB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7DC4-B33E-46D1-A510-FB3A9BF0A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AF87-3A86-4897-8520-093C49DD7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BF24-A27D-447F-AA3A-C28E05BE6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3179-AE7C-4FD8-92E2-788C616F8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33B3-729F-4AE7-93D5-E0C676288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FC0F-5284-43E9-AD89-0F0E1D683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BCD5-9C5F-4AE4-91F8-D2938E1A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958E-AFCA-46D9-9175-49DA1BFC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BBE0-D034-43FD-9742-751C2A54D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-3043440" y="-329760"/>
            <a:ext cx="12185640" cy="7824600"/>
            <a:chOff x="-3043440" y="-329760"/>
            <a:chExt cx="12185640" cy="7824600"/>
          </a:xfrm>
        </p:grpSpPr>
        <p:sp>
          <p:nvSpPr>
            <p:cNvPr id="1" name="Freeform 2"/>
            <p:cNvSpPr/>
            <p:nvPr/>
          </p:nvSpPr>
          <p:spPr>
            <a:xfrm>
              <a:off x="1485720" y="-4320"/>
              <a:ext cx="3221280" cy="69109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-1541520" y="-7560"/>
              <a:ext cx="3222000" cy="69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5402880" y="-2880"/>
              <a:ext cx="3225600" cy="69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2019960" y="-11160"/>
              <a:ext cx="3857760" cy="68965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-1324440" y="157680"/>
              <a:ext cx="6499440" cy="2449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 flipH="1" rot="2700000">
              <a:off x="-39240" y="1224720"/>
              <a:ext cx="4718520" cy="16074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-1387440" y="81360"/>
              <a:ext cx="6499440" cy="2449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 rot="18720000">
              <a:off x="-2909160" y="1463760"/>
              <a:ext cx="5588640" cy="2849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0"/>
            <p:cNvSpPr/>
            <p:nvPr/>
          </p:nvSpPr>
          <p:spPr>
            <a:xfrm rot="19260000">
              <a:off x="925200" y="1459080"/>
              <a:ext cx="6666120" cy="27673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1"/>
            <p:cNvSpPr/>
            <p:nvPr/>
          </p:nvSpPr>
          <p:spPr>
            <a:xfrm flipH="1" rot="2100000">
              <a:off x="1905840" y="1382400"/>
              <a:ext cx="6499080" cy="2449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2"/>
            <p:cNvSpPr/>
            <p:nvPr/>
          </p:nvSpPr>
          <p:spPr>
            <a:xfrm>
              <a:off x="6341400" y="-7560"/>
              <a:ext cx="2019960" cy="364428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3"/>
            <p:cNvSpPr/>
            <p:nvPr/>
          </p:nvSpPr>
          <p:spPr>
            <a:xfrm>
              <a:off x="-1541520" y="6239520"/>
              <a:ext cx="10683720" cy="68868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4"/>
            <p:cNvSpPr/>
            <p:nvPr/>
          </p:nvSpPr>
          <p:spPr>
            <a:xfrm>
              <a:off x="1485720" y="6312960"/>
              <a:ext cx="3221280" cy="6087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5"/>
            <p:cNvSpPr/>
            <p:nvPr/>
          </p:nvSpPr>
          <p:spPr>
            <a:xfrm>
              <a:off x="-1541520" y="6312960"/>
              <a:ext cx="3222000" cy="6073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6"/>
            <p:cNvSpPr/>
            <p:nvPr/>
          </p:nvSpPr>
          <p:spPr>
            <a:xfrm>
              <a:off x="5402880" y="6312960"/>
              <a:ext cx="3225600" cy="60876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7"/>
            <p:cNvSpPr/>
            <p:nvPr/>
          </p:nvSpPr>
          <p:spPr>
            <a:xfrm>
              <a:off x="2019960" y="6312960"/>
              <a:ext cx="3857760" cy="6073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8"/>
            <p:cNvSpPr/>
            <p:nvPr/>
          </p:nvSpPr>
          <p:spPr>
            <a:xfrm>
              <a:off x="-1541520" y="6231600"/>
              <a:ext cx="10683720" cy="68868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19"/>
            <p:cNvSpPr/>
            <p:nvPr/>
          </p:nvSpPr>
          <p:spPr>
            <a:xfrm>
              <a:off x="3249360" y="6252120"/>
              <a:ext cx="1921680" cy="66960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0"/>
            <p:cNvSpPr/>
            <p:nvPr/>
          </p:nvSpPr>
          <p:spPr>
            <a:xfrm flipH="1" rot="18900000">
              <a:off x="1351800" y="6137280"/>
              <a:ext cx="1690920" cy="889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1"/>
            <p:cNvSpPr/>
            <p:nvPr/>
          </p:nvSpPr>
          <p:spPr>
            <a:xfrm flipH="1" rot="18900000">
              <a:off x="16200" y="6137280"/>
              <a:ext cx="1690920" cy="889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2"/>
            <p:cNvSpPr/>
            <p:nvPr/>
          </p:nvSpPr>
          <p:spPr>
            <a:xfrm flipH="1" rot="18900000">
              <a:off x="-1348920" y="6085440"/>
              <a:ext cx="1649160" cy="9032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3"/>
            <p:cNvSpPr/>
            <p:nvPr/>
          </p:nvSpPr>
          <p:spPr>
            <a:xfrm flipH="1" flipV="1">
              <a:off x="-473040" y="6238800"/>
              <a:ext cx="6588000" cy="688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4"/>
            <p:cNvSpPr/>
            <p:nvPr/>
          </p:nvSpPr>
          <p:spPr>
            <a:xfrm flipH="1" flipV="1">
              <a:off x="-1096200" y="6238800"/>
              <a:ext cx="2849040" cy="688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5"/>
            <p:cNvSpPr/>
            <p:nvPr/>
          </p:nvSpPr>
          <p:spPr>
            <a:xfrm flipH="1" flipV="1">
              <a:off x="4088880" y="6315840"/>
              <a:ext cx="2470680" cy="6105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6"/>
            <p:cNvSpPr/>
            <p:nvPr/>
          </p:nvSpPr>
          <p:spPr>
            <a:xfrm flipH="1" flipV="1">
              <a:off x="5847840" y="6238800"/>
              <a:ext cx="2849040" cy="688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7"/>
            <p:cNvSpPr/>
            <p:nvPr/>
          </p:nvSpPr>
          <p:spPr>
            <a:xfrm flipH="1" flipV="1">
              <a:off x="4867920" y="6238800"/>
              <a:ext cx="4273560" cy="688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28"/>
            <p:cNvSpPr/>
            <p:nvPr/>
          </p:nvSpPr>
          <p:spPr>
            <a:xfrm>
              <a:off x="-1541520" y="6272640"/>
              <a:ext cx="10683720" cy="2232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440" y="631332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0720" y="631332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36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cs-CZ" sz="1400" spc="-1" strike="noStrike">
                <a:solidFill>
                  <a:srgbClr val="000066"/>
                </a:solidFill>
                <a:latin typeface="Arial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C0C8FDC-072A-4F7F-AF18-954C65E4D661}" type="slidenum">
              <a:rPr b="0" lang="cs-CZ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google.cz/url?sa=i&amp;rct=j&amp;q=&amp;esrc=s&amp;frm=1&amp;source=images&amp;cd=&amp;cad=rja&amp;docid=tWi-lSLzjXaleM&amp;tbnid=VyQ4TZ92f2iOdM:&amp;ved=0CAUQjRw&amp;url=http%3A%2F%2Fwww.answers.com%2Ftopic%2Fnucleation&amp;ei=fVGcUuqIJ8_GswaG4YCwDw&amp;bvm=bv.57155469,d.d2k&amp;psig=AFQjCNGdUd70Sgxlx8HqlxrVuRlXRi2UxQ&amp;ust=1386062563563500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hyperlink" Target="http://www.google.cz/url?sa=i&amp;rct=j&amp;q=&amp;esrc=s&amp;source=images&amp;cd=&amp;cad=rja&amp;uact=8&amp;ved=0ahUKEwi7veHm-ajJAhXKBywKHdXLDS0QjRwIBw&amp;url=http%3A%2F%2Fpubs.rsc.org%2Fen%2Fcontent%2Farticlehtml%2F2012%2Fcp%2Fc2cp40703e&amp;psig=AFQjCNHtooJJS4_i-ZM9Z7tmlC-z74QBDA&amp;ust=1448450457906358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google.cz/url?sa=i&amp;rct=j&amp;q=&amp;esrc=s&amp;source=images&amp;cd=&amp;cad=rja&amp;uact=8&amp;ved=0ahUKEwje7a6HjtLMAhWCHxoKHWb6CfcQjRwIBw&amp;url=http%3A%2F%2Fwww.intechopen.com%2Fbooks%2Fcurrent-research-in-nuclear-reactor-technology-in-brazil-and-worldwide%2Fisothermal-phase-transformation-of-u-zr-nb-alloys-for-advanced-nuclear-fuels&amp;bvm=bv.121658157,d.ZGg&amp;psig=AFQjCNF3pK0Z_9hpj2kkO2Ma3SzBS-kJXA&amp;ust=1463059103622655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www.google.cz/url?sa=i&amp;rct=j&amp;q=&amp;esrc=s&amp;source=images&amp;cd=&amp;cad=rja&amp;uact=8&amp;ved=0ahUKEwjS3_3VlNLMAhWhHpoKHU8JBZsQjRwIBw&amp;url=http%3A%2F%2Fwww.navaching.com%2Fforge%2Fcooling.html&amp;bvm=bv.121658157,d.ZGg&amp;psig=AFQjCNGyOIhlAtnR3U2BbLJZ830ZhX1rCQ&amp;ust=1463060733066420" TargetMode="External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tp://www.google.cz/url?sa=i&amp;rct=j&amp;q=&amp;esrc=s&amp;source=images&amp;cd=&amp;cad=rja&amp;uact=8&amp;ved=0ahUKEwj-49iNlNLMAhVsGZoKHYwRAQ8QjRwIBw&amp;url=http%3A%2F%2Fwww.tf.uni-kiel.de%2Fmatwis%2Famat%2Fiss%2Fkap_6%2Fillustr%2Fs6_1_2.html&amp;bvm=bv.121658157,d.ZGg&amp;psig=AFQjCNGyOIhlAtnR3U2BbLJZ830ZhX1rCQ&amp;ust=1463060733066420" TargetMode="External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oogle.cz/url?sa=i&amp;rct=j&amp;q=&amp;esrc=s&amp;source=images&amp;cd=&amp;cad=rja&amp;uact=8&amp;ved=0ahUKEwjUy4Stj9LMAhWFfxoKHfBND_kQjRwIBw&amp;url=http%3A%2F%2Fwww.tlakinfo.cz%2Ft.py%3Ft%3D2%26i%3D1841&amp;psig=AFQjCNFntnMFb-CR9pq4jDI61azwxPgSpg&amp;ust=1463059412558713" TargetMode="External"/><Relationship Id="rId2" Type="http://schemas.openxmlformats.org/officeDocument/2006/relationships/image" Target="../media/image24.jpeg"/><Relationship Id="rId3" Type="http://schemas.openxmlformats.org/officeDocument/2006/relationships/hyperlink" Target="http://www.google.cz/url?sa=i&amp;rct=j&amp;q=&amp;esrc=s&amp;source=images&amp;cd=&amp;cad=rja&amp;uact=8&amp;ved=0ahUKEwj0yY-y66jJAhWBrRQKHUQzDSsQjRwIBw&amp;url=http%3A%2F%2Fwww.expertsmind.com%2Flibrary%2Fwhat-is-the-martensitic-phase-transformation-5178010.aspx&amp;psig=AFQjCNGj9K9jSL2zJS2OXniEtXhGW7ndyw&amp;ust=1448446878956913" TargetMode="External"/><Relationship Id="rId4" Type="http://schemas.openxmlformats.org/officeDocument/2006/relationships/image" Target="../media/image25.pn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image" Target="../media/image35.pn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image" Target="../media/image45.png"/><Relationship Id="rId10" Type="http://schemas.openxmlformats.org/officeDocument/2006/relationships/image" Target="../media/image46.png"/><Relationship Id="rId11" Type="http://schemas.openxmlformats.org/officeDocument/2006/relationships/image" Target="../media/image47.jpeg"/><Relationship Id="rId1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image" Target="../media/image54.png"/><Relationship Id="rId7" Type="http://schemas.openxmlformats.org/officeDocument/2006/relationships/image" Target="../media/image55.pn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jpe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jpe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cz/url?sa=i&amp;rct=j&amp;q=&amp;esrc=s&amp;source=images&amp;cd=&amp;cad=rja&amp;uact=8&amp;ved=0CAcQjRxqFQoTCIi4t-LO8cgCFcV-GgodGVoFbA&amp;url=http%3A%2F%2Fwww.scielo.br%2Fscielo.php%3Fscript%3Dsci_arttext%26pid%3DS0104-66322001000400007&amp;psig=AFQjCNFZsvdw9M1K--4ssq5FvVC-J7XSqA&amp;ust=1446549265164095" TargetMode="Externa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ogle.cz/url?sa=i&amp;rct=j&amp;q=&amp;esrc=s&amp;source=images&amp;cd=&amp;cad=rja&amp;uact=8&amp;ved=0ahUKEwi_rsvk5qjJAhVEtxQKHY_aBWoQjRwIBw&amp;url=http%3A%2F%2Fwww.xray.bioc.cam.ac.uk%2Fxray_resources%2Fwhitepapers%2Fxtal-in-action%2Fnode3.html&amp;psig=AFQjCNGUacraQKrG5ZUq8_K24VwsAAOtlw&amp;ust=1448445380505150" TargetMode="External"/><Relationship Id="rId2" Type="http://schemas.openxmlformats.org/officeDocument/2006/relationships/image" Target="../media/image14.png"/><Relationship Id="rId3" Type="http://schemas.openxmlformats.org/officeDocument/2006/relationships/hyperlink" Target="http://www.google.cz/url?sa=i&amp;rct=j&amp;q=&amp;esrc=s&amp;source=images&amp;cd=&amp;cad=rja&amp;uact=8&amp;ved=0ahUKEwisprzv5ajJAhVEwBQKHfI1Ds8QjRwIBw&amp;url=http%3A%2F%2Fblog.autochem.mt.com%2F2011%2F03%2Fsupersaturation-driving-force-for-crystal-nucleation-growth%2F&amp;psig=AFQjCNGUacraQKrG5ZUq8_K24VwsAAOtlw&amp;ust=1448445380505150" TargetMode="External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hyperlink" Target="http://www.google.cz/url?sa=i&amp;rct=j&amp;q=&amp;esrc=s&amp;source=images&amp;cd=&amp;cad=rja&amp;uact=8&amp;ved=0ahUKEwjn37_36KjJAhVBHBQKHSOGA8sQjRwIBw&amp;url=http%3A%2F%2Fblog.autochem.mt.com%2F2011%2F03%2Fsupersaturation-driving-force-for-crystal-nucleation-growth%2F&amp;psig=AFQjCNEfbihTl28JqYZvTeoA3YDSJZ2ZCA&amp;ust=1448445219170500" TargetMode="External"/><Relationship Id="rId7" Type="http://schemas.openxmlformats.org/officeDocument/2006/relationships/image" Target="../media/image17.jpeg"/><Relationship Id="rId8" Type="http://schemas.openxmlformats.org/officeDocument/2006/relationships/hyperlink" Target="http://www.google.cz/url?sa=i&amp;rct=j&amp;q=&amp;esrc=s&amp;source=images&amp;cd=&amp;cad=rja&amp;uact=8&amp;ved=0ahUKEwi7veHm-ajJAhXKBywKHdXLDS0QjRwIBw&amp;url=http%3A%2F%2Fpubs.rsc.org%2Fen%2Fcontent%2Farticlehtml%2F2012%2Fcp%2Fc2cp40703e&amp;psig=AFQjCNHtooJJS4_i-ZM9Z7tmlC-z74QBDA&amp;ust=1448450457906358" TargetMode="External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google.cz/url?sa=i&amp;rct=j&amp;q=&amp;esrc=s&amp;source=images&amp;cd=&amp;cad=rja&amp;uact=8&amp;ved=0ahUKEwj355GM6KjJAhVGuhQKHcRdCMEQjRwIBQ&amp;url=http%3A%2F%2Facumen.lib.ua.edu%2Fcontent%2Fu0015%2F0000001%2F0000572%2Fu0015_0000001_0000572.pdf&amp;bvm=bv.108194040,d.bGg&amp;psig=AFQjCNFzmS_s9mtW7BojZ91ZQD4cOCR2Lw&amp;ust=1448446002475840" TargetMode="Externa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549360"/>
            <a:ext cx="316872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4800" spc="-1" strike="noStrike">
                <a:solidFill>
                  <a:srgbClr val="4d4d4d"/>
                </a:solidFill>
                <a:latin typeface="Arial"/>
              </a:rPr>
              <a:t>Vznik nové fáze</a:t>
            </a:r>
            <a:endParaRPr b="0" lang="en-US" sz="4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179280" y="2889360"/>
            <a:ext cx="5826240" cy="2916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https://encrypted-tbn0.gstatic.com/images?q=tbn:ANd9GcRpl8b0fYG19__S0vxiGLEroIAJTN7scugsMmubHWUcOLcBETLD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60960" y="3230640"/>
            <a:ext cx="3000600" cy="2232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Výsledek obrázku pro &quot;nucleation zone&quot; solubility temperature"/>
          <p:cNvPicPr/>
          <p:nvPr/>
        </p:nvPicPr>
        <p:blipFill>
          <a:blip r:embed="rId4"/>
          <a:stretch/>
        </p:blipFill>
        <p:spPr>
          <a:xfrm>
            <a:off x="7419960" y="136440"/>
            <a:ext cx="1724040" cy="2657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http://pubs.rsc.org/services/images/RSCpubs.ePlatform.Service.FreeContent.ImageService.svc/ImageService/Articleimage/2012/CP/c2cp40703e/c2cp40703e-f1.gif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48000" y="169920"/>
            <a:ext cx="3987720" cy="225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230508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"/>
              </a:rPr>
              <a:t>TTT křivky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56" name="Picture 2" descr="http://www.intechopen.com/source/html/42478/media/figure_1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56000" y="260280"/>
            <a:ext cx="5329080" cy="65660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http://www.navaching.com/forge/forge.gifs/fe3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76720" y="2782800"/>
            <a:ext cx="535284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59" name="Picture 2" descr="http://www.keytometals.com/images/Articles/kts/art14-p1.gif"/>
          <p:cNvPicPr/>
          <p:nvPr/>
        </p:nvPicPr>
        <p:blipFill>
          <a:blip r:embed="rId1"/>
          <a:stretch/>
        </p:blipFill>
        <p:spPr>
          <a:xfrm>
            <a:off x="179280" y="1200240"/>
            <a:ext cx="5305680" cy="5184720"/>
          </a:xfrm>
          <a:prstGeom prst="rect">
            <a:avLst/>
          </a:prstGeom>
          <a:ln w="0">
            <a:noFill/>
          </a:ln>
        </p:spPr>
      </p:pic>
      <p:sp>
        <p:nvSpPr>
          <p:cNvPr id="160" name="Obdélník 2"/>
          <p:cNvSpPr/>
          <p:nvPr/>
        </p:nvSpPr>
        <p:spPr>
          <a:xfrm>
            <a:off x="468360" y="184320"/>
            <a:ext cx="8567640" cy="1008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al TTT-curve for 0,65% carbon steel depicting time interval required for beginning, 50% and 100% transformation of austenite at a constant temperature A= Austenite F= Ferrite P = Pearlite B = Bainit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Picture 4" descr="http://www.tf.uni-kiel.de/matwis/amat/iss/kap_6/illustr/phase_diagram_large.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14800" y="1484280"/>
            <a:ext cx="41292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473544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4d4d4d"/>
                </a:solidFill>
                <a:latin typeface="Arial"/>
              </a:rPr>
              <a:t>Role reálné rychlosti ochlazení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63" name="Picture 2" descr="http://www.tlakinfo.cz/docu/clanky/0018/001841o8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8000" y="1700280"/>
            <a:ext cx="4973760" cy="4249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http://secure.expertsmind.com/CMSImages/789_Mechanical%20Behavior%20of%20Materials1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13400" y="235080"/>
            <a:ext cx="3659040" cy="3024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http://www.tlakinfo.cz/docu/clanky/0018/001841o9.jpg"/>
          <p:cNvPicPr/>
          <p:nvPr/>
        </p:nvPicPr>
        <p:blipFill>
          <a:blip r:embed="rId5"/>
          <a:stretch/>
        </p:blipFill>
        <p:spPr>
          <a:xfrm>
            <a:off x="4932360" y="3645000"/>
            <a:ext cx="421164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67" name="Picture 2" descr="http://images.slideplayer.cz/10/2763926/slides/slide_9.jpg"/>
          <p:cNvPicPr/>
          <p:nvPr/>
        </p:nvPicPr>
        <p:blipFill>
          <a:blip r:embed="rId1"/>
          <a:stretch/>
        </p:blipFill>
        <p:spPr>
          <a:xfrm>
            <a:off x="324000" y="620640"/>
            <a:ext cx="8016840" cy="60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18" descr=""/>
          <p:cNvPicPr/>
          <p:nvPr/>
        </p:nvPicPr>
        <p:blipFill>
          <a:blip r:embed="rId1"/>
          <a:stretch/>
        </p:blipFill>
        <p:spPr>
          <a:xfrm>
            <a:off x="5076720" y="4149720"/>
            <a:ext cx="3264120" cy="23623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1.  Spinodální rozpad –fázová přeměna bez nukleac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" name="Zástupný symbol pro číslo snímku 3"/>
          <p:cNvSpPr/>
          <p:nvPr/>
        </p:nvSpPr>
        <p:spPr>
          <a:xfrm>
            <a:off x="6580080" y="6313320"/>
            <a:ext cx="19036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B5C4FE0-1101-48FB-98E4-257F0B60516A}" type="slidenum">
              <a:rPr b="0" lang="cs-CZ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Picture 6" descr="http://www.intechopen.com/source/html/15877/media/image3.png"/>
          <p:cNvPicPr/>
          <p:nvPr/>
        </p:nvPicPr>
        <p:blipFill>
          <a:blip r:embed="rId2"/>
          <a:stretch/>
        </p:blipFill>
        <p:spPr>
          <a:xfrm>
            <a:off x="531720" y="1768320"/>
            <a:ext cx="4157640" cy="2092320"/>
          </a:xfrm>
          <a:prstGeom prst="rect">
            <a:avLst/>
          </a:prstGeom>
          <a:ln w="0">
            <a:noFill/>
          </a:ln>
        </p:spPr>
      </p:pic>
      <p:sp>
        <p:nvSpPr>
          <p:cNvPr id="172" name="TextovéPole 6"/>
          <p:cNvSpPr/>
          <p:nvPr/>
        </p:nvSpPr>
        <p:spPr>
          <a:xfrm>
            <a:off x="496800" y="1089000"/>
            <a:ext cx="2735280" cy="611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Spinodální rozp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MS Gothic"/>
              </a:rPr>
              <a:t>(fázová přeměn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Picture 8" descr="http://ars.els-cdn.com/content/image/1-s2.0-S1359645411005350-gr9.jpg"/>
          <p:cNvPicPr/>
          <p:nvPr/>
        </p:nvPicPr>
        <p:blipFill>
          <a:blip r:embed="rId3"/>
          <a:stretch/>
        </p:blipFill>
        <p:spPr>
          <a:xfrm>
            <a:off x="611280" y="4149720"/>
            <a:ext cx="3190680" cy="2081160"/>
          </a:xfrm>
          <a:prstGeom prst="rect">
            <a:avLst/>
          </a:prstGeom>
          <a:ln w="0">
            <a:noFill/>
          </a:ln>
        </p:spPr>
      </p:pic>
      <p:sp>
        <p:nvSpPr>
          <p:cNvPr id="174" name="TextovéPole 9"/>
          <p:cNvSpPr/>
          <p:nvPr/>
        </p:nvSpPr>
        <p:spPr>
          <a:xfrm>
            <a:off x="2340000" y="1844640"/>
            <a:ext cx="1079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"/>
                <a:ea typeface="MS Gothic"/>
              </a:rPr>
              <a:t>CR-Ni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ovéPole 1"/>
          <p:cNvSpPr/>
          <p:nvPr/>
        </p:nvSpPr>
        <p:spPr>
          <a:xfrm>
            <a:off x="1101600" y="1768320"/>
            <a:ext cx="15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Náhodná fluktua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Picture 16" descr=""/>
          <p:cNvPicPr/>
          <p:nvPr/>
        </p:nvPicPr>
        <p:blipFill>
          <a:blip r:embed="rId4"/>
          <a:stretch/>
        </p:blipFill>
        <p:spPr>
          <a:xfrm>
            <a:off x="6084720" y="1763640"/>
            <a:ext cx="2519640" cy="1978200"/>
          </a:xfrm>
          <a:prstGeom prst="rect">
            <a:avLst/>
          </a:prstGeom>
          <a:ln w="0">
            <a:noFill/>
          </a:ln>
        </p:spPr>
      </p:pic>
      <p:sp>
        <p:nvSpPr>
          <p:cNvPr id="177" name="TextovéPole 4"/>
          <p:cNvSpPr/>
          <p:nvPr/>
        </p:nvSpPr>
        <p:spPr>
          <a:xfrm>
            <a:off x="6429240" y="1236600"/>
            <a:ext cx="1500480" cy="261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"/>
                <a:ea typeface="MS Gothic"/>
              </a:rPr>
              <a:t>Motiv ve FD: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ovéPole 4"/>
          <p:cNvSpPr/>
          <p:nvPr/>
        </p:nvSpPr>
        <p:spPr>
          <a:xfrm>
            <a:off x="6594480" y="4156200"/>
            <a:ext cx="1498680" cy="428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"/>
                <a:ea typeface="MS Gothic"/>
              </a:rPr>
              <a:t>Koncentrační profil při spinodálním rozpadu: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ovéPole 1"/>
          <p:cNvSpPr/>
          <p:nvPr/>
        </p:nvSpPr>
        <p:spPr>
          <a:xfrm>
            <a:off x="5580000" y="5950080"/>
            <a:ext cx="2087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"/>
                <a:ea typeface="MS Gothic"/>
              </a:rPr>
              <a:t>Není nutné nukleační stádiu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0" name="Přímá spojnice se šipkou 2"/>
          <p:cNvCxnSpPr/>
          <p:nvPr/>
        </p:nvCxnSpPr>
        <p:spPr>
          <a:xfrm>
            <a:off x="2340000" y="2205000"/>
            <a:ext cx="4680720" cy="115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1" name="Přímá spojnice se šipkou 5"/>
          <p:cNvCxnSpPr/>
          <p:nvPr/>
        </p:nvCxnSpPr>
        <p:spPr>
          <a:xfrm>
            <a:off x="3059280" y="2637000"/>
            <a:ext cx="3535920" cy="7214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82" name="TextovéPole 6"/>
          <p:cNvSpPr/>
          <p:nvPr/>
        </p:nvSpPr>
        <p:spPr>
          <a:xfrm>
            <a:off x="4654080" y="2506680"/>
            <a:ext cx="141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Spontální obla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ovéPole 18"/>
          <p:cNvSpPr/>
          <p:nvPr/>
        </p:nvSpPr>
        <p:spPr>
          <a:xfrm>
            <a:off x="4588200" y="3203640"/>
            <a:ext cx="156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400" spc="-1" strike="noStrike">
                <a:solidFill>
                  <a:srgbClr val="ff0000"/>
                </a:solidFill>
                <a:latin typeface="Times New Roman"/>
                <a:ea typeface="MS Gothic"/>
              </a:rPr>
              <a:t>nespontální obla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5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3. Nukleace a růst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5" name="Zástupný symbol pro číslo snímku 3"/>
          <p:cNvSpPr/>
          <p:nvPr/>
        </p:nvSpPr>
        <p:spPr>
          <a:xfrm>
            <a:off x="6580080" y="6313320"/>
            <a:ext cx="19036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B805A3D-2DF8-40F3-B1A3-FDB2239A6C79}" type="slidenum">
              <a:rPr b="0" lang="cs-CZ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Picture 2" descr="http://ars.sciencedirect.com/content/image/1-s2.0-S0009250908002480-gr7.gif"/>
          <p:cNvPicPr/>
          <p:nvPr/>
        </p:nvPicPr>
        <p:blipFill>
          <a:blip r:embed="rId1"/>
          <a:stretch/>
        </p:blipFill>
        <p:spPr>
          <a:xfrm>
            <a:off x="3059280" y="3722760"/>
            <a:ext cx="2676240" cy="19843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http://ars.sciencedirect.com/content/image/1-s2.0-S0009250908002480-gr6.gif"/>
          <p:cNvPicPr/>
          <p:nvPr/>
        </p:nvPicPr>
        <p:blipFill>
          <a:blip r:embed="rId2"/>
          <a:stretch/>
        </p:blipFill>
        <p:spPr>
          <a:xfrm>
            <a:off x="316080" y="3722760"/>
            <a:ext cx="2668320" cy="19843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http://ars.els-cdn.com/content/image/1-s2.0-S0021979707003207-gr003.jpg"/>
          <p:cNvPicPr/>
          <p:nvPr/>
        </p:nvPicPr>
        <p:blipFill>
          <a:blip r:embed="rId3"/>
          <a:stretch/>
        </p:blipFill>
        <p:spPr>
          <a:xfrm>
            <a:off x="6270480" y="981000"/>
            <a:ext cx="2533680" cy="3783240"/>
          </a:xfrm>
          <a:prstGeom prst="rect">
            <a:avLst/>
          </a:prstGeom>
          <a:ln w="0">
            <a:noFill/>
          </a:ln>
        </p:spPr>
      </p:pic>
      <p:sp>
        <p:nvSpPr>
          <p:cNvPr id="189" name="TextovéPole 4"/>
          <p:cNvSpPr/>
          <p:nvPr/>
        </p:nvSpPr>
        <p:spPr>
          <a:xfrm>
            <a:off x="6270480" y="4941720"/>
            <a:ext cx="2694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Schematic illustration of nucleation and growth mechanisms 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Cu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based on LaMer's model: (a) mechanism for polydisperse particles and (b) mechanism for monodisperse particles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. http://www.sciencedirect.com/science/article/pii/S002197970700320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ovéPole 5"/>
          <p:cNvSpPr/>
          <p:nvPr/>
        </p:nvSpPr>
        <p:spPr>
          <a:xfrm>
            <a:off x="1433520" y="3860640"/>
            <a:ext cx="1409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Nukleační rychlost (je funkcí přesycení, které při nukleaci klesá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ovéPole 9"/>
          <p:cNvSpPr/>
          <p:nvPr/>
        </p:nvSpPr>
        <p:spPr>
          <a:xfrm>
            <a:off x="4397400" y="4032360"/>
            <a:ext cx="1317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Vhodný průběh nukleační rychlosti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Picture 8" descr="http://ars.els-cdn.com/content/image/1-s2.0-S1359645401001136-gr7.gif"/>
          <p:cNvPicPr/>
          <p:nvPr/>
        </p:nvPicPr>
        <p:blipFill>
          <a:blip r:embed="rId4"/>
          <a:stretch/>
        </p:blipFill>
        <p:spPr>
          <a:xfrm>
            <a:off x="316080" y="1341360"/>
            <a:ext cx="2682720" cy="2244960"/>
          </a:xfrm>
          <a:prstGeom prst="rect">
            <a:avLst/>
          </a:prstGeom>
          <a:ln w="0">
            <a:noFill/>
          </a:ln>
        </p:spPr>
      </p:pic>
      <p:sp>
        <p:nvSpPr>
          <p:cNvPr id="193" name="TextovéPole 6"/>
          <p:cNvSpPr/>
          <p:nvPr/>
        </p:nvSpPr>
        <p:spPr>
          <a:xfrm>
            <a:off x="684360" y="1341360"/>
            <a:ext cx="165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Např.:  Podchlazený rozrok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ovéPole 1"/>
          <p:cNvSpPr/>
          <p:nvPr/>
        </p:nvSpPr>
        <p:spPr>
          <a:xfrm>
            <a:off x="684360" y="981000"/>
            <a:ext cx="21589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Fázové přeměn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ovéPole 13"/>
          <p:cNvSpPr/>
          <p:nvPr/>
        </p:nvSpPr>
        <p:spPr>
          <a:xfrm>
            <a:off x="3490920" y="971640"/>
            <a:ext cx="21607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Chemické reak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ovéPole 9"/>
          <p:cNvSpPr/>
          <p:nvPr/>
        </p:nvSpPr>
        <p:spPr>
          <a:xfrm>
            <a:off x="2860560" y="5805360"/>
            <a:ext cx="131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Trige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7" name="Přímá spojnice se šipkou 5"/>
          <p:cNvCxnSpPr/>
          <p:nvPr/>
        </p:nvCxnSpPr>
        <p:spPr>
          <a:xfrm flipV="1">
            <a:off x="3708000" y="5157000"/>
            <a:ext cx="108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98" name="Picture 14" descr="http://www.transtutors.com/userfiles/image/ARUN/Fold/92c.JPG"/>
          <p:cNvPicPr/>
          <p:nvPr/>
        </p:nvPicPr>
        <p:blipFill>
          <a:blip r:embed="rId5"/>
          <a:stretch/>
        </p:blipFill>
        <p:spPr>
          <a:xfrm>
            <a:off x="3305160" y="1455840"/>
            <a:ext cx="2346480" cy="2165400"/>
          </a:xfrm>
          <a:prstGeom prst="rect">
            <a:avLst/>
          </a:prstGeom>
          <a:ln w="0">
            <a:noFill/>
          </a:ln>
        </p:spPr>
      </p:pic>
      <p:sp>
        <p:nvSpPr>
          <p:cNvPr id="199" name="TextovéPole 6"/>
          <p:cNvSpPr/>
          <p:nvPr/>
        </p:nvSpPr>
        <p:spPr>
          <a:xfrm>
            <a:off x="7812000" y="1598760"/>
            <a:ext cx="1152720" cy="261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"/>
                <a:ea typeface="MS Gothic"/>
              </a:rPr>
              <a:t>monodisperzita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ovéPole 21"/>
          <p:cNvSpPr/>
          <p:nvPr/>
        </p:nvSpPr>
        <p:spPr>
          <a:xfrm>
            <a:off x="7885080" y="3489480"/>
            <a:ext cx="1150920" cy="261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"/>
                <a:ea typeface="MS Gothic"/>
              </a:rPr>
              <a:t>polydisperzita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463320"/>
            <a:ext cx="777096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Homogenní a heterogenní nukleace z liquidu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2" name="Obdélník 2"/>
          <p:cNvSpPr/>
          <p:nvPr/>
        </p:nvSpPr>
        <p:spPr>
          <a:xfrm>
            <a:off x="179280" y="638172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http://www.matter.org.uk/matscicdrom/manual/nu.ht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324000" y="1353600"/>
            <a:ext cx="568800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driving force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for solidification,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1600" spc="-1" strike="noStrike" baseline="-30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exists below the equilibrium melting temperature,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1600" spc="-1" strike="noStrike" baseline="-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and that this is approximately proportional to the degree of undercooling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: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Picture 4" descr="http://www.matter.org.uk/matscicdrom/manual/images/image118.gif"/>
          <p:cNvPicPr/>
          <p:nvPr/>
        </p:nvPicPr>
        <p:blipFill>
          <a:blip r:embed="rId1"/>
          <a:stretch/>
        </p:blipFill>
        <p:spPr>
          <a:xfrm>
            <a:off x="6732720" y="1484280"/>
            <a:ext cx="1304640" cy="5763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http://www.matter.org.uk/matscicdrom/manual/images/image119.gif"/>
          <p:cNvPicPr/>
          <p:nvPr/>
        </p:nvPicPr>
        <p:blipFill>
          <a:blip r:embed="rId2"/>
          <a:stretch/>
        </p:blipFill>
        <p:spPr>
          <a:xfrm>
            <a:off x="4572000" y="2479680"/>
            <a:ext cx="1944720" cy="17161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" descr="http://www.matter.org.uk/matscicdrom/manual/images/image124.gif"/>
          <p:cNvPicPr/>
          <p:nvPr/>
        </p:nvPicPr>
        <p:blipFill>
          <a:blip r:embed="rId3"/>
          <a:stretch/>
        </p:blipFill>
        <p:spPr>
          <a:xfrm>
            <a:off x="387360" y="4465800"/>
            <a:ext cx="2628720" cy="228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http://www.matter.org.uk/matscicdrom/manual/images/image125.gif"/>
          <p:cNvPicPr/>
          <p:nvPr/>
        </p:nvPicPr>
        <p:blipFill>
          <a:blip r:embed="rId4"/>
          <a:stretch/>
        </p:blipFill>
        <p:spPr>
          <a:xfrm>
            <a:off x="3713040" y="4473720"/>
            <a:ext cx="3036960" cy="1858680"/>
          </a:xfrm>
          <a:prstGeom prst="rect">
            <a:avLst/>
          </a:prstGeom>
          <a:ln w="0">
            <a:noFill/>
          </a:ln>
        </p:spPr>
      </p:pic>
      <p:sp>
        <p:nvSpPr>
          <p:cNvPr id="208" name="TextovéPole 5"/>
          <p:cNvSpPr/>
          <p:nvPr/>
        </p:nvSpPr>
        <p:spPr>
          <a:xfrm>
            <a:off x="288720" y="2349360"/>
            <a:ext cx="28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omogenní nukleac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TextovéPole 9"/>
          <p:cNvSpPr/>
          <p:nvPr/>
        </p:nvSpPr>
        <p:spPr>
          <a:xfrm>
            <a:off x="205200" y="3965400"/>
            <a:ext cx="29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eterogenní nukleac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0" name="Picture 8" descr="http://www.matter.org.uk/matscicdrom/manual/images/image120.gif"/>
          <p:cNvPicPr/>
          <p:nvPr/>
        </p:nvPicPr>
        <p:blipFill>
          <a:blip r:embed="rId5"/>
          <a:stretch/>
        </p:blipFill>
        <p:spPr>
          <a:xfrm>
            <a:off x="387360" y="2825640"/>
            <a:ext cx="1752480" cy="3812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0" descr="http://www.matter.org.uk/matscicdrom/manual/images/image122.gif"/>
          <p:cNvPicPr/>
          <p:nvPr/>
        </p:nvPicPr>
        <p:blipFill>
          <a:blip r:embed="rId6"/>
          <a:stretch/>
        </p:blipFill>
        <p:spPr>
          <a:xfrm>
            <a:off x="320760" y="3370320"/>
            <a:ext cx="1447560" cy="4190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2" descr="http://www.matter.org.uk/matscicdrom/manual/images/image123.gif"/>
          <p:cNvPicPr/>
          <p:nvPr/>
        </p:nvPicPr>
        <p:blipFill>
          <a:blip r:embed="rId7"/>
          <a:stretch/>
        </p:blipFill>
        <p:spPr>
          <a:xfrm>
            <a:off x="2208240" y="3360600"/>
            <a:ext cx="1714320" cy="4381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4" descr="http://www.matter.org.uk/matscicdrom/manual/images/image126.gif"/>
          <p:cNvPicPr/>
          <p:nvPr/>
        </p:nvPicPr>
        <p:blipFill>
          <a:blip r:embed="rId8"/>
          <a:stretch/>
        </p:blipFill>
        <p:spPr>
          <a:xfrm>
            <a:off x="324000" y="4782960"/>
            <a:ext cx="1143000" cy="4194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6" descr="http://www.matter.org.uk/matscicdrom/manual/images/image127.gif"/>
          <p:cNvPicPr/>
          <p:nvPr/>
        </p:nvPicPr>
        <p:blipFill>
          <a:blip r:embed="rId9"/>
          <a:stretch/>
        </p:blipFill>
        <p:spPr>
          <a:xfrm>
            <a:off x="372960" y="5875200"/>
            <a:ext cx="2105280" cy="4572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8" descr="http://www.matter.org.uk/matscicdrom/manual/images/image128.gif"/>
          <p:cNvPicPr/>
          <p:nvPr/>
        </p:nvPicPr>
        <p:blipFill>
          <a:blip r:embed="rId10"/>
          <a:stretch/>
        </p:blipFill>
        <p:spPr>
          <a:xfrm>
            <a:off x="406440" y="5408640"/>
            <a:ext cx="1762200" cy="399960"/>
          </a:xfrm>
          <a:prstGeom prst="rect">
            <a:avLst/>
          </a:prstGeom>
          <a:ln w="0">
            <a:noFill/>
          </a:ln>
        </p:spPr>
      </p:pic>
      <p:sp>
        <p:nvSpPr>
          <p:cNvPr id="216" name="TextovéPole 6"/>
          <p:cNvSpPr/>
          <p:nvPr/>
        </p:nvSpPr>
        <p:spPr>
          <a:xfrm>
            <a:off x="1768320" y="47750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..úhel smáčení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7" name="Picture 20" descr="http://nptel.iitm.ac.in/courses/103104045/lecture20/images/01.jpg"/>
          <p:cNvPicPr/>
          <p:nvPr/>
        </p:nvPicPr>
        <p:blipFill>
          <a:blip r:embed="rId11"/>
          <a:stretch/>
        </p:blipFill>
        <p:spPr>
          <a:xfrm>
            <a:off x="6904080" y="4579920"/>
            <a:ext cx="216216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"/>
              </a:rPr>
              <a:t>Snížené energetické bariéry 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19" name="Picture 2" descr="http://www.matter.org.uk/matscicdrom/manual/images/image129.gif"/>
          <p:cNvPicPr/>
          <p:nvPr/>
        </p:nvPicPr>
        <p:blipFill>
          <a:blip r:embed="rId1"/>
          <a:stretch/>
        </p:blipFill>
        <p:spPr>
          <a:xfrm>
            <a:off x="1930320" y="1916280"/>
            <a:ext cx="462276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463320"/>
            <a:ext cx="777096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Homogenní a heterogenní nukleace v tuhém stavu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21" name="Picture 2" descr="http://www.matter.org.uk/matscicdrom/manual/images/image131.gif"/>
          <p:cNvPicPr/>
          <p:nvPr/>
        </p:nvPicPr>
        <p:blipFill>
          <a:blip r:embed="rId1"/>
          <a:stretch/>
        </p:blipFill>
        <p:spPr>
          <a:xfrm>
            <a:off x="525600" y="1114560"/>
            <a:ext cx="1152360" cy="4572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http://www.matter.org.uk/matscicdrom/manual/images/image130.gif"/>
          <p:cNvPicPr/>
          <p:nvPr/>
        </p:nvPicPr>
        <p:blipFill>
          <a:blip r:embed="rId2"/>
          <a:stretch/>
        </p:blipFill>
        <p:spPr>
          <a:xfrm>
            <a:off x="5580000" y="1187280"/>
            <a:ext cx="2840040" cy="27608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http://www.matter.org.uk/matscicdrom/manual/images/image132.gif"/>
          <p:cNvPicPr/>
          <p:nvPr/>
        </p:nvPicPr>
        <p:blipFill>
          <a:blip r:embed="rId3"/>
          <a:stretch/>
        </p:blipFill>
        <p:spPr>
          <a:xfrm>
            <a:off x="2470320" y="1187280"/>
            <a:ext cx="1390320" cy="4669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\begin{figure}\resizebox{6in}{!}&#10;{\epsfig{file=figures/Nucleation/grain_bndy_ppct.eps}}&#10;\end{figure}"/>
          <p:cNvPicPr/>
          <p:nvPr/>
        </p:nvPicPr>
        <p:blipFill>
          <a:blip r:embed="rId4"/>
          <a:stretch/>
        </p:blipFill>
        <p:spPr>
          <a:xfrm>
            <a:off x="5027760" y="4437000"/>
            <a:ext cx="4078080" cy="1584360"/>
          </a:xfrm>
          <a:prstGeom prst="rect">
            <a:avLst/>
          </a:prstGeom>
          <a:ln w="0">
            <a:noFill/>
          </a:ln>
        </p:spPr>
      </p:pic>
      <p:sp>
        <p:nvSpPr>
          <p:cNvPr id="225" name="Obdélník 2"/>
          <p:cNvSpPr/>
          <p:nvPr/>
        </p:nvSpPr>
        <p:spPr>
          <a:xfrm>
            <a:off x="341280" y="616572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http://pruffle.mit.edu/~ccarter/3.21/Lecture_25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" name="Picture 8" descr="\begin{figure}\resizebox{6in}{!}&#10;{\epsfig{file=figures/Nucleation/beta_phase_part.eps}}&#10;\end{figure}"/>
          <p:cNvPicPr/>
          <p:nvPr/>
        </p:nvPicPr>
        <p:blipFill>
          <a:blip r:embed="rId5"/>
          <a:stretch/>
        </p:blipFill>
        <p:spPr>
          <a:xfrm>
            <a:off x="176040" y="1784520"/>
            <a:ext cx="4837320" cy="255744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9"/>
          <p:cNvSpPr/>
          <p:nvPr/>
        </p:nvSpPr>
        <p:spPr>
          <a:xfrm>
            <a:off x="122400" y="4544640"/>
            <a:ext cx="4736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terfacial structure for (a) coherent and (b) semicoherent interfaces between matrix phase   </a:t>
            </a:r>
            <a:r>
              <a:rPr b="0" lang="en-GB" sz="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nd particle phase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Smaller dislocation symbols represent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coherency dislocation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and larger ones in (b) represent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anticoherency dislocation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Picture 10" descr="$ \alpha $"/>
          <p:cNvPicPr/>
          <p:nvPr/>
        </p:nvPicPr>
        <p:blipFill>
          <a:blip r:embed="rId6"/>
          <a:stretch/>
        </p:blipFill>
        <p:spPr>
          <a:xfrm>
            <a:off x="11241000" y="-365040"/>
            <a:ext cx="162000" cy="1522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1" descr="$ \beta $"/>
          <p:cNvPicPr/>
          <p:nvPr/>
        </p:nvPicPr>
        <p:blipFill>
          <a:blip r:embed="rId7"/>
          <a:stretch/>
        </p:blipFill>
        <p:spPr>
          <a:xfrm>
            <a:off x="13695480" y="-365040"/>
            <a:ext cx="161640" cy="32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"/>
              </a:rPr>
              <a:t>Reálné podmínky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31" name="Picture 7" descr="http://www.wias-berlin.de/research/ats/Praezipitate/Bilder/image005.gif"/>
          <p:cNvPicPr/>
          <p:nvPr/>
        </p:nvPicPr>
        <p:blipFill>
          <a:blip r:embed="rId1"/>
          <a:stretch/>
        </p:blipFill>
        <p:spPr>
          <a:xfrm>
            <a:off x="108000" y="2133720"/>
            <a:ext cx="902664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"/>
              </a:rPr>
              <a:t>Fázové diagramy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3" name="Picture 2" descr="http://chemwiki.ucdavis.edu/@api/deki/files/41492/=H2O-NACL.png?revision=1"/>
          <p:cNvPicPr/>
          <p:nvPr/>
        </p:nvPicPr>
        <p:blipFill>
          <a:blip r:embed="rId1"/>
          <a:stretch/>
        </p:blipFill>
        <p:spPr>
          <a:xfrm>
            <a:off x="138240" y="1197000"/>
            <a:ext cx="4044960" cy="3919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http://sp.lyellcollection.org/content/333/1/35/F1.large.jpg"/>
          <p:cNvPicPr/>
          <p:nvPr/>
        </p:nvPicPr>
        <p:blipFill>
          <a:blip r:embed="rId2"/>
          <a:stretch/>
        </p:blipFill>
        <p:spPr>
          <a:xfrm>
            <a:off x="4187880" y="3068640"/>
            <a:ext cx="4832280" cy="33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"/>
              </a:rPr>
              <a:t>Způsoby překonání nukleační bariéry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33" name="Picture 3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6475320" cy="39607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3" descr="\begin{figure}\resizebox{6in}{!}&#10;{\epsfig{file=figures/Nucleation/hetero_nuc_regimes.eps}}&#10;\end{figure}"/>
          <p:cNvPicPr/>
          <p:nvPr/>
        </p:nvPicPr>
        <p:blipFill>
          <a:blip r:embed="rId2"/>
          <a:stretch/>
        </p:blipFill>
        <p:spPr>
          <a:xfrm>
            <a:off x="5307120" y="4724280"/>
            <a:ext cx="382428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Metody usnadňující dosažení rovnovážného stavu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36" name="Picture 3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553600" cy="17827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http://www.photon-hammer.com/images/gallery/section_04/06.jpg"/>
          <p:cNvPicPr/>
          <p:nvPr/>
        </p:nvPicPr>
        <p:blipFill>
          <a:blip r:embed="rId2"/>
          <a:stretch/>
        </p:blipFill>
        <p:spPr>
          <a:xfrm>
            <a:off x="971640" y="3573360"/>
            <a:ext cx="2781360" cy="2779920"/>
          </a:xfrm>
          <a:prstGeom prst="rect">
            <a:avLst/>
          </a:prstGeom>
          <a:ln w="0">
            <a:noFill/>
          </a:ln>
        </p:spPr>
      </p:pic>
      <p:sp>
        <p:nvSpPr>
          <p:cNvPr id="238" name="Obdélník 2"/>
          <p:cNvSpPr/>
          <p:nvPr/>
        </p:nvSpPr>
        <p:spPr>
          <a:xfrm>
            <a:off x="324000" y="651204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http://www.photon-hammer.com/gallery.ph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Picture 7" descr="http://www.specialchem4polymers.com/documents/indexables/contents/441/images/nucleation3.gif"/>
          <p:cNvPicPr/>
          <p:nvPr/>
        </p:nvPicPr>
        <p:blipFill>
          <a:blip r:embed="rId3"/>
          <a:stretch/>
        </p:blipFill>
        <p:spPr>
          <a:xfrm>
            <a:off x="4284720" y="3573360"/>
            <a:ext cx="4579920" cy="2779920"/>
          </a:xfrm>
          <a:prstGeom prst="rect">
            <a:avLst/>
          </a:prstGeom>
          <a:ln w="0">
            <a:noFill/>
          </a:ln>
        </p:spPr>
      </p:pic>
      <p:sp>
        <p:nvSpPr>
          <p:cNvPr id="240" name="Obdélník 3"/>
          <p:cNvSpPr/>
          <p:nvPr/>
        </p:nvSpPr>
        <p:spPr>
          <a:xfrm>
            <a:off x="4672080" y="645012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http://www.specialchem4polymers.com/tc/polyolefin-nucleators/?id=princip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TextovéPole 1"/>
          <p:cNvSpPr/>
          <p:nvPr/>
        </p:nvSpPr>
        <p:spPr>
          <a:xfrm>
            <a:off x="5796000" y="26859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Očkování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463320"/>
            <a:ext cx="777096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000" spc="-1" strike="noStrike">
                <a:solidFill>
                  <a:srgbClr val="4d4d4d"/>
                </a:solidFill>
                <a:latin typeface="Arial"/>
              </a:rPr>
              <a:t>Faktory ovlivňující růst nové fáze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8101080" cy="21751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4" descr="http://www.crystals.leeds.ac.uk/uploads/pics/Nucleation7_520.jpg"/>
          <p:cNvPicPr/>
          <p:nvPr/>
        </p:nvPicPr>
        <p:blipFill>
          <a:blip r:embed="rId2"/>
          <a:stretch/>
        </p:blipFill>
        <p:spPr>
          <a:xfrm>
            <a:off x="179280" y="3716280"/>
            <a:ext cx="4953240" cy="18288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6" descr="http://archive.sciencewatch.com/sciencewatch/dr/fmf/images-fmf/2009/09novfmfKlueF2XL.gif"/>
          <p:cNvPicPr/>
          <p:nvPr/>
        </p:nvPicPr>
        <p:blipFill>
          <a:blip r:embed="rId3"/>
          <a:stretch/>
        </p:blipFill>
        <p:spPr>
          <a:xfrm>
            <a:off x="5724360" y="3716280"/>
            <a:ext cx="304812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79812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47" name="Picture 7" descr="https://encrypted-tbn2.gstatic.com/images?q=tbn:ANd9GcRYFymVFHFrL-aOMyFaSkfH0BbvQYK43J5dAFnR8UoRfKYjJSKJ"/>
          <p:cNvPicPr/>
          <p:nvPr/>
        </p:nvPicPr>
        <p:blipFill>
          <a:blip r:embed="rId1"/>
          <a:stretch/>
        </p:blipFill>
        <p:spPr>
          <a:xfrm>
            <a:off x="468360" y="1892160"/>
            <a:ext cx="3313080" cy="42274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6" descr="http://www.tms.org/pubs/journals/JOM/0007/fig1.gif"/>
          <p:cNvPicPr/>
          <p:nvPr/>
        </p:nvPicPr>
        <p:blipFill>
          <a:blip r:embed="rId2"/>
          <a:stretch/>
        </p:blipFill>
        <p:spPr>
          <a:xfrm>
            <a:off x="4067280" y="2133720"/>
            <a:ext cx="4952880" cy="3887640"/>
          </a:xfrm>
          <a:prstGeom prst="rect">
            <a:avLst/>
          </a:prstGeom>
          <a:ln w="0">
            <a:noFill/>
          </a:ln>
        </p:spPr>
      </p:pic>
      <p:sp>
        <p:nvSpPr>
          <p:cNvPr id="249" name="TextovéPole 1"/>
          <p:cNvSpPr/>
          <p:nvPr/>
        </p:nvSpPr>
        <p:spPr>
          <a:xfrm>
            <a:off x="4797000" y="170028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ovová sk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TextovéPole 2"/>
          <p:cNvSpPr/>
          <p:nvPr/>
        </p:nvSpPr>
        <p:spPr>
          <a:xfrm>
            <a:off x="611280" y="148428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agnetická levit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4d4d4d"/>
                </a:solidFill>
                <a:latin typeface="Arial"/>
              </a:rPr>
              <a:t>Metody vytvoření přesycení roztoku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" name="Zástupný symbol pro zápatí 2"/>
          <p:cNvSpPr/>
          <p:nvPr/>
        </p:nvSpPr>
        <p:spPr>
          <a:xfrm>
            <a:off x="3151080" y="6313320"/>
            <a:ext cx="2894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Nanočástice PS 201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Zástupný symbol pro číslo snímku 3"/>
          <p:cNvSpPr/>
          <p:nvPr/>
        </p:nvSpPr>
        <p:spPr>
          <a:xfrm>
            <a:off x="6580080" y="6313320"/>
            <a:ext cx="19036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DDC4180-BD80-4B43-BE64-6BDCA0B8CD7B}" type="slidenum">
              <a:rPr b="0" lang="cs-CZ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Picture 2" descr="http://www.scielo.br/img/fbpe/bjce/v18n4/a07fig02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1680" y="1768320"/>
            <a:ext cx="6176880" cy="4896000"/>
          </a:xfrm>
          <a:prstGeom prst="rect">
            <a:avLst/>
          </a:prstGeom>
          <a:ln w="0">
            <a:noFill/>
          </a:ln>
        </p:spPr>
      </p:pic>
      <p:sp>
        <p:nvSpPr>
          <p:cNvPr id="89" name="TextovéPole 4"/>
          <p:cNvSpPr/>
          <p:nvPr/>
        </p:nvSpPr>
        <p:spPr>
          <a:xfrm>
            <a:off x="6718320" y="2708280"/>
            <a:ext cx="2135160" cy="1191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Stupeň přesycení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S=c/c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Picture 4" descr="http://www.scielo.br/img/fbpe/bjce/v18n4/a07frm03.gif"/>
          <p:cNvPicPr/>
          <p:nvPr/>
        </p:nvPicPr>
        <p:blipFill>
          <a:blip r:embed="rId3"/>
          <a:stretch/>
        </p:blipFill>
        <p:spPr>
          <a:xfrm>
            <a:off x="3506760" y="1338120"/>
            <a:ext cx="5045040" cy="392400"/>
          </a:xfrm>
          <a:prstGeom prst="rect">
            <a:avLst/>
          </a:prstGeom>
          <a:ln w="0">
            <a:noFill/>
          </a:ln>
        </p:spPr>
      </p:pic>
      <p:sp>
        <p:nvSpPr>
          <p:cNvPr id="91" name="TextovéPole 5"/>
          <p:cNvSpPr/>
          <p:nvPr/>
        </p:nvSpPr>
        <p:spPr>
          <a:xfrm>
            <a:off x="6900840" y="1165320"/>
            <a:ext cx="2163960" cy="1191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c*….fázová hranice (rozpustnost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ovéPole 8"/>
          <p:cNvSpPr/>
          <p:nvPr/>
        </p:nvSpPr>
        <p:spPr>
          <a:xfrm>
            <a:off x="6718320" y="4292640"/>
            <a:ext cx="2303280" cy="1557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Relativní přesycení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=S-1 =c/c*-1 =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c/c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Obdélník 1"/>
          <p:cNvSpPr/>
          <p:nvPr/>
        </p:nvSpPr>
        <p:spPr>
          <a:xfrm>
            <a:off x="6653160" y="596592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Rel. přesycení lze určovat  i v %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Obdélník 4"/>
          <p:cNvSpPr/>
          <p:nvPr/>
        </p:nvSpPr>
        <p:spPr>
          <a:xfrm>
            <a:off x="179280" y="903240"/>
            <a:ext cx="647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http://www.scielo.br/scielo.php?script=sci_arttext&amp;pid=S0104-6632200100040000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ovéPole 5"/>
          <p:cNvSpPr/>
          <p:nvPr/>
        </p:nvSpPr>
        <p:spPr>
          <a:xfrm>
            <a:off x="1620720" y="3579840"/>
            <a:ext cx="136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(Odvod tepl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ovéPole 12"/>
          <p:cNvSpPr/>
          <p:nvPr/>
        </p:nvSpPr>
        <p:spPr>
          <a:xfrm>
            <a:off x="4683240" y="435456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(vysolování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633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"/>
              </a:rPr>
              <a:t>Hnací síly transformace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" name="Zástupný symbol pro číslo snímku 3"/>
          <p:cNvSpPr/>
          <p:nvPr/>
        </p:nvSpPr>
        <p:spPr>
          <a:xfrm>
            <a:off x="6580080" y="6313320"/>
            <a:ext cx="19036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A25F839-7CF8-4624-A2A7-1A3330E5EB5C}" type="slidenum">
              <a:rPr b="0" lang="cs-CZ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Zástupný symbol pro zápatí 2"/>
          <p:cNvSpPr/>
          <p:nvPr/>
        </p:nvSpPr>
        <p:spPr>
          <a:xfrm>
            <a:off x="6300720" y="5008680"/>
            <a:ext cx="13399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  <a:ea typeface="MS Gothic"/>
              </a:rPr>
              <a:t>http://www.sciencedirect.com/science/article/pii/S0925838808002934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ovéPole 8"/>
          <p:cNvSpPr/>
          <p:nvPr/>
        </p:nvSpPr>
        <p:spPr>
          <a:xfrm>
            <a:off x="484200" y="1541520"/>
            <a:ext cx="2735280" cy="64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Přesycení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(fázová přeměn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2" descr="http://ars.els-cdn.com/content/image/1-s2.0-S0001868605001053-gr2.jpg"/>
          <p:cNvPicPr/>
          <p:nvPr/>
        </p:nvPicPr>
        <p:blipFill>
          <a:blip r:embed="rId1"/>
          <a:stretch/>
        </p:blipFill>
        <p:spPr>
          <a:xfrm>
            <a:off x="539640" y="3666960"/>
            <a:ext cx="3508560" cy="2710080"/>
          </a:xfrm>
          <a:prstGeom prst="rect">
            <a:avLst/>
          </a:prstGeom>
          <a:ln w="0">
            <a:noFill/>
          </a:ln>
        </p:spPr>
      </p:pic>
      <p:sp>
        <p:nvSpPr>
          <p:cNvPr id="102" name="TextovéPole 10"/>
          <p:cNvSpPr/>
          <p:nvPr/>
        </p:nvSpPr>
        <p:spPr>
          <a:xfrm>
            <a:off x="4703760" y="1441440"/>
            <a:ext cx="2736720" cy="64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Reakční energie (chemická reakc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ovéPole 12"/>
          <p:cNvSpPr/>
          <p:nvPr/>
        </p:nvSpPr>
        <p:spPr>
          <a:xfrm>
            <a:off x="662040" y="2386080"/>
            <a:ext cx="2736720" cy="70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MS Gothic"/>
              </a:rPr>
              <a:t>Kondenzace na chladném substrát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4" descr="http://ars.els-cdn.com/content/image/1-s2.0-S0925838808002934-gr7.jpg"/>
          <p:cNvPicPr/>
          <p:nvPr/>
        </p:nvPicPr>
        <p:blipFill>
          <a:blip r:embed="rId2"/>
          <a:stretch/>
        </p:blipFill>
        <p:spPr>
          <a:xfrm>
            <a:off x="4616280" y="3490920"/>
            <a:ext cx="3724560" cy="3035160"/>
          </a:xfrm>
          <a:prstGeom prst="rect">
            <a:avLst/>
          </a:prstGeom>
          <a:ln w="0">
            <a:noFill/>
          </a:ln>
        </p:spPr>
      </p:pic>
      <p:sp>
        <p:nvSpPr>
          <p:cNvPr id="105" name="TextovéPole 4"/>
          <p:cNvSpPr/>
          <p:nvPr/>
        </p:nvSpPr>
        <p:spPr>
          <a:xfrm>
            <a:off x="5197320" y="2386080"/>
            <a:ext cx="2449800" cy="580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MS Gothic"/>
              </a:rPr>
              <a:t>Změna reakční Gibbsovy energi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ovéPole 1"/>
          <p:cNvSpPr/>
          <p:nvPr/>
        </p:nvSpPr>
        <p:spPr>
          <a:xfrm>
            <a:off x="6265440" y="3903840"/>
            <a:ext cx="153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  <a:ea typeface="MS Gothic"/>
              </a:rPr>
              <a:t>Není hnací síl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ovéPole 13"/>
          <p:cNvSpPr/>
          <p:nvPr/>
        </p:nvSpPr>
        <p:spPr>
          <a:xfrm>
            <a:off x="6499080" y="569268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  <a:ea typeface="MS Gothic"/>
              </a:rPr>
              <a:t>je hnací síl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87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000" spc="-1" strike="noStrike">
                <a:solidFill>
                  <a:srgbClr val="4d4d4d"/>
                </a:solidFill>
                <a:latin typeface="Arial"/>
              </a:rPr>
              <a:t>Termodynamika vzniku nové fáze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36360" y="1484280"/>
            <a:ext cx="8898120" cy="4176720"/>
          </a:xfrm>
          <a:prstGeom prst="rect">
            <a:avLst/>
          </a:prstGeom>
          <a:ln w="0">
            <a:noFill/>
          </a:ln>
        </p:spPr>
      </p:pic>
      <p:sp>
        <p:nvSpPr>
          <p:cNvPr id="110" name="TextovéPole 1"/>
          <p:cNvSpPr/>
          <p:nvPr/>
        </p:nvSpPr>
        <p:spPr>
          <a:xfrm>
            <a:off x="5867280" y="170028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nížení 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1" name="Přímá spojnice se šipkou 3"/>
          <p:cNvCxnSpPr/>
          <p:nvPr/>
        </p:nvCxnSpPr>
        <p:spPr>
          <a:xfrm flipH="1">
            <a:off x="5650920" y="2161800"/>
            <a:ext cx="216360" cy="475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0040" y="247680"/>
            <a:ext cx="7770960" cy="87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"/>
              </a:rPr>
              <a:t>Povrchová energie kulovitého precipitátu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79280" y="1009800"/>
            <a:ext cx="6981840" cy="5616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http://homepage.univie.ac.at/wolfgang.lechner/images/cnt.png"/>
          <p:cNvPicPr/>
          <p:nvPr/>
        </p:nvPicPr>
        <p:blipFill>
          <a:blip r:embed="rId2"/>
          <a:stretch/>
        </p:blipFill>
        <p:spPr>
          <a:xfrm>
            <a:off x="6948360" y="3332160"/>
            <a:ext cx="201636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9240" y="115920"/>
            <a:ext cx="7770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"/>
              </a:rPr>
              <a:t>Nukleační zóna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" name="Obdélník 3"/>
          <p:cNvSpPr/>
          <p:nvPr/>
        </p:nvSpPr>
        <p:spPr>
          <a:xfrm>
            <a:off x="2679840" y="6423120"/>
            <a:ext cx="28796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"/>
              </a:rPr>
              <a:t>http://www.scielo.br/scielo.php?script=sci_arttext&amp;pid=S0104-66322001000400007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Picture 6" descr="http://www.xray.bioc.cam.ac.uk/xray_resources/whitepapers/xtal-in-action/img8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35280" y="1103400"/>
            <a:ext cx="5195880" cy="2612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http://blog.autochem.mt.com/wp-content/uploads/2011/03/des3-300x260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867280" y="4219560"/>
            <a:ext cx="2759040" cy="23907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http://www.scielo.br/img/fbpe/bjce/v18n4/a07fig01.gif"/>
          <p:cNvPicPr/>
          <p:nvPr/>
        </p:nvPicPr>
        <p:blipFill>
          <a:blip r:embed="rId5"/>
          <a:stretch/>
        </p:blipFill>
        <p:spPr>
          <a:xfrm>
            <a:off x="179280" y="1103400"/>
            <a:ext cx="3168720" cy="2760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http://blog.autochem.mt.com/wp-content/uploads/2011/03/des2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646440" y="3370320"/>
            <a:ext cx="1238400" cy="10256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21" name="TextovéPole 4"/>
          <p:cNvSpPr/>
          <p:nvPr/>
        </p:nvSpPr>
        <p:spPr>
          <a:xfrm>
            <a:off x="3635280" y="4359240"/>
            <a:ext cx="1944720" cy="23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 = Growth Ra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growth consta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 = growth ord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 = Nucleation Ra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nucleation consta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 = nucleation ord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ΔC = supersatur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Přímá spojnice se šipkou 6"/>
          <p:cNvCxnSpPr/>
          <p:nvPr/>
        </p:nvCxnSpPr>
        <p:spPr>
          <a:xfrm flipH="1">
            <a:off x="1331640" y="2482560"/>
            <a:ext cx="1512000" cy="1080"/>
          </a:xfrm>
          <a:prstGeom prst="straightConnector1">
            <a:avLst/>
          </a:prstGeom>
          <a:ln w="9360">
            <a:solidFill>
              <a:srgbClr val="262699"/>
            </a:solidFill>
            <a:miter/>
            <a:tailEnd len="med" type="arrow" w="med"/>
          </a:ln>
        </p:spPr>
      </p:cxnSp>
      <p:cxnSp>
        <p:nvCxnSpPr>
          <p:cNvPr id="123" name="Přímá spojnice se šipkou 8"/>
          <p:cNvCxnSpPr/>
          <p:nvPr/>
        </p:nvCxnSpPr>
        <p:spPr>
          <a:xfrm>
            <a:off x="1331640" y="2482560"/>
            <a:ext cx="1080" cy="299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TextovéPole 9"/>
          <p:cNvSpPr/>
          <p:nvPr/>
        </p:nvSpPr>
        <p:spPr>
          <a:xfrm>
            <a:off x="5219640" y="3422520"/>
            <a:ext cx="15130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ložka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ovéPole 15"/>
          <p:cNvSpPr/>
          <p:nvPr/>
        </p:nvSpPr>
        <p:spPr>
          <a:xfrm rot="16200000">
            <a:off x="3809520" y="2082960"/>
            <a:ext cx="15112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ložka 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ovéPole 10"/>
          <p:cNvSpPr/>
          <p:nvPr/>
        </p:nvSpPr>
        <p:spPr>
          <a:xfrm>
            <a:off x="7740720" y="1112760"/>
            <a:ext cx="1379520" cy="1313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zice hranic se mění s teploto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15" descr="http://pubs.rsc.org/services/images/RSCpubs.ePlatform.Service.FreeContent.ImageService.svc/ImageService/Articleimage/2012/CP/c2cp40703e/c2cp40703e-f1.gif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2840" y="4219560"/>
            <a:ext cx="3238560" cy="1828800"/>
          </a:xfrm>
          <a:prstGeom prst="rect">
            <a:avLst/>
          </a:prstGeom>
          <a:ln w="0">
            <a:noFill/>
          </a:ln>
        </p:spPr>
      </p:pic>
      <p:sp>
        <p:nvSpPr>
          <p:cNvPr id="128" name="TextovéPole 1"/>
          <p:cNvSpPr/>
          <p:nvPr/>
        </p:nvSpPr>
        <p:spPr>
          <a:xfrm>
            <a:off x="6715080" y="1251000"/>
            <a:ext cx="100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400" spc="-1" strike="noStrike">
                <a:solidFill>
                  <a:srgbClr val="ff0000"/>
                </a:solidFill>
                <a:latin typeface="Times New Roman"/>
              </a:rPr>
              <a:t>Amorfní (skla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Obdélník 2"/>
          <p:cNvSpPr/>
          <p:nvPr/>
        </p:nvSpPr>
        <p:spPr>
          <a:xfrm>
            <a:off x="179280" y="6192720"/>
            <a:ext cx="227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http://pubs.rsc.org/en/content/articlehtml/2012/cp/c2cp40703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ovéPole 3"/>
          <p:cNvSpPr/>
          <p:nvPr/>
        </p:nvSpPr>
        <p:spPr>
          <a:xfrm>
            <a:off x="5697360" y="2205000"/>
            <a:ext cx="102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ěstování krystalů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ovéPole 1"/>
          <p:cNvSpPr/>
          <p:nvPr/>
        </p:nvSpPr>
        <p:spPr>
          <a:xfrm>
            <a:off x="293760" y="39434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Extrémní nukl. batié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ovéPole 4"/>
          <p:cNvSpPr/>
          <p:nvPr/>
        </p:nvSpPr>
        <p:spPr>
          <a:xfrm>
            <a:off x="6427800" y="6440400"/>
            <a:ext cx="2592360" cy="3373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  <a:ea typeface="MS Gothic"/>
              </a:rPr>
              <a:t>Stupeň přesycení S=c/c*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ovéPole 2"/>
          <p:cNvSpPr/>
          <p:nvPr/>
        </p:nvSpPr>
        <p:spPr>
          <a:xfrm>
            <a:off x="5867280" y="6453360"/>
            <a:ext cx="6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ovéPole 3"/>
          <p:cNvSpPr/>
          <p:nvPr/>
        </p:nvSpPr>
        <p:spPr>
          <a:xfrm>
            <a:off x="671760" y="1112760"/>
            <a:ext cx="236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ložené zárodky rostou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5" name="Přímá spojnice se šipkou 5"/>
          <p:cNvCxnSpPr/>
          <p:nvPr/>
        </p:nvCxnSpPr>
        <p:spPr>
          <a:xfrm>
            <a:off x="2087280" y="1512360"/>
            <a:ext cx="253080" cy="69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6" name="TextovéPole 23"/>
          <p:cNvSpPr/>
          <p:nvPr/>
        </p:nvSpPr>
        <p:spPr>
          <a:xfrm>
            <a:off x="649800" y="1689120"/>
            <a:ext cx="105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ukleac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ovéPole 24"/>
          <p:cNvSpPr/>
          <p:nvPr/>
        </p:nvSpPr>
        <p:spPr>
          <a:xfrm>
            <a:off x="1858320" y="2730600"/>
            <a:ext cx="86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oztok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77096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"/>
              </a:rPr>
              <a:t>Kinetika vzniku tuhé fáze (krystalů) </a:t>
            </a:r>
            <a:br>
              <a:rPr sz="3200"/>
            </a:br>
            <a:r>
              <a:rPr b="0" lang="cs-CZ" sz="3200" spc="-1" strike="noStrike">
                <a:solidFill>
                  <a:srgbClr val="4d4d4d"/>
                </a:solidFill>
                <a:latin typeface="Arial"/>
              </a:rPr>
              <a:t>z přesyceného roztoku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39" name="Picture 4" descr="Nucleation&amp;Growth-cropped.jpg"/>
          <p:cNvPicPr/>
          <p:nvPr/>
        </p:nvPicPr>
        <p:blipFill>
          <a:blip r:embed="rId1"/>
          <a:stretch/>
        </p:blipFill>
        <p:spPr>
          <a:xfrm>
            <a:off x="250920" y="1341360"/>
            <a:ext cx="5905440" cy="5403960"/>
          </a:xfrm>
          <a:prstGeom prst="rect">
            <a:avLst/>
          </a:prstGeom>
          <a:ln w="0">
            <a:noFill/>
          </a:ln>
        </p:spPr>
      </p:pic>
      <p:sp>
        <p:nvSpPr>
          <p:cNvPr id="140" name="TextovéPole 3"/>
          <p:cNvSpPr/>
          <p:nvPr/>
        </p:nvSpPr>
        <p:spPr>
          <a:xfrm>
            <a:off x="6588000" y="1163520"/>
            <a:ext cx="2448000" cy="466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říprava nasyceného roztoku při vyšší teplotě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ychlé ochlazení (viz injektace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čátek a konec homogenní nukleac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ůst až do dosažení hranice rozpustnost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Hrubnutí a sintr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ovéPole 2"/>
          <p:cNvSpPr/>
          <p:nvPr/>
        </p:nvSpPr>
        <p:spPr>
          <a:xfrm>
            <a:off x="4859280" y="1344600"/>
            <a:ext cx="127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le povrchové energi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2" name="Přímá spojnice se šipkou 6"/>
          <p:cNvCxnSpPr/>
          <p:nvPr/>
        </p:nvCxnSpPr>
        <p:spPr>
          <a:xfrm flipH="1">
            <a:off x="3347640" y="2266920"/>
            <a:ext cx="1512000" cy="1767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3" name="TextovéPole 9"/>
          <p:cNvSpPr/>
          <p:nvPr/>
        </p:nvSpPr>
        <p:spPr>
          <a:xfrm>
            <a:off x="2568600" y="1805040"/>
            <a:ext cx="127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le difúz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4" name="Přímá spojnice se šipkou 8"/>
          <p:cNvCxnSpPr/>
          <p:nvPr/>
        </p:nvCxnSpPr>
        <p:spPr>
          <a:xfrm flipH="1">
            <a:off x="2050560" y="2452320"/>
            <a:ext cx="721440" cy="1121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8240" y="188640"/>
            <a:ext cx="77706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ychlost transformace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= difúze a nukleace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46" name="Picture 2" descr="https://encrypted-tbn1.gstatic.com/images?q=tbn:ANd9GcS68usU70rDStgLmZS3ICGsnaYqtcPWYJRvCEny-YGjc4S7ZtOH-Q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5760" y="2060640"/>
            <a:ext cx="8207280" cy="2881080"/>
          </a:xfrm>
          <a:prstGeom prst="rect">
            <a:avLst/>
          </a:prstGeom>
          <a:ln w="0">
            <a:noFill/>
          </a:ln>
        </p:spPr>
      </p:pic>
      <p:sp>
        <p:nvSpPr>
          <p:cNvPr id="147" name="TextovéPole 1"/>
          <p:cNvSpPr/>
          <p:nvPr/>
        </p:nvSpPr>
        <p:spPr>
          <a:xfrm>
            <a:off x="2160720" y="350028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Termodynamická hnací síl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ovéPole 6"/>
          <p:cNvSpPr/>
          <p:nvPr/>
        </p:nvSpPr>
        <p:spPr>
          <a:xfrm>
            <a:off x="552600" y="2416320"/>
            <a:ext cx="110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Nukleační barié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9" name="Přímá spojnice se šipkou 3"/>
          <p:cNvCxnSpPr/>
          <p:nvPr/>
        </p:nvCxnSpPr>
        <p:spPr>
          <a:xfrm>
            <a:off x="1305000" y="2720880"/>
            <a:ext cx="18000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0" name="Přímá spojnice se šipkou 8"/>
          <p:cNvCxnSpPr/>
          <p:nvPr/>
        </p:nvCxnSpPr>
        <p:spPr>
          <a:xfrm flipH="1">
            <a:off x="2050200" y="3499920"/>
            <a:ext cx="577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1" name="TextovéPole 1"/>
          <p:cNvSpPr/>
          <p:nvPr/>
        </p:nvSpPr>
        <p:spPr>
          <a:xfrm>
            <a:off x="7812000" y="14032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ychlost difúz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ovéPole 10"/>
          <p:cNvSpPr/>
          <p:nvPr/>
        </p:nvSpPr>
        <p:spPr>
          <a:xfrm>
            <a:off x="7350120" y="522936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ychlost nuklea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3" name="Přímá spojnice se šipkou 3"/>
          <p:cNvCxnSpPr>
            <a:stCxn id="151" idx="1"/>
          </p:cNvCxnSpPr>
          <p:nvPr/>
        </p:nvCxnSpPr>
        <p:spPr>
          <a:xfrm flipH="1">
            <a:off x="7092360" y="1725480"/>
            <a:ext cx="719640" cy="98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4" name="Přímá spojnice se šipkou 5"/>
          <p:cNvCxnSpPr>
            <a:stCxn id="152" idx="1"/>
          </p:cNvCxnSpPr>
          <p:nvPr/>
        </p:nvCxnSpPr>
        <p:spPr>
          <a:xfrm flipV="1">
            <a:off x="7349760" y="3793680"/>
            <a:ext cx="391320" cy="175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sek</cp:lastModifiedBy>
  <dcterms:modified xsi:type="dcterms:W3CDTF">2016-05-11T13:49:39Z</dcterms:modified>
  <cp:revision>143</cp:revision>
  <dc:subject/>
  <dc:title>C6730 Fázové rovnováhy</dc:title>
</cp:coreProperties>
</file>