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1.png" ContentType="image/png"/>
  <Override PartName="/ppt/media/image6.jpeg" ContentType="image/jpeg"/>
  <Override PartName="/ppt/media/image52.png" ContentType="image/png"/>
  <Override PartName="/ppt/media/image27.jpeg" ContentType="image/jpeg"/>
  <Override PartName="/ppt/media/image10.jpeg" ContentType="image/jpeg"/>
  <Override PartName="/ppt/media/image14.png" ContentType="image/png"/>
  <Override PartName="/ppt/media/image36.jpeg" ContentType="image/jpeg"/>
  <Override PartName="/ppt/media/image57.png" ContentType="image/png"/>
  <Override PartName="/ppt/media/image15.jpeg" ContentType="image/jpeg"/>
  <Override PartName="/ppt/media/image17.jpeg" ContentType="image/jpeg"/>
  <Override PartName="/ppt/media/image18.jpeg" ContentType="image/jpeg"/>
  <Override PartName="/ppt/media/image24.jpeg" ContentType="image/jpeg"/>
  <Override PartName="/ppt/media/image59.png" ContentType="image/png"/>
  <Override PartName="/ppt/media/image22.png" ContentType="image/png"/>
  <Override PartName="/ppt/media/image26.jpeg" ContentType="image/jpeg"/>
  <Override PartName="/ppt/media/image42.png" ContentType="image/png"/>
  <Override PartName="/ppt/media/image61.png" ContentType="image/png"/>
  <Override PartName="/ppt/media/image2.jpeg" ContentType="image/jpeg"/>
  <Override PartName="/ppt/media/image31.png" ContentType="image/png"/>
  <Override PartName="/ppt/media/image66.png" ContentType="image/png"/>
  <Override PartName="/ppt/media/image63.jpeg" ContentType="image/jpeg"/>
  <Override PartName="/ppt/media/image29.png" ContentType="image/png"/>
  <Override PartName="/ppt/media/image21.jpeg" ContentType="image/jpeg"/>
  <Override PartName="/ppt/media/image4.png" ContentType="image/png"/>
  <Override PartName="/ppt/media/image16.png" ContentType="image/png"/>
  <Override PartName="/ppt/media/image64.png" ContentType="image/png"/>
  <Override PartName="/ppt/media/image60.jpeg" ContentType="image/jpeg"/>
  <Override PartName="/ppt/media/image62.png" ContentType="image/png"/>
  <Override PartName="/ppt/media/image25.png" ContentType="image/png"/>
  <Override PartName="/ppt/media/image23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65.jpeg" ContentType="image/jpeg"/>
  <Override PartName="/ppt/media/image49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0.jpeg" ContentType="image/jpeg"/>
  <Override PartName="/ppt/media/image32.png" ContentType="image/png"/>
  <Override PartName="/ppt/media/image33.png" ContentType="image/png"/>
  <Override PartName="/ppt/media/image39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jpeg" ContentType="image/jpeg"/>
  <Override PartName="/ppt/media/image5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920E8-91DA-4EAE-A8B2-F09779CE3C5D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53694-4828-45C6-B0A6-C69902C57A16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0D2A5-8CE8-45DD-AE81-9CD07DD0EF61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CA96-DA4A-486D-AF3F-269CE5B5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CD92-3D02-4F74-B9A1-3DF20F97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AAB0-45C0-4C9A-9CA3-714F8AF39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A4CA-2DCC-4324-AE47-07954B74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4086-2B28-4E9D-B7AA-6E8A594F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9B16-D947-4848-8282-D3E3B599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5372-03A8-4DD8-9D47-AE7E922E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D449-EC11-41E4-B805-2B2DCCC0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320A-8DC9-428B-92C4-86D56887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A257-44B1-4E8F-A890-E1E7EDA8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DE2D-FC94-4978-9EBB-72435D93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5209-E5F1-4D53-AD64-D98955ED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043440" y="-329760"/>
            <a:ext cx="12185640" cy="7824600"/>
            <a:chOff x="-3043440" y="-329760"/>
            <a:chExt cx="12185640" cy="7824600"/>
          </a:xfrm>
        </p:grpSpPr>
        <p:sp>
          <p:nvSpPr>
            <p:cNvPr id="1" name="Freeform 2"/>
            <p:cNvSpPr/>
            <p:nvPr/>
          </p:nvSpPr>
          <p:spPr>
            <a:xfrm>
              <a:off x="1485720" y="-4320"/>
              <a:ext cx="3221280" cy="69109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1541520" y="-7560"/>
              <a:ext cx="3222000" cy="69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5402880" y="-2880"/>
              <a:ext cx="3225600" cy="69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2019960" y="-11160"/>
              <a:ext cx="3857760" cy="68965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-1324440" y="157680"/>
              <a:ext cx="649944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 flipH="1" rot="2700000">
              <a:off x="-39240" y="1224720"/>
              <a:ext cx="4718520" cy="1607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-1387440" y="81360"/>
              <a:ext cx="6499440" cy="2449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 rot="18720000">
              <a:off x="-2909160" y="1463760"/>
              <a:ext cx="5588640" cy="2849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 rot="19260000">
              <a:off x="925200" y="1459080"/>
              <a:ext cx="6666120" cy="2767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 flipH="1" rot="2100000">
              <a:off x="1905840" y="1382400"/>
              <a:ext cx="649908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6341400" y="-7560"/>
              <a:ext cx="2019960" cy="364428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-1541520" y="6239520"/>
              <a:ext cx="10683720" cy="68868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1485720" y="6312960"/>
              <a:ext cx="3221280" cy="6087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-1541520" y="6312960"/>
              <a:ext cx="3222000" cy="6073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5402880" y="6312960"/>
              <a:ext cx="3225600" cy="6087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019960" y="6312960"/>
              <a:ext cx="3857760" cy="6073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-1541520" y="6231600"/>
              <a:ext cx="10683720" cy="68868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3249360" y="6252120"/>
              <a:ext cx="1921680" cy="66960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 flipH="1" rot="18900000">
              <a:off x="13518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 flipH="1" rot="18900000">
              <a:off x="162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 flipH="1" rot="18900000">
              <a:off x="-1348920" y="6085440"/>
              <a:ext cx="1649160" cy="9032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 flipH="1" flipV="1">
              <a:off x="-473040" y="6238800"/>
              <a:ext cx="658800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 flipH="1" flipV="1">
              <a:off x="-109620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 flipH="1" flipV="1">
              <a:off x="4088880" y="6315840"/>
              <a:ext cx="2470680" cy="610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 flipH="1" flipV="1">
              <a:off x="584784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7"/>
            <p:cNvSpPr/>
            <p:nvPr/>
          </p:nvSpPr>
          <p:spPr>
            <a:xfrm flipH="1" flipV="1">
              <a:off x="4867920" y="6238800"/>
              <a:ext cx="427356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8"/>
            <p:cNvSpPr/>
            <p:nvPr/>
          </p:nvSpPr>
          <p:spPr>
            <a:xfrm>
              <a:off x="-1541520" y="6272640"/>
              <a:ext cx="10683720" cy="2232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440" y="631332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072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C0206C-E62F-40EE-BDA3-67CE65A46C2D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z/url?sa=i&amp;rct=j&amp;q=&amp;esrc=s&amp;frm=1&amp;source=images&amp;cd=&amp;cad=rja&amp;docid=tWi-lSLzjXaleM&amp;tbnid=VyQ4TZ92f2iOdM:&amp;ved=0CAUQjRw&amp;url=http%3A%2F%2Fwww.answers.com%2Ftopic%2Fnucleation&amp;ei=fVGcUuqIJ8_GswaG4YCwDw&amp;bvm=bv.57155469,d.d2k&amp;psig=AFQjCNGdUd70Sgxlx8HqlxrVuRlXRi2UxQ&amp;ust=1386062563563500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www.google.cz/url?sa=i&amp;rct=j&amp;q=&amp;esrc=s&amp;source=images&amp;cd=&amp;cad=rja&amp;uact=8&amp;ved=0ahUKEwi7veHm-ajJAhXKBywKHdXLDS0QjRwIBw&amp;url=http%3A%2F%2Fpubs.rsc.org%2Fen%2Fcontent%2Farticlehtml%2F2012%2Fcp%2Fc2cp40703e&amp;psig=AFQjCNHtooJJS4_i-ZM9Z7tmlC-z74QBDA&amp;ust=1448450457906358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je7a6HjtLMAhWCHxoKHWb6CfcQjRwIBw&amp;url=http%3A%2F%2Fwww.intechopen.com%2Fbooks%2Fcurrent-research-in-nuclear-reactor-technology-in-brazil-and-worldwide%2Fisothermal-phase-transformation-of-u-zr-nb-alloys-for-advanced-nuclear-fuels&amp;bvm=bv.121658157,d.ZGg&amp;psig=AFQjCNF3pK0Z_9hpj2kkO2Ma3SzBS-kJXA&amp;ust=1463059103622655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google.cz/url?sa=i&amp;rct=j&amp;q=&amp;esrc=s&amp;source=images&amp;cd=&amp;cad=rja&amp;uact=8&amp;ved=0ahUKEwjS3_3VlNLMAhWhHpoKHU8JBZsQjRwIBw&amp;url=http%3A%2F%2Fwww.navaching.com%2Fforge%2Fcooling.html&amp;bvm=bv.121658157,d.ZGg&amp;psig=AFQjCNGyOIhlAtnR3U2BbLJZ830ZhX1rCQ&amp;ust=1463060733066420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google.cz/url?sa=i&amp;rct=j&amp;q=&amp;esrc=s&amp;source=images&amp;cd=&amp;cad=rja&amp;uact=8&amp;ved=0ahUKEwj-49iNlNLMAhVsGZoKHYwRAQ8QjRwIBw&amp;url=http%3A%2F%2Fwww.tf.uni-kiel.de%2Fmatwis%2Famat%2Fiss%2Fkap_6%2Fillustr%2Fs6_1_2.html&amp;bvm=bv.121658157,d.ZGg&amp;psig=AFQjCNGyOIhlAtnR3U2BbLJZ830ZhX1rCQ&amp;ust=1463060733066420" TargetMode="Externa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jUy4Stj9LMAhWFfxoKHfBND_kQjRwIBw&amp;url=http%3A%2F%2Fwww.tlakinfo.cz%2Ft.py%3Ft%3D2%26i%3D1841&amp;psig=AFQjCNFntnMFb-CR9pq4jDI61azwxPgSpg&amp;ust=1463059412558713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www.google.cz/url?sa=i&amp;rct=j&amp;q=&amp;esrc=s&amp;source=images&amp;cd=&amp;cad=rja&amp;uact=8&amp;ved=0ahUKEwj0yY-y66jJAhWBrRQKHUQzDSsQjRwIBw&amp;url=http%3A%2F%2Fwww.expertsmind.com%2Flibrary%2Fwhat-is-the-martensitic-phase-transformation-5178010.aspx&amp;psig=AFQjCNGj9K9jSL2zJS2OXniEtXhGW7ndyw&amp;ust=1448446878956913" TargetMode="External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jpe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jpe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jpe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CAcQjRxqFQoTCIi4t-LO8cgCFcV-GgodGVoFbA&amp;url=http%3A%2F%2Fwww.scielo.br%2Fscielo.php%3Fscript%3Dsci_arttext%26pid%3DS0104-66322001000400007&amp;psig=AFQjCNFZsvdw9M1K--4ssq5FvVC-J7XSqA&amp;ust=1446549265164095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i_rsvk5qjJAhVEtxQKHY_aBWoQjRwIBw&amp;url=http%3A%2F%2Fwww.xray.bioc.cam.ac.uk%2Fxray_resources%2Fwhitepapers%2Fxtal-in-action%2Fnode3.html&amp;psig=AFQjCNGUacraQKrG5ZUq8_K24VwsAAOtlw&amp;ust=1448445380505150" TargetMode="External"/><Relationship Id="rId2" Type="http://schemas.openxmlformats.org/officeDocument/2006/relationships/image" Target="../media/image14.png"/><Relationship Id="rId3" Type="http://schemas.openxmlformats.org/officeDocument/2006/relationships/hyperlink" Target="http://www.google.cz/url?sa=i&amp;rct=j&amp;q=&amp;esrc=s&amp;source=images&amp;cd=&amp;cad=rja&amp;uact=8&amp;ved=0ahUKEwisprzv5ajJAhVEwBQKHfI1Ds8QjRwIBw&amp;url=http%3A%2F%2Fblog.autochem.mt.com%2F2011%2F03%2Fsupersaturation-driving-force-for-crystal-nucleation-growth%2F&amp;psig=AFQjCNGUacraQKrG5ZUq8_K24VwsAAOtlw&amp;ust=1448445380505150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hyperlink" Target="http://www.google.cz/url?sa=i&amp;rct=j&amp;q=&amp;esrc=s&amp;source=images&amp;cd=&amp;cad=rja&amp;uact=8&amp;ved=0ahUKEwjn37_36KjJAhVBHBQKHSOGA8sQjRwIBw&amp;url=http%3A%2F%2Fblog.autochem.mt.com%2F2011%2F03%2Fsupersaturation-driving-force-for-crystal-nucleation-growth%2F&amp;psig=AFQjCNEfbihTl28JqYZvTeoA3YDSJZ2ZCA&amp;ust=1448445219170500" TargetMode="External"/><Relationship Id="rId7" Type="http://schemas.openxmlformats.org/officeDocument/2006/relationships/image" Target="../media/image17.jpeg"/><Relationship Id="rId8" Type="http://schemas.openxmlformats.org/officeDocument/2006/relationships/hyperlink" Target="http://www.google.cz/url?sa=i&amp;rct=j&amp;q=&amp;esrc=s&amp;source=images&amp;cd=&amp;cad=rja&amp;uact=8&amp;ved=0ahUKEwi7veHm-ajJAhXKBywKHdXLDS0QjRwIBw&amp;url=http%3A%2F%2Fpubs.rsc.org%2Fen%2Fcontent%2Farticlehtml%2F2012%2Fcp%2Fc2cp40703e&amp;psig=AFQjCNHtooJJS4_i-ZM9Z7tmlC-z74QBDA&amp;ust=1448450457906358" TargetMode="Externa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j355GM6KjJAhVGuhQKHcRdCMEQjRwIBQ&amp;url=http%3A%2F%2Facumen.lib.ua.edu%2Fcontent%2Fu0015%2F0000001%2F0000572%2Fu0015_0000001_0000572.pdf&amp;bvm=bv.108194040,d.bGg&amp;psig=AFQjCNFzmS_s9mtW7BojZ91ZQD4cOCR2Lw&amp;ust=1448446002475840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3168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4800" spc="-1" strike="noStrike">
                <a:solidFill>
                  <a:srgbClr val="4d4d4d"/>
                </a:solidFill>
                <a:latin typeface="Arial"/>
              </a:rPr>
              <a:t>Vznik nové fáze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179280" y="2889360"/>
            <a:ext cx="5826240" cy="2916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https://encrypted-tbn0.gstatic.com/images?q=tbn:ANd9GcRpl8b0fYG19__S0vxiGLEroIAJTN7scugsMmubHWUcOLcBETL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60960" y="3230640"/>
            <a:ext cx="3000600" cy="223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Výsledek obrázku pro &quot;nucleation zone&quot; solubility temperature"/>
          <p:cNvPicPr/>
          <p:nvPr/>
        </p:nvPicPr>
        <p:blipFill>
          <a:blip r:embed="rId4"/>
          <a:stretch/>
        </p:blipFill>
        <p:spPr>
          <a:xfrm>
            <a:off x="7419960" y="136440"/>
            <a:ext cx="1724040" cy="2657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http://pubs.rsc.org/services/images/RSCpubs.ePlatform.Service.FreeContent.ImageService.svc/ImageService/Articleimage/2012/CP/c2cp40703e/c2cp40703e-f1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48000" y="169920"/>
            <a:ext cx="3987720" cy="22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2305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TTT křivky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6" name="Picture 2" descr="http://www.intechopen.com/source/html/42478/media/figure_1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260280"/>
            <a:ext cx="5329080" cy="6566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http://www.navaching.com/forge/forge.gifs/fe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2782800"/>
            <a:ext cx="53528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9" name="Picture 2" descr="http://www.keytometals.com/images/Articles/kts/art14-p1.gif"/>
          <p:cNvPicPr/>
          <p:nvPr/>
        </p:nvPicPr>
        <p:blipFill>
          <a:blip r:embed="rId1"/>
          <a:stretch/>
        </p:blipFill>
        <p:spPr>
          <a:xfrm>
            <a:off x="179280" y="1200240"/>
            <a:ext cx="5305680" cy="5184720"/>
          </a:xfrm>
          <a:prstGeom prst="rect">
            <a:avLst/>
          </a:prstGeom>
          <a:ln w="0">
            <a:noFill/>
          </a:ln>
        </p:spPr>
      </p:pic>
      <p:sp>
        <p:nvSpPr>
          <p:cNvPr id="160" name="Obdélník 2"/>
          <p:cNvSpPr/>
          <p:nvPr/>
        </p:nvSpPr>
        <p:spPr>
          <a:xfrm>
            <a:off x="468360" y="184320"/>
            <a:ext cx="8567640" cy="1008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al TTT-curve for 0,65% carbon steel depicting time interval required for beginning, 50% and 100% transformation of austenite at a constant temperature A= Austenite F= Ferrite P = Pearlite B = Bainit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4" descr="http://www.tf.uni-kiel.de/matwis/amat/iss/kap_6/illustr/phase_diagram_large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14800" y="1484280"/>
            <a:ext cx="41292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473544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"/>
              </a:rPr>
              <a:t>Role reálné rychlosti ochlazení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3" name="Picture 2" descr="http://www.tlakinfo.cz/docu/clanky/0018/001841o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700280"/>
            <a:ext cx="4973760" cy="4249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secure.expertsmind.com/CMSImages/789_Mechanical%20Behavior%20of%20Materials1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13400" y="235080"/>
            <a:ext cx="3659040" cy="3024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http://www.tlakinfo.cz/docu/clanky/0018/001841o9.jpg"/>
          <p:cNvPicPr/>
          <p:nvPr/>
        </p:nvPicPr>
        <p:blipFill>
          <a:blip r:embed="rId5"/>
          <a:stretch/>
        </p:blipFill>
        <p:spPr>
          <a:xfrm>
            <a:off x="4932360" y="3645000"/>
            <a:ext cx="421164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7" name="Picture 2" descr="http://images.slideplayer.cz/10/2763926/slides/slide_9.jpg"/>
          <p:cNvPicPr/>
          <p:nvPr/>
        </p:nvPicPr>
        <p:blipFill>
          <a:blip r:embed="rId1"/>
          <a:stretch/>
        </p:blipFill>
        <p:spPr>
          <a:xfrm>
            <a:off x="324000" y="620640"/>
            <a:ext cx="801684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8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3264120" cy="2362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1.  Spinodální rozpad –fázová přeměna bez nukleac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5FDC28-7ED7-4505-B4BD-60D43D5D74F5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6" descr="http://www.intechopen.com/source/html/15877/media/image3.png"/>
          <p:cNvPicPr/>
          <p:nvPr/>
        </p:nvPicPr>
        <p:blipFill>
          <a:blip r:embed="rId2"/>
          <a:stretch/>
        </p:blipFill>
        <p:spPr>
          <a:xfrm>
            <a:off x="531720" y="1768320"/>
            <a:ext cx="4157640" cy="2092320"/>
          </a:xfrm>
          <a:prstGeom prst="rect">
            <a:avLst/>
          </a:prstGeom>
          <a:ln w="0">
            <a:noFill/>
          </a:ln>
        </p:spPr>
      </p:pic>
      <p:sp>
        <p:nvSpPr>
          <p:cNvPr id="172" name="TextovéPole 6"/>
          <p:cNvSpPr/>
          <p:nvPr/>
        </p:nvSpPr>
        <p:spPr>
          <a:xfrm>
            <a:off x="496800" y="1089000"/>
            <a:ext cx="2735280" cy="611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Spinodální rozp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(fázová přeměn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8" descr="http://ars.els-cdn.com/content/image/1-s2.0-S1359645411005350-gr9.jpg"/>
          <p:cNvPicPr/>
          <p:nvPr/>
        </p:nvPicPr>
        <p:blipFill>
          <a:blip r:embed="rId3"/>
          <a:stretch/>
        </p:blipFill>
        <p:spPr>
          <a:xfrm>
            <a:off x="611280" y="4149720"/>
            <a:ext cx="3190680" cy="2081160"/>
          </a:xfrm>
          <a:prstGeom prst="rect">
            <a:avLst/>
          </a:prstGeom>
          <a:ln w="0">
            <a:noFill/>
          </a:ln>
        </p:spPr>
      </p:pic>
      <p:sp>
        <p:nvSpPr>
          <p:cNvPr id="174" name="TextovéPole 9"/>
          <p:cNvSpPr/>
          <p:nvPr/>
        </p:nvSpPr>
        <p:spPr>
          <a:xfrm>
            <a:off x="2340000" y="1844640"/>
            <a:ext cx="1079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CR-N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ovéPole 1"/>
          <p:cNvSpPr/>
          <p:nvPr/>
        </p:nvSpPr>
        <p:spPr>
          <a:xfrm>
            <a:off x="1101600" y="1768320"/>
            <a:ext cx="15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Náhodná fluktu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16" descr=""/>
          <p:cNvPicPr/>
          <p:nvPr/>
        </p:nvPicPr>
        <p:blipFill>
          <a:blip r:embed="rId4"/>
          <a:stretch/>
        </p:blipFill>
        <p:spPr>
          <a:xfrm>
            <a:off x="6084720" y="1763640"/>
            <a:ext cx="2519640" cy="1978200"/>
          </a:xfrm>
          <a:prstGeom prst="rect">
            <a:avLst/>
          </a:prstGeom>
          <a:ln w="0">
            <a:noFill/>
          </a:ln>
        </p:spPr>
      </p:pic>
      <p:sp>
        <p:nvSpPr>
          <p:cNvPr id="177" name="TextovéPole 4"/>
          <p:cNvSpPr/>
          <p:nvPr/>
        </p:nvSpPr>
        <p:spPr>
          <a:xfrm>
            <a:off x="6429240" y="1236600"/>
            <a:ext cx="150048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Motiv ve FD: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ovéPole 4"/>
          <p:cNvSpPr/>
          <p:nvPr/>
        </p:nvSpPr>
        <p:spPr>
          <a:xfrm>
            <a:off x="6594480" y="4156200"/>
            <a:ext cx="1498680" cy="428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Koncentrační profil při spinodálním rozpadu: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ovéPole 1"/>
          <p:cNvSpPr/>
          <p:nvPr/>
        </p:nvSpPr>
        <p:spPr>
          <a:xfrm>
            <a:off x="5580000" y="5950080"/>
            <a:ext cx="2087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Není nutné nukleační stádiu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0" name="Přímá spojnice se šipkou 2"/>
          <p:cNvCxnSpPr/>
          <p:nvPr/>
        </p:nvCxnSpPr>
        <p:spPr>
          <a:xfrm>
            <a:off x="2340000" y="2205000"/>
            <a:ext cx="4680720" cy="115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1" name="Přímá spojnice se šipkou 5"/>
          <p:cNvCxnSpPr/>
          <p:nvPr/>
        </p:nvCxnSpPr>
        <p:spPr>
          <a:xfrm>
            <a:off x="3059280" y="2637000"/>
            <a:ext cx="3535920" cy="721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2" name="TextovéPole 6"/>
          <p:cNvSpPr/>
          <p:nvPr/>
        </p:nvSpPr>
        <p:spPr>
          <a:xfrm>
            <a:off x="4654080" y="2506680"/>
            <a:ext cx="141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Spontální obla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ovéPole 18"/>
          <p:cNvSpPr/>
          <p:nvPr/>
        </p:nvSpPr>
        <p:spPr>
          <a:xfrm>
            <a:off x="4588200" y="3203640"/>
            <a:ext cx="156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imes New Roman"/>
                <a:ea typeface="MS Gothic"/>
              </a:rPr>
              <a:t>nespontální obla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3. Nukleace a růst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5" name="Zástupný symbol pro číslo snímku 3"/>
          <p:cNvSpPr/>
          <p:nvPr/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ABB870-8B64-4EB4-A718-B1CABBE9BF4A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2" descr="http://ars.sciencedirect.com/content/image/1-s2.0-S0009250908002480-gr7.gif"/>
          <p:cNvPicPr/>
          <p:nvPr/>
        </p:nvPicPr>
        <p:blipFill>
          <a:blip r:embed="rId1"/>
          <a:stretch/>
        </p:blipFill>
        <p:spPr>
          <a:xfrm>
            <a:off x="3059280" y="3722760"/>
            <a:ext cx="2676240" cy="1984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http://ars.sciencedirect.com/content/image/1-s2.0-S0009250908002480-gr6.gif"/>
          <p:cNvPicPr/>
          <p:nvPr/>
        </p:nvPicPr>
        <p:blipFill>
          <a:blip r:embed="rId2"/>
          <a:stretch/>
        </p:blipFill>
        <p:spPr>
          <a:xfrm>
            <a:off x="316080" y="3722760"/>
            <a:ext cx="2668320" cy="1984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http://ars.els-cdn.com/content/image/1-s2.0-S0021979707003207-gr003.jpg"/>
          <p:cNvPicPr/>
          <p:nvPr/>
        </p:nvPicPr>
        <p:blipFill>
          <a:blip r:embed="rId3"/>
          <a:stretch/>
        </p:blipFill>
        <p:spPr>
          <a:xfrm>
            <a:off x="6270480" y="981000"/>
            <a:ext cx="2533680" cy="3783240"/>
          </a:xfrm>
          <a:prstGeom prst="rect">
            <a:avLst/>
          </a:prstGeom>
          <a:ln w="0">
            <a:noFill/>
          </a:ln>
        </p:spPr>
      </p:pic>
      <p:sp>
        <p:nvSpPr>
          <p:cNvPr id="189" name="TextovéPole 4"/>
          <p:cNvSpPr/>
          <p:nvPr/>
        </p:nvSpPr>
        <p:spPr>
          <a:xfrm>
            <a:off x="6270480" y="4941720"/>
            <a:ext cx="2694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Schematic illustration of nucleation and growth mechanisms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Cu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based on LaMer's model: (a) mechanism for polydisperse particles and (b) mechanism for monodisperse particles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. http://www.sciencedirect.com/science/article/pii/S002197970700320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ovéPole 5"/>
          <p:cNvSpPr/>
          <p:nvPr/>
        </p:nvSpPr>
        <p:spPr>
          <a:xfrm>
            <a:off x="1433520" y="3860640"/>
            <a:ext cx="1409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Nukleační rychlost (je funkcí přesycení, které při nukleaci klesá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ovéPole 9"/>
          <p:cNvSpPr/>
          <p:nvPr/>
        </p:nvSpPr>
        <p:spPr>
          <a:xfrm>
            <a:off x="4397400" y="4032360"/>
            <a:ext cx="1317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Vhodný průběh nukleační rychlosti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8" descr="http://ars.els-cdn.com/content/image/1-s2.0-S1359645401001136-gr7.gif"/>
          <p:cNvPicPr/>
          <p:nvPr/>
        </p:nvPicPr>
        <p:blipFill>
          <a:blip r:embed="rId4"/>
          <a:stretch/>
        </p:blipFill>
        <p:spPr>
          <a:xfrm>
            <a:off x="316080" y="1341360"/>
            <a:ext cx="2682720" cy="2244960"/>
          </a:xfrm>
          <a:prstGeom prst="rect">
            <a:avLst/>
          </a:prstGeom>
          <a:ln w="0">
            <a:noFill/>
          </a:ln>
        </p:spPr>
      </p:pic>
      <p:sp>
        <p:nvSpPr>
          <p:cNvPr id="193" name="TextovéPole 6"/>
          <p:cNvSpPr/>
          <p:nvPr/>
        </p:nvSpPr>
        <p:spPr>
          <a:xfrm>
            <a:off x="684360" y="1341360"/>
            <a:ext cx="165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Např.:  Podchlazený rozrok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ovéPole 1"/>
          <p:cNvSpPr/>
          <p:nvPr/>
        </p:nvSpPr>
        <p:spPr>
          <a:xfrm>
            <a:off x="684360" y="981000"/>
            <a:ext cx="2158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Fázové přeměn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ovéPole 13"/>
          <p:cNvSpPr/>
          <p:nvPr/>
        </p:nvSpPr>
        <p:spPr>
          <a:xfrm>
            <a:off x="3490920" y="971640"/>
            <a:ext cx="2160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hemické reak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ovéPole 9"/>
          <p:cNvSpPr/>
          <p:nvPr/>
        </p:nvSpPr>
        <p:spPr>
          <a:xfrm>
            <a:off x="2860560" y="5805360"/>
            <a:ext cx="131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Trig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7" name="Přímá spojnice se šipkou 5"/>
          <p:cNvCxnSpPr/>
          <p:nvPr/>
        </p:nvCxnSpPr>
        <p:spPr>
          <a:xfrm flipV="1">
            <a:off x="3708000" y="5157000"/>
            <a:ext cx="1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98" name="Picture 14" descr="http://www.transtutors.com/userfiles/image/ARUN/Fold/92c.JPG"/>
          <p:cNvPicPr/>
          <p:nvPr/>
        </p:nvPicPr>
        <p:blipFill>
          <a:blip r:embed="rId5"/>
          <a:stretch/>
        </p:blipFill>
        <p:spPr>
          <a:xfrm>
            <a:off x="3305160" y="1455840"/>
            <a:ext cx="2346480" cy="2165400"/>
          </a:xfrm>
          <a:prstGeom prst="rect">
            <a:avLst/>
          </a:prstGeom>
          <a:ln w="0">
            <a:noFill/>
          </a:ln>
        </p:spPr>
      </p:pic>
      <p:sp>
        <p:nvSpPr>
          <p:cNvPr id="199" name="TextovéPole 6"/>
          <p:cNvSpPr/>
          <p:nvPr/>
        </p:nvSpPr>
        <p:spPr>
          <a:xfrm>
            <a:off x="7812000" y="1598760"/>
            <a:ext cx="1152720" cy="26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monodisperzit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ovéPole 21"/>
          <p:cNvSpPr/>
          <p:nvPr/>
        </p:nvSpPr>
        <p:spPr>
          <a:xfrm>
            <a:off x="7885080" y="3489480"/>
            <a:ext cx="1150920" cy="26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polydisperzit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Homogenní a heterogenní nukleace z liquidu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2" name="Obdélník 2"/>
          <p:cNvSpPr/>
          <p:nvPr/>
        </p:nvSpPr>
        <p:spPr>
          <a:xfrm>
            <a:off x="179280" y="63817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www.matter.org.uk/matscicdrom/manual/nu.ht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24000" y="1353600"/>
            <a:ext cx="56880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riving forc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for solidification,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exists below the equilibrium melting temperature,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and that this is approximately proportional to the degree of undercooling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4" descr="http://www.matter.org.uk/matscicdrom/manual/images/image118.gif"/>
          <p:cNvPicPr/>
          <p:nvPr/>
        </p:nvPicPr>
        <p:blipFill>
          <a:blip r:embed="rId1"/>
          <a:stretch/>
        </p:blipFill>
        <p:spPr>
          <a:xfrm>
            <a:off x="6732720" y="1484280"/>
            <a:ext cx="1304640" cy="576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http://www.matter.org.uk/matscicdrom/manual/images/image119.gif"/>
          <p:cNvPicPr/>
          <p:nvPr/>
        </p:nvPicPr>
        <p:blipFill>
          <a:blip r:embed="rId2"/>
          <a:stretch/>
        </p:blipFill>
        <p:spPr>
          <a:xfrm>
            <a:off x="4572000" y="2479680"/>
            <a:ext cx="1944720" cy="1716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http://www.matter.org.uk/matscicdrom/manual/images/image124.gif"/>
          <p:cNvPicPr/>
          <p:nvPr/>
        </p:nvPicPr>
        <p:blipFill>
          <a:blip r:embed="rId3"/>
          <a:stretch/>
        </p:blipFill>
        <p:spPr>
          <a:xfrm>
            <a:off x="387360" y="4465800"/>
            <a:ext cx="2628720" cy="228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http://www.matter.org.uk/matscicdrom/manual/images/image125.gif"/>
          <p:cNvPicPr/>
          <p:nvPr/>
        </p:nvPicPr>
        <p:blipFill>
          <a:blip r:embed="rId4"/>
          <a:stretch/>
        </p:blipFill>
        <p:spPr>
          <a:xfrm>
            <a:off x="3713040" y="4473720"/>
            <a:ext cx="3036960" cy="185868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288720" y="234936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omogenní nuklea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ovéPole 9"/>
          <p:cNvSpPr/>
          <p:nvPr/>
        </p:nvSpPr>
        <p:spPr>
          <a:xfrm>
            <a:off x="205200" y="396540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terogenní nuklea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8" descr="http://www.matter.org.uk/matscicdrom/manual/images/image120.gif"/>
          <p:cNvPicPr/>
          <p:nvPr/>
        </p:nvPicPr>
        <p:blipFill>
          <a:blip r:embed="rId5"/>
          <a:stretch/>
        </p:blipFill>
        <p:spPr>
          <a:xfrm>
            <a:off x="387360" y="2825640"/>
            <a:ext cx="1752480" cy="381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http://www.matter.org.uk/matscicdrom/manual/images/image122.gif"/>
          <p:cNvPicPr/>
          <p:nvPr/>
        </p:nvPicPr>
        <p:blipFill>
          <a:blip r:embed="rId6"/>
          <a:stretch/>
        </p:blipFill>
        <p:spPr>
          <a:xfrm>
            <a:off x="320760" y="3370320"/>
            <a:ext cx="1447560" cy="419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http://www.matter.org.uk/matscicdrom/manual/images/image123.gif"/>
          <p:cNvPicPr/>
          <p:nvPr/>
        </p:nvPicPr>
        <p:blipFill>
          <a:blip r:embed="rId7"/>
          <a:stretch/>
        </p:blipFill>
        <p:spPr>
          <a:xfrm>
            <a:off x="2208240" y="3360600"/>
            <a:ext cx="1714320" cy="438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http://www.matter.org.uk/matscicdrom/manual/images/image126.gif"/>
          <p:cNvPicPr/>
          <p:nvPr/>
        </p:nvPicPr>
        <p:blipFill>
          <a:blip r:embed="rId8"/>
          <a:stretch/>
        </p:blipFill>
        <p:spPr>
          <a:xfrm>
            <a:off x="324000" y="4782960"/>
            <a:ext cx="1143000" cy="419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6" descr="http://www.matter.org.uk/matscicdrom/manual/images/image127.gif"/>
          <p:cNvPicPr/>
          <p:nvPr/>
        </p:nvPicPr>
        <p:blipFill>
          <a:blip r:embed="rId9"/>
          <a:stretch/>
        </p:blipFill>
        <p:spPr>
          <a:xfrm>
            <a:off x="372960" y="5875200"/>
            <a:ext cx="210528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8" descr="http://www.matter.org.uk/matscicdrom/manual/images/image128.gif"/>
          <p:cNvPicPr/>
          <p:nvPr/>
        </p:nvPicPr>
        <p:blipFill>
          <a:blip r:embed="rId10"/>
          <a:stretch/>
        </p:blipFill>
        <p:spPr>
          <a:xfrm>
            <a:off x="406440" y="5408640"/>
            <a:ext cx="1762200" cy="399960"/>
          </a:xfrm>
          <a:prstGeom prst="rect">
            <a:avLst/>
          </a:prstGeom>
          <a:ln w="0">
            <a:noFill/>
          </a:ln>
        </p:spPr>
      </p:pic>
      <p:sp>
        <p:nvSpPr>
          <p:cNvPr id="216" name="TextovéPole 6"/>
          <p:cNvSpPr/>
          <p:nvPr/>
        </p:nvSpPr>
        <p:spPr>
          <a:xfrm>
            <a:off x="1768320" y="47750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.úhel smáčen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20" descr="http://nptel.iitm.ac.in/courses/103104045/lecture20/images/01.jpg"/>
          <p:cNvPicPr/>
          <p:nvPr/>
        </p:nvPicPr>
        <p:blipFill>
          <a:blip r:embed="rId11"/>
          <a:stretch/>
        </p:blipFill>
        <p:spPr>
          <a:xfrm>
            <a:off x="6904080" y="4579920"/>
            <a:ext cx="21621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Snížené energetické bariéry 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9" name="Picture 2" descr="http://www.matter.org.uk/matscicdrom/manual/images/image129.gif"/>
          <p:cNvPicPr/>
          <p:nvPr/>
        </p:nvPicPr>
        <p:blipFill>
          <a:blip r:embed="rId1"/>
          <a:stretch/>
        </p:blipFill>
        <p:spPr>
          <a:xfrm>
            <a:off x="1930320" y="1916280"/>
            <a:ext cx="462276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Homogenní a heterogenní nukleace v tuhém stav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21" name="Picture 2" descr="http://www.matter.org.uk/matscicdrom/manual/images/image131.gif"/>
          <p:cNvPicPr/>
          <p:nvPr/>
        </p:nvPicPr>
        <p:blipFill>
          <a:blip r:embed="rId1"/>
          <a:stretch/>
        </p:blipFill>
        <p:spPr>
          <a:xfrm>
            <a:off x="525600" y="1114560"/>
            <a:ext cx="1152360" cy="457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http://www.matter.org.uk/matscicdrom/manual/images/image130.gif"/>
          <p:cNvPicPr/>
          <p:nvPr/>
        </p:nvPicPr>
        <p:blipFill>
          <a:blip r:embed="rId2"/>
          <a:stretch/>
        </p:blipFill>
        <p:spPr>
          <a:xfrm>
            <a:off x="5580000" y="1187280"/>
            <a:ext cx="2840040" cy="2760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http://www.matter.org.uk/matscicdrom/manual/images/image132.gif"/>
          <p:cNvPicPr/>
          <p:nvPr/>
        </p:nvPicPr>
        <p:blipFill>
          <a:blip r:embed="rId3"/>
          <a:stretch/>
        </p:blipFill>
        <p:spPr>
          <a:xfrm>
            <a:off x="2470320" y="1187280"/>
            <a:ext cx="1390320" cy="466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\begin{figure}\resizebox{6in}{!}&#10;{\epsfig{file=figures/Nucleation/grain_bndy_ppct.eps}}&#10;\end{figure}"/>
          <p:cNvPicPr/>
          <p:nvPr/>
        </p:nvPicPr>
        <p:blipFill>
          <a:blip r:embed="rId4"/>
          <a:stretch/>
        </p:blipFill>
        <p:spPr>
          <a:xfrm>
            <a:off x="5027760" y="4437000"/>
            <a:ext cx="4078080" cy="1584360"/>
          </a:xfrm>
          <a:prstGeom prst="rect">
            <a:avLst/>
          </a:prstGeom>
          <a:ln w="0">
            <a:noFill/>
          </a:ln>
        </p:spPr>
      </p:pic>
      <p:sp>
        <p:nvSpPr>
          <p:cNvPr id="225" name="Obdélník 2"/>
          <p:cNvSpPr/>
          <p:nvPr/>
        </p:nvSpPr>
        <p:spPr>
          <a:xfrm>
            <a:off x="341280" y="616572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http://pruffle.mit.edu/~ccarter/3.21/Lecture_25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8" descr="\begin{figure}\resizebox{6in}{!}&#10;{\epsfig{file=figures/Nucleation/beta_phase_part.eps}}&#10;\end{figure}"/>
          <p:cNvPicPr/>
          <p:nvPr/>
        </p:nvPicPr>
        <p:blipFill>
          <a:blip r:embed="rId5"/>
          <a:stretch/>
        </p:blipFill>
        <p:spPr>
          <a:xfrm>
            <a:off x="176040" y="1784520"/>
            <a:ext cx="4837320" cy="25574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9"/>
          <p:cNvSpPr/>
          <p:nvPr/>
        </p:nvSpPr>
        <p:spPr>
          <a:xfrm>
            <a:off x="122400" y="4544640"/>
            <a:ext cx="473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facial structure for (a) coherent and (b) semicoherent interfaces between matrix phase   </a:t>
            </a:r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d particle phase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maller dislocation symbols represen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coherency dislocation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nd larger ones in (b) represen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nticoherency dislocation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Picture 10" descr="$ \alpha $"/>
          <p:cNvPicPr/>
          <p:nvPr/>
        </p:nvPicPr>
        <p:blipFill>
          <a:blip r:embed="rId6"/>
          <a:stretch/>
        </p:blipFill>
        <p:spPr>
          <a:xfrm>
            <a:off x="11241000" y="-365040"/>
            <a:ext cx="162000" cy="152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$ \beta $"/>
          <p:cNvPicPr/>
          <p:nvPr/>
        </p:nvPicPr>
        <p:blipFill>
          <a:blip r:embed="rId7"/>
          <a:stretch/>
        </p:blipFill>
        <p:spPr>
          <a:xfrm>
            <a:off x="13695480" y="-365040"/>
            <a:ext cx="16164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Reálné podmínky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1" name="Picture 7" descr="http://www.wias-berlin.de/research/ats/Praezipitate/Bilder/image005.gif"/>
          <p:cNvPicPr/>
          <p:nvPr/>
        </p:nvPicPr>
        <p:blipFill>
          <a:blip r:embed="rId1"/>
          <a:stretch/>
        </p:blipFill>
        <p:spPr>
          <a:xfrm>
            <a:off x="108000" y="2133720"/>
            <a:ext cx="9026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Fázové diagramy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3" name="Picture 2" descr="http://chemwiki.ucdavis.edu/@api/deki/files/41492/=H2O-NACL.png?revision=1"/>
          <p:cNvPicPr/>
          <p:nvPr/>
        </p:nvPicPr>
        <p:blipFill>
          <a:blip r:embed="rId1"/>
          <a:stretch/>
        </p:blipFill>
        <p:spPr>
          <a:xfrm>
            <a:off x="138240" y="1197000"/>
            <a:ext cx="4044960" cy="3919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sp.lyellcollection.org/content/333/1/35/F1.large.jpg"/>
          <p:cNvPicPr/>
          <p:nvPr/>
        </p:nvPicPr>
        <p:blipFill>
          <a:blip r:embed="rId2"/>
          <a:stretch/>
        </p:blipFill>
        <p:spPr>
          <a:xfrm>
            <a:off x="4187880" y="3068640"/>
            <a:ext cx="483228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Způsoby překonání nukleační bariéry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6475320" cy="3960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3" descr="\begin{figure}\resizebox{6in}{!}&#10;{\epsfig{file=figures/Nucleation/hetero_nuc_regimes.eps}}&#10;\end{figure}"/>
          <p:cNvPicPr/>
          <p:nvPr/>
        </p:nvPicPr>
        <p:blipFill>
          <a:blip r:embed="rId2"/>
          <a:stretch/>
        </p:blipFill>
        <p:spPr>
          <a:xfrm>
            <a:off x="5307120" y="4724280"/>
            <a:ext cx="382428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Metody usnadňující dosažení rovnovážného stav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553600" cy="1782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http://www.photon-hammer.com/images/gallery/section_04/06.jpg"/>
          <p:cNvPicPr/>
          <p:nvPr/>
        </p:nvPicPr>
        <p:blipFill>
          <a:blip r:embed="rId2"/>
          <a:stretch/>
        </p:blipFill>
        <p:spPr>
          <a:xfrm>
            <a:off x="971640" y="3573360"/>
            <a:ext cx="2781360" cy="2779920"/>
          </a:xfrm>
          <a:prstGeom prst="rect">
            <a:avLst/>
          </a:prstGeom>
          <a:ln w="0">
            <a:noFill/>
          </a:ln>
        </p:spPr>
      </p:pic>
      <p:sp>
        <p:nvSpPr>
          <p:cNvPr id="238" name="Obdélník 2"/>
          <p:cNvSpPr/>
          <p:nvPr/>
        </p:nvSpPr>
        <p:spPr>
          <a:xfrm>
            <a:off x="324000" y="651204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ttp://www.photon-hammer.com/gallery.ph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7" descr="http://www.specialchem4polymers.com/documents/indexables/contents/441/images/nucleation3.gif"/>
          <p:cNvPicPr/>
          <p:nvPr/>
        </p:nvPicPr>
        <p:blipFill>
          <a:blip r:embed="rId3"/>
          <a:stretch/>
        </p:blipFill>
        <p:spPr>
          <a:xfrm>
            <a:off x="4284720" y="3573360"/>
            <a:ext cx="4579920" cy="2779920"/>
          </a:xfrm>
          <a:prstGeom prst="rect">
            <a:avLst/>
          </a:prstGeom>
          <a:ln w="0">
            <a:noFill/>
          </a:ln>
        </p:spPr>
      </p:pic>
      <p:sp>
        <p:nvSpPr>
          <p:cNvPr id="240" name="Obdélník 3"/>
          <p:cNvSpPr/>
          <p:nvPr/>
        </p:nvSpPr>
        <p:spPr>
          <a:xfrm>
            <a:off x="4672080" y="64501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ttp://www.specialchem4polymers.com/tc/polyolefin-nucleators/?id=princip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ovéPole 1"/>
          <p:cNvSpPr/>
          <p:nvPr/>
        </p:nvSpPr>
        <p:spPr>
          <a:xfrm>
            <a:off x="5796000" y="26859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Očková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4d4d4d"/>
                </a:solidFill>
                <a:latin typeface="Arial"/>
              </a:rPr>
              <a:t>Faktory ovlivňující růst nové fáze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101080" cy="2175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http://www.crystals.leeds.ac.uk/uploads/pics/Nucleation7_520.jpg"/>
          <p:cNvPicPr/>
          <p:nvPr/>
        </p:nvPicPr>
        <p:blipFill>
          <a:blip r:embed="rId2"/>
          <a:stretch/>
        </p:blipFill>
        <p:spPr>
          <a:xfrm>
            <a:off x="179280" y="3716280"/>
            <a:ext cx="4953240" cy="18288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http://archive.sciencewatch.com/sciencewatch/dr/fmf/images-fmf/2009/09novfmfKlueF2XL.gif"/>
          <p:cNvPicPr/>
          <p:nvPr/>
        </p:nvPicPr>
        <p:blipFill>
          <a:blip r:embed="rId3"/>
          <a:stretch/>
        </p:blipFill>
        <p:spPr>
          <a:xfrm>
            <a:off x="5724360" y="3716280"/>
            <a:ext cx="304812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981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47" name="Picture 7" descr="https://encrypted-tbn2.gstatic.com/images?q=tbn:ANd9GcRYFymVFHFrL-aOMyFaSkfH0BbvQYK43J5dAFnR8UoRfKYjJSKJ"/>
          <p:cNvPicPr/>
          <p:nvPr/>
        </p:nvPicPr>
        <p:blipFill>
          <a:blip r:embed="rId1"/>
          <a:stretch/>
        </p:blipFill>
        <p:spPr>
          <a:xfrm>
            <a:off x="468360" y="1892160"/>
            <a:ext cx="3313080" cy="4227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http://www.tms.org/pubs/journals/JOM/0007/fig1.gif"/>
          <p:cNvPicPr/>
          <p:nvPr/>
        </p:nvPicPr>
        <p:blipFill>
          <a:blip r:embed="rId2"/>
          <a:stretch/>
        </p:blipFill>
        <p:spPr>
          <a:xfrm>
            <a:off x="4067280" y="2133720"/>
            <a:ext cx="4952880" cy="3887640"/>
          </a:xfrm>
          <a:prstGeom prst="rect">
            <a:avLst/>
          </a:prstGeom>
          <a:ln w="0">
            <a:noFill/>
          </a:ln>
        </p:spPr>
      </p:pic>
      <p:sp>
        <p:nvSpPr>
          <p:cNvPr id="249" name="TextovéPole 1"/>
          <p:cNvSpPr/>
          <p:nvPr/>
        </p:nvSpPr>
        <p:spPr>
          <a:xfrm>
            <a:off x="4797000" y="17002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vová sk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ovéPole 2"/>
          <p:cNvSpPr/>
          <p:nvPr/>
        </p:nvSpPr>
        <p:spPr>
          <a:xfrm>
            <a:off x="611280" y="1484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agnetická levit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"/>
              </a:rPr>
              <a:t>Metody vytvoření přesycení roztoku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Zástupný symbol pro zápatí 2"/>
          <p:cNvSpPr/>
          <p:nvPr/>
        </p:nvSpPr>
        <p:spPr>
          <a:xfrm>
            <a:off x="315108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Nanočástice PS 20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Zástupný symbol pro číslo snímku 3"/>
          <p:cNvSpPr/>
          <p:nvPr/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6EFD10-1CAF-489E-B604-661B2C5BC60C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2" descr="http://www.scielo.br/img/fbpe/bjce/v18n4/a07fig02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1680" y="1768320"/>
            <a:ext cx="6176880" cy="4896000"/>
          </a:xfrm>
          <a:prstGeom prst="rect">
            <a:avLst/>
          </a:prstGeom>
          <a:ln w="0">
            <a:noFill/>
          </a:ln>
        </p:spPr>
      </p:pic>
      <p:sp>
        <p:nvSpPr>
          <p:cNvPr id="89" name="TextovéPole 4"/>
          <p:cNvSpPr/>
          <p:nvPr/>
        </p:nvSpPr>
        <p:spPr>
          <a:xfrm>
            <a:off x="6718320" y="2708280"/>
            <a:ext cx="213516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Stupeň přesyc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S=c/c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4" descr="http://www.scielo.br/img/fbpe/bjce/v18n4/a07frm03.gif"/>
          <p:cNvPicPr/>
          <p:nvPr/>
        </p:nvPicPr>
        <p:blipFill>
          <a:blip r:embed="rId3"/>
          <a:stretch/>
        </p:blipFill>
        <p:spPr>
          <a:xfrm>
            <a:off x="3506760" y="1338120"/>
            <a:ext cx="5045040" cy="392400"/>
          </a:xfrm>
          <a:prstGeom prst="rect">
            <a:avLst/>
          </a:prstGeom>
          <a:ln w="0">
            <a:noFill/>
          </a:ln>
        </p:spPr>
      </p:pic>
      <p:sp>
        <p:nvSpPr>
          <p:cNvPr id="91" name="TextovéPole 5"/>
          <p:cNvSpPr/>
          <p:nvPr/>
        </p:nvSpPr>
        <p:spPr>
          <a:xfrm>
            <a:off x="6900840" y="1165320"/>
            <a:ext cx="216396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c*….fázová hranice (rozpustnost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ovéPole 8"/>
          <p:cNvSpPr/>
          <p:nvPr/>
        </p:nvSpPr>
        <p:spPr>
          <a:xfrm>
            <a:off x="6718320" y="4292640"/>
            <a:ext cx="230328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lativní přesyc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=S-1 =c/c*-1 =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c/c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Obdélník 1"/>
          <p:cNvSpPr/>
          <p:nvPr/>
        </p:nvSpPr>
        <p:spPr>
          <a:xfrm>
            <a:off x="6653160" y="59659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Rel. přesycení lze určovat  i v 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Obdélník 4"/>
          <p:cNvSpPr/>
          <p:nvPr/>
        </p:nvSpPr>
        <p:spPr>
          <a:xfrm>
            <a:off x="179280" y="903240"/>
            <a:ext cx="64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www.scielo.br/scielo.php?script=sci_arttext&amp;pid=S0104-663220010004000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ovéPole 5"/>
          <p:cNvSpPr/>
          <p:nvPr/>
        </p:nvSpPr>
        <p:spPr>
          <a:xfrm>
            <a:off x="1620720" y="3579840"/>
            <a:ext cx="13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Odvod tepl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ovéPole 12"/>
          <p:cNvSpPr/>
          <p:nvPr/>
        </p:nvSpPr>
        <p:spPr>
          <a:xfrm>
            <a:off x="4683240" y="43545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vysolování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Hnací síly transformac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4275A9-E69A-4778-A26B-2BCA2B81A6C5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Zástupný symbol pro zápatí 2"/>
          <p:cNvSpPr/>
          <p:nvPr/>
        </p:nvSpPr>
        <p:spPr>
          <a:xfrm>
            <a:off x="6300720" y="5008680"/>
            <a:ext cx="1339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  <a:ea typeface="MS Gothic"/>
              </a:rPr>
              <a:t>http://www.sciencedirect.com/science/article/pii/S092583880800293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ovéPole 8"/>
          <p:cNvSpPr/>
          <p:nvPr/>
        </p:nvSpPr>
        <p:spPr>
          <a:xfrm>
            <a:off x="484200" y="1541520"/>
            <a:ext cx="273528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Přesycen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(fázová přeměn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2" descr="http://ars.els-cdn.com/content/image/1-s2.0-S0001868605001053-gr2.jpg"/>
          <p:cNvPicPr/>
          <p:nvPr/>
        </p:nvPicPr>
        <p:blipFill>
          <a:blip r:embed="rId1"/>
          <a:stretch/>
        </p:blipFill>
        <p:spPr>
          <a:xfrm>
            <a:off x="539640" y="3666960"/>
            <a:ext cx="3508560" cy="2710080"/>
          </a:xfrm>
          <a:prstGeom prst="rect">
            <a:avLst/>
          </a:prstGeom>
          <a:ln w="0">
            <a:noFill/>
          </a:ln>
        </p:spPr>
      </p:pic>
      <p:sp>
        <p:nvSpPr>
          <p:cNvPr id="102" name="TextovéPole 10"/>
          <p:cNvSpPr/>
          <p:nvPr/>
        </p:nvSpPr>
        <p:spPr>
          <a:xfrm>
            <a:off x="4703760" y="1441440"/>
            <a:ext cx="273672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akční energie (chemická reak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ovéPole 12"/>
          <p:cNvSpPr/>
          <p:nvPr/>
        </p:nvSpPr>
        <p:spPr>
          <a:xfrm>
            <a:off x="662040" y="2386080"/>
            <a:ext cx="273672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MS Gothic"/>
              </a:rPr>
              <a:t>Kondenzace na chladném substrát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4" descr="http://ars.els-cdn.com/content/image/1-s2.0-S0925838808002934-gr7.jpg"/>
          <p:cNvPicPr/>
          <p:nvPr/>
        </p:nvPicPr>
        <p:blipFill>
          <a:blip r:embed="rId2"/>
          <a:stretch/>
        </p:blipFill>
        <p:spPr>
          <a:xfrm>
            <a:off x="4616280" y="3490920"/>
            <a:ext cx="3724560" cy="3035160"/>
          </a:xfrm>
          <a:prstGeom prst="rect">
            <a:avLst/>
          </a:prstGeom>
          <a:ln w="0">
            <a:noFill/>
          </a:ln>
        </p:spPr>
      </p:pic>
      <p:sp>
        <p:nvSpPr>
          <p:cNvPr id="105" name="TextovéPole 4"/>
          <p:cNvSpPr/>
          <p:nvPr/>
        </p:nvSpPr>
        <p:spPr>
          <a:xfrm>
            <a:off x="5197320" y="2386080"/>
            <a:ext cx="24498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Změna reakční Gibbsovy energi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ovéPole 1"/>
          <p:cNvSpPr/>
          <p:nvPr/>
        </p:nvSpPr>
        <p:spPr>
          <a:xfrm>
            <a:off x="6265440" y="390384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Není hnací síl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6499080" y="56926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je hnací síl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4d4d4d"/>
                </a:solidFill>
                <a:latin typeface="Arial"/>
              </a:rPr>
              <a:t>Termodynamika vzniku nové fáze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6360" y="1484280"/>
            <a:ext cx="8898120" cy="4176720"/>
          </a:xfrm>
          <a:prstGeom prst="rect">
            <a:avLst/>
          </a:prstGeom>
          <a:ln w="0">
            <a:noFill/>
          </a:ln>
        </p:spPr>
      </p:pic>
      <p:sp>
        <p:nvSpPr>
          <p:cNvPr id="110" name="TextovéPole 1"/>
          <p:cNvSpPr/>
          <p:nvPr/>
        </p:nvSpPr>
        <p:spPr>
          <a:xfrm>
            <a:off x="5867280" y="1700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nížení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1" name="Přímá spojnice se šipkou 3"/>
          <p:cNvCxnSpPr/>
          <p:nvPr/>
        </p:nvCxnSpPr>
        <p:spPr>
          <a:xfrm flipH="1">
            <a:off x="5650920" y="2161800"/>
            <a:ext cx="216360" cy="47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247680"/>
            <a:ext cx="777096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Povrchová energie kulovitého precipitátu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79280" y="1009800"/>
            <a:ext cx="6981840" cy="5616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homepage.univie.ac.at/wolfgang.lechner/images/cnt.png"/>
          <p:cNvPicPr/>
          <p:nvPr/>
        </p:nvPicPr>
        <p:blipFill>
          <a:blip r:embed="rId2"/>
          <a:stretch/>
        </p:blipFill>
        <p:spPr>
          <a:xfrm>
            <a:off x="6948360" y="3332160"/>
            <a:ext cx="201636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9240" y="115920"/>
            <a:ext cx="7770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Nukleační zóna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Obdélník 3"/>
          <p:cNvSpPr/>
          <p:nvPr/>
        </p:nvSpPr>
        <p:spPr>
          <a:xfrm>
            <a:off x="2679840" y="6423120"/>
            <a:ext cx="2879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http://www.scielo.br/scielo.php?script=sci_arttext&amp;pid=S0104-6632200100040000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6" descr="http://www.xray.bioc.cam.ac.uk/xray_resources/whitepapers/xtal-in-action/img8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1103400"/>
            <a:ext cx="5195880" cy="2612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blog.autochem.mt.com/wp-content/uploads/2011/03/des3-300x26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4219560"/>
            <a:ext cx="2759040" cy="2390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http://www.scielo.br/img/fbpe/bjce/v18n4/a07fig01.gif"/>
          <p:cNvPicPr/>
          <p:nvPr/>
        </p:nvPicPr>
        <p:blipFill>
          <a:blip r:embed="rId5"/>
          <a:stretch/>
        </p:blipFill>
        <p:spPr>
          <a:xfrm>
            <a:off x="179280" y="1103400"/>
            <a:ext cx="3168720" cy="2760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http://blog.autochem.mt.com/wp-content/uploads/2011/03/des2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646440" y="3370320"/>
            <a:ext cx="1238400" cy="1025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21" name="TextovéPole 4"/>
          <p:cNvSpPr/>
          <p:nvPr/>
        </p:nvSpPr>
        <p:spPr>
          <a:xfrm>
            <a:off x="3635280" y="4359240"/>
            <a:ext cx="1944720" cy="23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 = Growth R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growth const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 = growth o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= Nucleation R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nucleation const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= nucleation o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ΔC = supersatu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Přímá spojnice se šipkou 6"/>
          <p:cNvCxnSpPr/>
          <p:nvPr/>
        </p:nvCxnSpPr>
        <p:spPr>
          <a:xfrm flipH="1">
            <a:off x="1331640" y="2482560"/>
            <a:ext cx="1512000" cy="1080"/>
          </a:xfrm>
          <a:prstGeom prst="straightConnector1">
            <a:avLst/>
          </a:prstGeom>
          <a:ln w="9360">
            <a:solidFill>
              <a:srgbClr val="262699"/>
            </a:solidFill>
            <a:miter/>
            <a:tailEnd len="med" type="arrow" w="med"/>
          </a:ln>
        </p:spPr>
      </p:cxnSp>
      <p:cxnSp>
        <p:nvCxnSpPr>
          <p:cNvPr id="123" name="Přímá spojnice se šipkou 8"/>
          <p:cNvCxnSpPr/>
          <p:nvPr/>
        </p:nvCxnSpPr>
        <p:spPr>
          <a:xfrm>
            <a:off x="1331640" y="2482560"/>
            <a:ext cx="1080" cy="29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TextovéPole 9"/>
          <p:cNvSpPr/>
          <p:nvPr/>
        </p:nvSpPr>
        <p:spPr>
          <a:xfrm>
            <a:off x="5219640" y="3422520"/>
            <a:ext cx="1513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ložka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ovéPole 15"/>
          <p:cNvSpPr/>
          <p:nvPr/>
        </p:nvSpPr>
        <p:spPr>
          <a:xfrm rot="16200000">
            <a:off x="3809520" y="2082960"/>
            <a:ext cx="1511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ložka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ovéPole 10"/>
          <p:cNvSpPr/>
          <p:nvPr/>
        </p:nvSpPr>
        <p:spPr>
          <a:xfrm>
            <a:off x="7740720" y="1112760"/>
            <a:ext cx="1379520" cy="1313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zice hranic se mění s teploto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15" descr="http://pubs.rsc.org/services/images/RSCpubs.ePlatform.Service.FreeContent.ImageService.svc/ImageService/Articleimage/2012/CP/c2cp40703e/c2cp40703e-f1.gif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2840" y="4219560"/>
            <a:ext cx="3238560" cy="1828800"/>
          </a:xfrm>
          <a:prstGeom prst="rect">
            <a:avLst/>
          </a:prstGeom>
          <a:ln w="0">
            <a:noFill/>
          </a:ln>
        </p:spPr>
      </p:pic>
      <p:sp>
        <p:nvSpPr>
          <p:cNvPr id="128" name="TextovéPole 1"/>
          <p:cNvSpPr/>
          <p:nvPr/>
        </p:nvSpPr>
        <p:spPr>
          <a:xfrm>
            <a:off x="6715080" y="125100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Times New Roman"/>
              </a:rPr>
              <a:t>Amorfní (skl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bdélník 2"/>
          <p:cNvSpPr/>
          <p:nvPr/>
        </p:nvSpPr>
        <p:spPr>
          <a:xfrm>
            <a:off x="179280" y="6192720"/>
            <a:ext cx="227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ttp://pubs.rsc.org/en/content/articlehtml/2012/cp/c2cp40703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ovéPole 3"/>
          <p:cNvSpPr/>
          <p:nvPr/>
        </p:nvSpPr>
        <p:spPr>
          <a:xfrm>
            <a:off x="5697360" y="2205000"/>
            <a:ext cx="102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ěstování krystalů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ovéPole 1"/>
          <p:cNvSpPr/>
          <p:nvPr/>
        </p:nvSpPr>
        <p:spPr>
          <a:xfrm>
            <a:off x="293760" y="39434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xtrémní nukl. batié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ovéPole 4"/>
          <p:cNvSpPr/>
          <p:nvPr/>
        </p:nvSpPr>
        <p:spPr>
          <a:xfrm>
            <a:off x="6427800" y="6440400"/>
            <a:ext cx="2592360" cy="337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Stupeň přesycení S=c/c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ovéPole 2"/>
          <p:cNvSpPr/>
          <p:nvPr/>
        </p:nvSpPr>
        <p:spPr>
          <a:xfrm>
            <a:off x="5867280" y="6453360"/>
            <a:ext cx="6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ovéPole 3"/>
          <p:cNvSpPr/>
          <p:nvPr/>
        </p:nvSpPr>
        <p:spPr>
          <a:xfrm>
            <a:off x="671760" y="1112760"/>
            <a:ext cx="23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ložené zárodky rostou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5" name="Přímá spojnice se šipkou 5"/>
          <p:cNvCxnSpPr/>
          <p:nvPr/>
        </p:nvCxnSpPr>
        <p:spPr>
          <a:xfrm>
            <a:off x="2087280" y="1512360"/>
            <a:ext cx="253080" cy="69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6" name="TextovéPole 23"/>
          <p:cNvSpPr/>
          <p:nvPr/>
        </p:nvSpPr>
        <p:spPr>
          <a:xfrm>
            <a:off x="649800" y="168912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uklea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ovéPole 24"/>
          <p:cNvSpPr/>
          <p:nvPr/>
        </p:nvSpPr>
        <p:spPr>
          <a:xfrm>
            <a:off x="1858320" y="273060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tok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Kinetika vzniku tuhé fáze (krystalů) </a:t>
            </a:r>
            <a:br>
              <a:rPr sz="3200"/>
            </a:b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z přesyceného roztoku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9" name="Picture 4" descr="Nucleation&amp;Growth-cropped.jpg"/>
          <p:cNvPicPr/>
          <p:nvPr/>
        </p:nvPicPr>
        <p:blipFill>
          <a:blip r:embed="rId1"/>
          <a:stretch/>
        </p:blipFill>
        <p:spPr>
          <a:xfrm>
            <a:off x="250920" y="1341360"/>
            <a:ext cx="5905440" cy="5403960"/>
          </a:xfrm>
          <a:prstGeom prst="rect">
            <a:avLst/>
          </a:prstGeom>
          <a:ln w="0">
            <a:noFill/>
          </a:ln>
        </p:spPr>
      </p:pic>
      <p:sp>
        <p:nvSpPr>
          <p:cNvPr id="140" name="TextovéPole 3"/>
          <p:cNvSpPr/>
          <p:nvPr/>
        </p:nvSpPr>
        <p:spPr>
          <a:xfrm>
            <a:off x="6588000" y="1163520"/>
            <a:ext cx="2448000" cy="466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íprava nasyceného roztoku při vyšší teplotě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ychlé ochlazení (viz injektac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čátek a konec homogenní nuklea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ůst až do dosažení hranice rozpustnos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rubnutí a sintr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ovéPole 2"/>
          <p:cNvSpPr/>
          <p:nvPr/>
        </p:nvSpPr>
        <p:spPr>
          <a:xfrm>
            <a:off x="4859280" y="1344600"/>
            <a:ext cx="127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le povrchové energ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2" name="Přímá spojnice se šipkou 6"/>
          <p:cNvCxnSpPr/>
          <p:nvPr/>
        </p:nvCxnSpPr>
        <p:spPr>
          <a:xfrm flipH="1">
            <a:off x="3347640" y="2266920"/>
            <a:ext cx="1512000" cy="176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3" name="TextovéPole 9"/>
          <p:cNvSpPr/>
          <p:nvPr/>
        </p:nvSpPr>
        <p:spPr>
          <a:xfrm>
            <a:off x="2568600" y="1805040"/>
            <a:ext cx="12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le difú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4" name="Přímá spojnice se šipkou 8"/>
          <p:cNvCxnSpPr/>
          <p:nvPr/>
        </p:nvCxnSpPr>
        <p:spPr>
          <a:xfrm flipH="1">
            <a:off x="2050560" y="2452320"/>
            <a:ext cx="721440" cy="11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240" y="188640"/>
            <a:ext cx="77706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ychlost transformace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= difúze a nukleac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6" name="Picture 2" descr="https://encrypted-tbn1.gstatic.com/images?q=tbn:ANd9GcS68usU70rDStgLmZS3ICGsnaYqtcPWYJRvCEny-YGjc4S7ZtOH-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5760" y="2060640"/>
            <a:ext cx="8207280" cy="2881080"/>
          </a:xfrm>
          <a:prstGeom prst="rect">
            <a:avLst/>
          </a:prstGeom>
          <a:ln w="0">
            <a:noFill/>
          </a:ln>
        </p:spPr>
      </p:pic>
      <p:sp>
        <p:nvSpPr>
          <p:cNvPr id="147" name="TextovéPole 1"/>
          <p:cNvSpPr/>
          <p:nvPr/>
        </p:nvSpPr>
        <p:spPr>
          <a:xfrm>
            <a:off x="2160720" y="350028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ermodynamická hnací sí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ovéPole 6"/>
          <p:cNvSpPr/>
          <p:nvPr/>
        </p:nvSpPr>
        <p:spPr>
          <a:xfrm>
            <a:off x="552600" y="2416320"/>
            <a:ext cx="110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ukleační barié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9" name="Přímá spojnice se šipkou 3"/>
          <p:cNvCxnSpPr/>
          <p:nvPr/>
        </p:nvCxnSpPr>
        <p:spPr>
          <a:xfrm>
            <a:off x="1305000" y="2720880"/>
            <a:ext cx="18000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0" name="Přímá spojnice se šipkou 8"/>
          <p:cNvCxnSpPr/>
          <p:nvPr/>
        </p:nvCxnSpPr>
        <p:spPr>
          <a:xfrm flipH="1">
            <a:off x="2050200" y="3499920"/>
            <a:ext cx="577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1" name="TextovéPole 1"/>
          <p:cNvSpPr/>
          <p:nvPr/>
        </p:nvSpPr>
        <p:spPr>
          <a:xfrm>
            <a:off x="7812000" y="1403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ychlost difú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ovéPole 10"/>
          <p:cNvSpPr/>
          <p:nvPr/>
        </p:nvSpPr>
        <p:spPr>
          <a:xfrm>
            <a:off x="7350120" y="5229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ychlost nukle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3" name="Přímá spojnice se šipkou 3"/>
          <p:cNvCxnSpPr>
            <a:stCxn id="151" idx="1"/>
          </p:cNvCxnSpPr>
          <p:nvPr/>
        </p:nvCxnSpPr>
        <p:spPr>
          <a:xfrm flipH="1">
            <a:off x="7092360" y="1725480"/>
            <a:ext cx="719640" cy="98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Přímá spojnice se šipkou 5"/>
          <p:cNvCxnSpPr>
            <a:stCxn id="152" idx="1"/>
          </p:cNvCxnSpPr>
          <p:nvPr/>
        </p:nvCxnSpPr>
        <p:spPr>
          <a:xfrm flipV="1">
            <a:off x="7349760" y="3793680"/>
            <a:ext cx="391320" cy="175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5-11T13:49:39Z</dcterms:modified>
  <cp:revision>143</cp:revision>
  <dc:subject/>
  <dc:title>C6730 Fázové rovnováhy</dc:title>
</cp:coreProperties>
</file>