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A702-F023-43E0-A851-A62068BD28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59A-6F4B-464C-872B-7D4EDE6D832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C57-24DA-4713-8928-4AA70034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F29-0EC0-4685-BCC2-D57FB4C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F51-0A35-452A-9CE6-198B81E4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A29-A046-4785-A5C9-7D1B35C8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EB97-FBFF-46F8-AED8-3AE40D00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0411-93F4-4DCC-B60D-DB6A02ED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8337-AA6A-47A4-B670-84F9C645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04E2-8D0F-4E8D-8573-3E958352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B1A-BBEB-4C7B-9FD7-6B2B3C6B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98CB-8A9E-4C01-9AFC-62FD550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625C-9F8D-441C-96F5-8B7FF63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BC9-1BE0-4709-AE13-F233F4FD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0436-8964-4A90-99A7-DC8E7311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0B57-5AB9-4BAE-A2AF-78B1F10E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7A98-BAD1-41C4-8B4F-32509B9C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CA8F-7038-4462-96C2-51FA7FCA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579D-40EA-4ED3-88C4-203E1929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C7C-D643-4D1D-B4BA-3F6C841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6E0-598B-417C-B474-94BDBFBC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ED2-D3F9-4E82-95A1-6C6BAA59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59D-6EB8-41B7-A5E3-6A73E5D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CFA-384B-41FF-98CD-55B2384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C3F-A479-4999-9FFA-33C268A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D37-612A-4597-9BD5-288BE5C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4CC-11DF-4265-8F57-664C202A20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6F9E-F8E1-4D3D-8B38-1410E26D5F4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f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87812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03T10:04:29Z</dcterms:modified>
  <cp:revision>151</cp:revision>
  <dc:subject/>
  <dc:title>C6730 Fázové rovnováhy</dc:title>
</cp:coreProperties>
</file>