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EB594-CAE2-4C09-B1A0-E9D24C366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FEBC6-D75A-4215-8038-CFF22F9CA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57FF3-0512-44C3-A35C-2D2CF2BB2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347CA-A920-4544-8B46-B7C7F38DD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A8B321-A5F3-4738-B5B6-69BFCBBBB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58926-5E30-41ED-97A2-A40EF7910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E9B15-8828-49B6-AB43-182C5210C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94439-9512-4FED-86D6-94C959DA6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19E51-5722-406E-B368-603E2FA26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49264-3A28-4FFA-A8FB-F09C9F48B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762DF-D128-4E18-A55E-EE3582BD6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16554-85B3-46DA-9BA7-7001DF093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17CFF-1DA4-40F0-9525-B31B6D957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C337F-2050-48B5-98E6-68439FA1E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C4CAD-CFB6-4F7C-BEA4-5888171EA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70810-3687-465C-97D7-022B9C3B3F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10CA8-3294-4673-907B-775B6FEA5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1102E-1349-4B01-A9B6-220A4AE7B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0ECBB-5ECA-488E-AD70-FE6B0FEA9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43CD6-E870-41A2-A726-535D4625C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C6ACE-3BE1-46A2-BABE-6A8E77A0C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7BB57-78B3-463D-926C-BECF77B45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9A358-29FA-49FD-A56A-1C28C53EB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4857A-FAF5-4853-A4F6-9EE3C0D52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8517-67C9-4A10-8D35-05A68F624EE8}"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EAE9-9AC4-4BCC-A240-4E06DE896C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6612-89C3-4B30-ACBD-AA6A4316A3C0}"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F820-1E84-474E-A288-8957661CA1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4784-34FD-46AF-B98D-01E473C211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CB81-078E-4F05-B267-F8D40F449D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CC4F-6B69-4F38-881A-12050B525C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B9DA-D75E-4387-A135-BDB6CA2318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12A0-32D8-4F0B-A82B-DC98C1EE08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F08A-D5F0-440D-AF8F-5CC0E011E8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FBAF-E03C-4F7E-8031-590970D5A3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30CD-9CD6-4DDD-B695-A29B2B727CF0}"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5620-1EF7-4AB9-A7D4-12A8375884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3F79-CD61-4B31-8B36-AFF6411E19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A201-8724-4D05-A42C-67BE9EB194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BBE9-62D1-4133-B340-2CD8F47773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7706-01D0-4F4E-8695-2E659EF299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8B85-520A-474E-9636-78EC034E77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DB20-2A50-41B1-BF17-9C00F99442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0295-CE52-4CF5-A267-F6F76A3997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76FD-B68D-4B5A-9E2F-7BCF51358A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D317-1D6D-4F52-97DA-9185CF886A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C530-929F-46B7-B270-BF2D5DC31F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4B27-CC03-4BAF-9E47-7C1AC71316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6702-4D82-4238-843D-1858A61AFA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C232-D3BC-41B1-9884-F950497EE2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E4CC-6711-4FC0-A6C4-87486F9171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24E4-BFD9-4D4C-AC09-DC658B8193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BD85A-B975-4ED8-8A33-21C9433D04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6C69-5355-431A-886A-7CA37FEEF1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3EB6-E727-460C-AAA7-19CF297783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141F-B675-4843-83A4-749D80915C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DF1E-B9AD-4653-9C99-78497C5742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F9BD-BC1B-49D2-93F3-51F9F79FB4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EF65-2AC8-4A4C-B337-C573760C17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45DA-7FAB-4AD0-AC75-6CA2EE77DA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14E7-2DAC-451F-865F-B0E96E6932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F2C5-03C5-4DC0-A59E-43E3AD37D4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3D81-A72A-4D36-8C85-425D1A0334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6D57-4B22-438A-B298-8A8688E938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D74B-B061-4A8E-B645-BBA83B6423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2BD4-F33B-493D-ACF3-C02289F7C7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2BEC-4503-4E19-B993-A95E1915C7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F8F1-97F9-43CE-A7A1-590A200431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E11D-A027-4EFF-80F4-7E4F57AD39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171F-B78F-4300-980B-006A06EDCC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8D2AB-123A-45E7-976F-363D46D9DA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3E8F-0EDD-48DD-9A1F-200BA35210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6CBB-E047-4CF4-981D-50B315C102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FCC3-1B32-41EF-A6D7-23CAFE0DD4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A9EF-4E02-4D5B-B800-6DB0D7EA81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4F37A-8642-4959-BC9A-73EE978616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FF5E-F6C1-4BB8-9457-46C07D7EF0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0-12-15T15:02:35Z</dcterms:modified>
  <cp:revision>306</cp:revision>
  <dc:subject/>
  <dc:title>NMR a energiové hladiny</dc:title>
</cp:coreProperties>
</file>