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8B05A-3D2E-4D81-A754-02AB98940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31F64-6499-45A1-9291-A0C4720BA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C9FDF-0832-4507-8D38-F7DE21618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47556-2FE3-403E-A14F-E57EE09F1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BDC6CD-DDB0-430A-AEE0-AEC7FCA34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E8439-E941-4652-B260-EA3362357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83445-C877-4D0F-8466-51C3E2593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186DB-3D22-4ABD-8DB4-5A0566E6E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2228F-AC38-49A0-8075-93B385A8D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B918C-0515-4AFD-B364-06A16625A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365C1-DD3C-49AD-B47A-DC4DCEE06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095E1-2BA6-41E3-8C21-C3A71B5CC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F1BA2-9397-490F-8DA0-5000E3895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E31D9-010F-4C11-AB03-6369E4D76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6C9F9-950F-4AFD-934E-7F338A663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67020-FD35-4D70-9BFE-CCA042989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D4777-B8C9-4A47-BE9A-156A7B892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DF2DB-1DD4-475E-9D50-5680FF49D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F3196-545E-4027-81A2-F8647AA18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0661A-81BB-4E74-A570-545A3CBE4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9258F-1140-41F7-A1BB-B72285819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8AF48-EBDD-4D7B-83DC-088890ACE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D728A-F080-436F-9D3D-696EBA71F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4FC61-4A59-4452-8E35-BCCBCF342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69EE-77F6-4562-A6E6-EEC254A1E3ED}"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7C94-3940-4DF1-8639-C01BD7A652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9893-C733-4B62-BEF2-142BD6BF0E9A}"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1759-4236-4FEB-A025-27160F9E3A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5223-397D-4C7E-BD00-7C2D174C00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A4A1-F21F-446C-BE7F-2D0520AA22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428CB-97C7-4875-923C-2FF9138DF4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4AAB2-C052-446D-A174-6AA14C09E6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B77D-1725-40BC-BED8-9BC9F0192E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A80AE-4281-4C7C-B6A0-5E2C848460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7131-8BA8-426D-AE8F-29963C54E9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92F2-C34B-406D-BAE7-2AD3498F52DC}"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523E8-3EFB-4118-9D99-6886AC2A2F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E18C-E173-4542-A77A-CFE4F0CEB1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E083-392E-493F-8E31-64CCE5857A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762A-4A0A-4A95-AA56-EC5EFB245D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3BB3-06C1-4F46-BEFD-739D4C542A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C545-F79C-422B-BF1C-7B43C4243E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AAC3-2FEF-4693-8043-97C76AF1CF3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6A37-F1B7-4795-8F6B-30E4CE283F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FD2F-E91A-40BC-B7E6-2B1E7C8053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4885-6E5F-48C7-AC6B-F4A9B8C7D2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09E9-2298-47E9-9718-BF2B3DA2AB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D00EB-6D7B-42B1-A541-E07B87D9E7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8286-77E2-44D3-A9E2-6C404A7F32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F0E8-5B9E-4E08-8FE0-4C1D1E58A4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4D0E-4117-449B-9817-4BD10C29EC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346D-EBA7-4E42-B74D-7F9C1D7E22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02DB-C35D-4766-B4D5-A270EBBDA9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CF784-CC92-4757-B25E-6058FD2B41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8BA83-CAD8-4F3F-96C7-32A4517308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7B9D7-E28E-4CD8-8866-FD0A826AD3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012F-0E5D-441C-9AF0-09EACB00E1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325CA-E9DE-42DD-BD8A-314531D1F9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AF84-DD60-434E-BCBC-F0B8676A0E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8E437-3A2E-4168-8630-F08BF3C026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EB6C-ED1D-46FE-9FAE-23D43CF586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FC34-D258-4CCB-A3F8-085ABC7295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C9CB-8073-44BB-8133-F50696AB10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14A79-A9DB-41CD-AFA6-46F789F9B6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638E1-3342-49AA-A858-5D5DC66FB5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DCDF-17A2-4E44-85F0-8B7FCDDED9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F2B2-BE3B-4EA5-A141-17697F6CA5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B589-5844-4A02-839C-54F3FA6E04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BFC9-B2D9-40EB-97EE-D61A9772DF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CD8C-98DA-4ECE-BC24-9B90543B7D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54330-70CD-4B26-A8D0-26C3AB5E5F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96DBC-4BFE-4E40-B5B1-AA8ED4FF52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8391-4627-4582-B018-B8A2BA7442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A297-F412-49FF-88F8-0267B32B67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5A27-2B33-4EC9-AF1E-97229F6773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7F94-CB20-40BF-BFB0-EFDA3559DB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20AF-744E-467E-AE72-A0D274E74B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0-12-15T15:02:35Z</dcterms:modified>
  <cp:revision>306</cp:revision>
  <dc:subject/>
  <dc:title>NMR a energiové hladiny</dc:title>
</cp:coreProperties>
</file>