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8FD-86A0-454E-B961-99A09165EB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6825-E3C3-4F6A-8814-CE081969BBD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FAD-1DAA-405C-837D-D4CD14D6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D01-84BD-402E-8CB4-52C0C8E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A21-11C4-492E-995B-02E5E5C1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1CB-A23B-4AB1-AF39-51EE13AC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D14-BF77-470C-B99D-96272AD3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2D4-EAFF-4C47-B444-207C99F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A3D-D4AE-4358-9FF8-8D750EF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9624-20EF-45C4-94FD-FEFD9CE2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F0DB-F2B6-403C-83DB-1509A72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C45-72A0-42D1-B406-54937ED4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36D7-9BA3-49BF-BD43-EEAC4C3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8CE-A55D-48C0-85F6-30147A3A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677-CC08-42B5-AB03-C254E1F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F7FA-5CD1-4339-9386-6C4A8A6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0E2-5C0A-4F94-8180-AC1D4EAB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AD1-01F5-4035-AF55-C24E946D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B323-9150-4F0D-999E-1E5E7DF3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EB9-E62A-459B-A347-68EB80D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122-5466-4A16-9CB0-EB54A701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82C-6EE5-4972-88CA-51A8CC9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281-7D90-4ECA-9693-A7AF6D95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2C6-49B2-408D-836B-F968A23F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7C7-1CAB-4F9C-AD05-D6ED815D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72B-ACDB-480C-B022-C8BAED1E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28B-93EA-46AD-BC47-B3F5B2ED37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84E5-0BCD-4B84-BF2D-F3F457FD34E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f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03T10:04:29Z</dcterms:modified>
  <cp:revision>151</cp:revision>
  <dc:subject/>
  <dc:title>C6730 Fázové rovnováhy</dc:title>
</cp:coreProperties>
</file>