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8152-842E-40BE-8253-DB49F582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C699-EE70-4D0E-A046-F162E3FA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4FB7-F900-47F8-B144-72266EA8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45C7-0D6D-4CE1-8E00-99FD00F2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9D27-7E68-48AE-842D-43FE893D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35DB-4CFE-4660-83B5-81990192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4F94-7877-477E-9290-F1738A19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892F-51AC-4F69-B44E-1AEA20F9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8ACC-FE56-41BF-896E-BAA5BAD3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620B-CEB2-4CFD-ACEE-4001DC8B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9F72-E274-49AF-B7CD-D3B0D921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992B-D30F-48AA-A5EB-7A46C559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5FF2-ECFC-4316-84A0-E57C89FCC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10920" y="691920"/>
            <a:ext cx="80643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íl práce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novení antiborreliových protilátek v lidském sé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teriál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nifikovaný celobuněčný antigen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Borrelia garini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kit na stanovení koncentrace proteinů (Biorad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bumin, kasein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krotitrační destička, ELISA reader, pipety, roztoky (fyziologický, vazebný, promývací,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7931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vazování antigenu na destič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o každé jamky mikrotitrační destičky 2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etanolu, inkubace při laboratorní teplotě 2 h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 uplynutí stanovené doby odsátí etanolu a 3x promytí 2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destilované vody na každou jam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anovení koncentrace antig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kalibrační křivka naředěním albuminu ve fyziologickém roztoku (koncentrace: 2 mg/ml, 1,5  mg/ml, 1 mg/ml, 0,5 mg /ml, 0,1 mg/m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 triplikátech 5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vzorku/standardu + 25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roztoku A + 2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roztoku B, měření absorbance při 700 n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osazení hodnot do (lineární) kalibrační křivky a vypočítání koncentraci proteinů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Borrelia garini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vazování antigenu na destič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zředění Ag na koncentraci 2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/ml vazebným (karbonátovým) roztokem, 1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do každé jamky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inkubace přes noc v lednici (4°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ruhý den odsátí obsahu jamek a 3x promytí promývacím roztokem (2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/jamku), oklepání destičky a osch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ysycení zbylé plochy na plastu, kde není navázán Ag, do každé jamky 1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vazebného roztoku s rozpuštěným kaseinem (3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inkubace při laboratorní teplotě 2 hodi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odsátí, promytí každé jamky 2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promývacího roztoku (3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astn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L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Naředit vyšetřovaná séra 1: 200 blokovacím roztokem. Rozvrhnout si umístění vyšetřovaných sér na destičce. Ředěná séra pipetovat v množství 1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/jam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estičku s naředěnými séry a dobře těsnícím víčkem vložit do termostatu a inkubovat při 37 °C/1 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 uplynutí stanovené doby destičku vyjmout z termostatu, odsát roztoky v jamkách. Promýt 3x promývacím roztokem (cca 2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/jamku) a mírným poklepem odstranit zbytky kapaliny do čistého filtračního papí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o všech jamek nanést 1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konjugátu naředěného blokovacím roztokem 1:1000. Inkubovat při 37 °C/1 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Nyní připravit substrátový roztok s chromogenem a substrátem v množství 1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na každou jamku: 15 ml substrátového roztoku + 7,5 mg OPD + 7,5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H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H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musí být co nejčerstvější! Musí se uchovávat v chladu a ve tmě. Také OPD je nutno chránit před světl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 této fázi už se nesmí obsahy jamek odsávat. Destičku i s víčkem nechat v temnu minimálně 10 min. při laboratorní teplotě. Během této doby se vyvíjí barva v jamkách. Po uplynutí stanovené doby reakci zastavit přidáním 1M H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5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/jamku). Nejlépe ihned měřit při 492 nm na ELISA-reader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21:51:45Z</dcterms:created>
  <dc:creator>user</dc:creator>
  <dc:description/>
  <dc:language>en-US</dc:language>
  <cp:lastModifiedBy>User</cp:lastModifiedBy>
  <dcterms:modified xsi:type="dcterms:W3CDTF">2009-02-06T16:31:47Z</dcterms:modified>
  <cp:revision>5</cp:revision>
  <dc:subject/>
  <dc:title>Snímek 1</dc:title>
</cp:coreProperties>
</file>