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6486-4709-4E74-A230-C0780F6A4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3A38-47C2-4F76-AB7A-EB298ECB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65CB-0635-4434-BE80-2B93F81FC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3746-B76F-419B-ACF5-574142504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2568-AFF3-4BD3-8474-877D5739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B6F3-6332-4E63-9798-DD467418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1511-C8CA-4813-9C32-20102CB3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3E86-B4DE-43C9-8BCF-9E64C4F1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384E-2F5D-44C7-8804-7101CB03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7094-DD29-4CBD-A11A-BE6D5D60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1D32-C03F-4FDA-87D9-33184325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BE7B-F239-4F8E-913D-9793302D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F045-CD22-4272-A60F-E66BD7D91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10920" y="691920"/>
            <a:ext cx="80643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EL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íl práce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novení antiborreliových protilátek v lidském sé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teriál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nifikovaný celobuněčný antigen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Borrelia garini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kit na stanovení koncentrace proteinů (Biorad)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bumin, kasein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krotitrační destička, ELISA reader, pipety, roztoky (fyziologický, vazebný, promývací,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6840" y="333360"/>
            <a:ext cx="79311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avazování antigenu na destič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do každé jamky mikrotitrační destičky 20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 etanolu, inkubace při laboratorní teplotě 2 hod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o uplynutí stanovené doby odsátí etanolu a 3x promytí 20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 destilované vody na každou jamk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anovení koncentrace antig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kalibrační křivka naředěním albuminu ve fyziologickém roztoku (koncentrace: 2 mg/ml, 1,5  mg/ml, 1 mg/ml, 0,5 mg /ml, 0,1 mg/m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v triplikátech 5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 vzorku/standardu + 25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 roztoku A + 20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 roztoku B, měření absorbance při 700 n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dosazení hodnot do (lineární) kalibrační křivky a vypočítání koncentraci proteinů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Borrelia garini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avazování antigenu na destič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zředění Ag na koncentraci 2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/ml vazebným (karbonátovým) roztokem, 10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 do každé jamky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inkubace přes noc v lednici (4°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druhý den odsátí obsahu jamek a 3x promytí promývacím roztokem (20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/jamku), oklepání destičky a oschnu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vysycení zbylé plochy na plastu, kde není navázán Ag, do každé jamky 10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 vazebného roztoku s rozpuštěným kaseinem (3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inkubace při laboratorní teplotě 2 hodi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odsátí, promytí každé jamky 20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 promývacího roztoku (3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lastn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LI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Naředit vyšetřovaná séra 1: 200 blokovacím roztokem. Rozvrhnout si umístění vyšetřovaných sér na destičce. Ředěná séra pipetovat v množství 10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/jamk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Destičku s naředěnými séry a dobře těsnícím víčkem vložit do termostatu a inkubovat při 37 °C/1 h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o uplynutí stanovené doby destičku vyjmout z termostatu, odsát roztoky v jamkách. Promýt 3x promývacím roztokem (cca 20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/jamku) a mírným poklepem odstranit zbytky kapaliny do čistého filtračního papír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Do všech jamek nanést 10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 konjugátu naředěného blokovacím roztokem 1:1000. Inkubovat při 37 °C/1 h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Nyní připravit substrátový roztok s chromogenem a substrátem v množství 10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 na každou jamku: 15 ml substrátového roztoku + 7,5 mg OPD + 7,5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 H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H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musí být co nejčerstvější! Musí se uchovávat v chladu a ve tmě. Také OPD je nutno chránit před světle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V této fázi už se nesmí obsahy jamek odsávat. Destičku i s víčkem nechat v temnu minimálně 10 min. při laboratorní teplotě. Během této doby se vyvíjí barva v jamkách. Po uplynutí stanovené doby reakci zastavit přidáním 1M H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5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/jamku). Nejlépe ihned měřit při 492 nm na ELISA-reader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21:51:45Z</dcterms:created>
  <dc:creator>user</dc:creator>
  <dc:description/>
  <dc:language>en-US</dc:language>
  <cp:lastModifiedBy>User</cp:lastModifiedBy>
  <dcterms:modified xsi:type="dcterms:W3CDTF">2009-02-06T16:31:47Z</dcterms:modified>
  <cp:revision>5</cp:revision>
  <dc:subject/>
  <dc:title>Snímek 1</dc:title>
</cp:coreProperties>
</file>