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D7D-601A-4D74-B084-792980CD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0F1-2B9F-479A-ACE4-6618D91C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22B-F59E-4B8C-8C11-1AD35D44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C91-4247-40E7-8FDE-E128FB79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814-3E3E-4E52-BC29-B69E25B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75B-DB4E-4F8B-8D77-B146B63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756-6CA4-4503-B6C4-249E3222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3CE-2A6A-47AC-9266-E665FD11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5FE-FA60-4747-A672-45839A99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880-67F7-49DC-9F97-EC53BCF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AD6-CA0A-45F6-BA73-2AC70DB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992-3712-49C1-B3BF-865E904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4B6-F22F-4076-BAE2-408DC7C4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 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ntiborreliových protilátek v lidském sé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eriál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nifikovaný celobuněčný antige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it na stanovení koncentrace proteinů (Biorad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umin, kasei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itrační destička, ELISA reader, pipety, roztoky (fyziologický, vazebný, promývací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každé jamky mikrotitrační destič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etanolu, inkubace při laboratorní teplotě 2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odsátí etanolu a 3x promytí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estilované vody na každou 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novení koncentrace antig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alibrační křivka naředěním albuminu ve fyziologickém roztoku (koncentrace: 2 mg/ml, 1,5  mg/ml, 1 mg/ml, 0,5 mg /ml, 0,1 mg/m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triplikátech 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zorku/standardu + 2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A +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B, měření absorbance při 700 n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sazení hodnot do (lineární) kalibrační křivky a vypočítání koncentraci protein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ředění Ag na koncentraci 2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/ml vazebným (karbonátovým) roztokem,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o každé jamk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es noc v lednici (4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ý den odsátí obsahu jamek a 3x promytí promývacím roztokem (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, oklepání destičky a osch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sycení zbylé plochy na plastu, kde není navázán Ag, do každé jamky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azebného roztoku s rozpuštěným kaseinem (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i laboratorní teplotě 2 hod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dsátí, promytí každé jam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promývacího roztoku (3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st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ředit vyšetřovaná séra 1: 200 blokovacím roztokem. Rozvrhnout si umístění vyšetřovaných sér na destičce. Ředěná séra pipetovat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stičku s naředěnými séry a dobře těsnícím víčkem vložit do termostatu a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destičku vyjmout z termostatu, odsát roztoky v jamkách. Promýt 3x promývacím roztokem (cca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 a mírným poklepem odstranit zbytky kapaliny do čistého filtračního papí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všech jamek nanést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konjugátu naředěného blokovacím roztokem 1:1000.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yní připravit substrátový roztok s chromogenem a substrátem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na každou jamku: 15 ml substrátového roztoku + 7,5 mg OPD + 7,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usí být co nejčerstvější! Musí se uchovávat v chladu a ve tmě. Také OPD je nutno chránit před světl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 této fázi už se nesmí obsahy jamek odsávat. Destičku i s víčkem nechat v temnu minimálně 10 min. při laboratorní teplotě. Během této doby se vyvíjí barva v jamkách. Po uplynutí stanovené doby reakci zastavit přidáním 1M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5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. Nejlépe ihned měřit při 492 nm na ELISA-reade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1:51:45Z</dcterms:created>
  <dc:creator>user</dc:creator>
  <dc:description/>
  <dc:language>en-US</dc:language>
  <cp:lastModifiedBy>User</cp:lastModifiedBy>
  <dcterms:modified xsi:type="dcterms:W3CDTF">2009-02-06T16:31:47Z</dcterms:modified>
  <cp:revision>5</cp:revision>
  <dc:subject/>
  <dc:title>Snímek 1</dc:title>
</cp:coreProperties>
</file>