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701-6225-48F7-9E08-2DFD695B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DAA-288B-46EA-9559-CB64726D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534-ED08-4FC0-A325-D95F963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BA6-A4B9-44BD-AC6A-D0EE1105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73A0-3724-40B2-82F4-7B7BC1A2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3ACF-DDC1-4228-A7C5-285E9309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56D3-BA71-4157-805A-6493EA3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AFA1-8232-47D2-9015-7BDA386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A779-5683-4285-9D8E-F671C597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756-30A0-4AF4-9FBA-50AF8A60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C558-4552-4EBA-B62B-3E9A47E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8BC-F196-4E93-8051-DCBFC471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5458-7B7A-4141-A264-FB919509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B663-A847-485A-AAB2-331A9B0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031-0484-4F63-9822-33B4AFB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464-6CE3-4E9F-BD9A-46B837D1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B889-5710-479A-B18B-75BB007F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620-E171-4D89-B178-50649AC7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696-128A-45D6-9024-7448883A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015-29F0-40AA-BF51-9DF5CA3C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FB0-B788-435A-8FB2-879785C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6A4-058F-4EF5-AE66-886C330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E0A-362D-4EAA-8C15-1A647922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9D7-925F-4B7E-AB9B-DFC8A8E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A12-4FC2-48CD-8177-74866581C06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ADE-4809-4899-8721-4CA4BAB6845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karlin.mff.cuni.cz/~kulich/vyuka/Rdoc/uvodr.pdf" TargetMode="External"/><Relationship Id="rId2" Type="http://schemas.openxmlformats.org/officeDocument/2006/relationships/hyperlink" Target="http://www.karlin.mff.cuni.cz/~kulich/vyuka/Rdoc/index.html" TargetMode="External"/><Relationship Id="rId3" Type="http://schemas.openxmlformats.org/officeDocument/2006/relationships/hyperlink" Target="http://www.karlin.mff.cuni.cz/~kulich/vyuka/Rdoc/index.html" TargetMode="External"/><Relationship Id="rId4" Type="http://schemas.openxmlformats.org/officeDocument/2006/relationships/hyperlink" Target="http://www.karlin.mff.cuni.cz/~kulich/vyuka/Rdoc/index.html" TargetMode="External"/><Relationship Id="rId5" Type="http://schemas.openxmlformats.org/officeDocument/2006/relationships/hyperlink" Target="http://www.karlin.mff.cuni.cz/~kulich/vyuka/Rdoc/index.html" TargetMode="External"/><Relationship Id="rId6" Type="http://schemas.openxmlformats.org/officeDocument/2006/relationships/hyperlink" Target="http://www.karlin.mff.cuni.cz/~kulich/vyuka/Rdoc/index.html" TargetMode="External"/><Relationship Id="rId7" Type="http://schemas.openxmlformats.org/officeDocument/2006/relationships/hyperlink" Target="http://www.karlin.mff.cuni.cz/~kulich/vyuka/Rdoc/index.html" TargetMode="External"/><Relationship Id="rId8" Type="http://schemas.openxmlformats.org/officeDocument/2006/relationships/hyperlink" Target="http://www.r-project.org/doc/bib/R-publications.html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Úvod do softwaru 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dat na PC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zi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4653000"/>
            <a:ext cx="345780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3068640"/>
            <a:ext cx="525636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Načtení script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v externím textovém editoru (Notepad, WinEdit,....), přípona.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bo t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é v rámci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v rámci 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w script (open scr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é procedury (pozdě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uštění částí kódu: ppravé tlačítko myši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un line or selection  (nebo Ctrl-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vorba objekt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ázvy proměnných - rozlišují se velká a malá písmena (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X,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- dva různé objek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řadíme názvu proměnné hodnot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x&lt;-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řadíme názvu proměnné  hodnot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z&lt;-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nebo tak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z&lt;-x^2+abs(z)/cos(2)+pi-exp(1)*log(8)+log10(8)/sqrt(1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tvoření vektor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v&lt;-c(1,2,3,5,6,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-tý prvek vektoru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v[k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Tvorba objektů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II.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+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á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 s objek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tvoření matice 3x4, která má všechny prvky nulové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&lt;-matrix(0,3,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vek v prvním řádku a druhém sloupci je překvapivě nula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[1,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sloupnost od jedné do deseti, skok=0.5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posloupnost&lt;-seq(1,10,by=0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chop objekt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ttach(objek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maž objekt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m(objek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iš seznam existujících objektů 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s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iš seznam existujících objektů + některé další informace 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s.str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ové typ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numerický ( speciální numerické hodnoty: Inf, -Inf, NaN = Not A Numb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znakový ("Toto je řetězec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komplex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logický (TRUE, FAL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objektu Oo zjistíme pomocí funkce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mode(O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ybějící hodnoty jsou reprezentovány kódem: </a:t>
            </a:r>
            <a:r>
              <a:rPr b="1" lang="cs-CZ" sz="3000" spc="-1" strike="noStrike">
                <a:solidFill>
                  <a:srgbClr val="006633"/>
                </a:solidFill>
                <a:latin typeface="Arial"/>
              </a:rPr>
              <a:t>N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= Not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ové struktu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ktor (ve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tice (matr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le (arr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tová tabulka (data fr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znam (l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 (fa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atové struktury objektu Oo zjistíme pomocí funkce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is(O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krétní dotaz: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 is.numeric(Oo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podobně pro ostatní datové strukt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čítání s vek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 vektory lze počítat, jako by to byla obyčejná čísla (mají-li vektory stejnou délku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BM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weight&lt;-c(60,72,57,90,95,7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height&lt;-c(1.75,1.8,1.65,1.9,1.74,1.9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bmi&lt;-weight/height^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b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délky vektoru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ength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ementární vektorové funk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um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min(weight), max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mean(weight), median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var(weight), quantile(weight,c(0.3,0.5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cumsum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áce s maticem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matice z vektoru: např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&lt;-matrix(c(1,2,3,4,5,6),2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tice lze transponovat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tr&lt;-t(mati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tice lze násobit (pozor na rozměry!)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%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%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čítat a násobit skalárem...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ubmatice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a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2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ub&lt;-matice[1:2,1: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jování matic - "slepujeme sloupce"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cbind(a,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jování matic - "slepujeme řádky"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bind(a,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íklad: Násobení mati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&lt;-matrix(2,2,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&lt;-matrix(3,2,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 se liší tyto dva druhy násobení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*matice2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násobení slož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%*%matice2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„klasické“ násobení mat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 rozměrné pole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ole&lt;-array(1:24,c(3,2,4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dimenze pole?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dim(po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vek pole (analogicky jako v případě vektoru a matice)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ole[1,2,3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rstva pole (analogicky jako v případě matice)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ole[1,,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rakteristik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komerční, volně šířitelný statistický softw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ialekt Splus, objektově orientovaný jazyk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ládání z příkazové řádky, otevřený zdrojový kó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žnost tvorby vlastních procedu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 Unix i Window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e stažení na adrese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http://cran.at.r-project.org/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(zde zdrojový i zkompilovaný kód)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datečné knihovny také na adrese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http://www.bioconductor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zn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oření seznamu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&lt;list(vek=45,mereni=c(1,1,2),ok=c(TRUE,TRUE,FALSE),znaky=c(rep("+",3)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stup ke složkám jménem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$vek, pacient$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stup ke složkám pořadím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[[1]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stup k prvkům složek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$ok[3], pacient[[3]][3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ména složek seznamu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names(paci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ová tabul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ální případ sezna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ky jsou vektory různého typu, ale stejné dé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becněná matice, řádky = pozorování, sloupce = velič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datové tabulky: 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lovek&lt;-data.frame(x1=c(rep(1,8),rep(0,8)),pohl=rep(c("Muz","Zena"),c(8,8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vy položek datové tabulky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names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jednotlivým položkám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lovek$pohl, clovek$pohl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datová tabulka je nyní aktivní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attach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jednotlivým položkám (nyní nepotřebujeme $):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pohl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áce s datovou tabulkou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detach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jmenová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names(clovek)[1]&lt;-"pohl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rava dat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lovek$pohl1[3]&lt;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datová tabulka?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is.data.frame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k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eciální případ znakového vekt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á atribut "úroveň"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ev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oření faktor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vek_kat&lt;-  factor(rep(c(0,1,2),c(4,5,6)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is úrovní: 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evels(vek_k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měna úrovní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evels(vek_kat)&lt;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c("dítě","dospělý",„senior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faktor?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is.factor(vek_k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zdělení - </a:t>
            </a:r>
            <a:r>
              <a:rPr b="1" lang="en-US" sz="4100" spc="-1" strike="noStrike">
                <a:solidFill>
                  <a:srgbClr val="006633"/>
                </a:solidFill>
                <a:latin typeface="Garamond"/>
              </a:rPr>
              <a:t>Normální rozdělení: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hustota, x - kvantil:  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dnorm(x, mean=0, sd=1, log = FALS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disribuční funkce,q - kvantil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pnorm(q, mean=0, sd=1, lower.tail = TRUE, log.p = FALS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kvantily, p-pravděp.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qnorm(p, mean=0, sd=1, lower.tail = TRUE, log.p = FALS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generování náhodných výběrů, n - rozsah výběru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rnorm(n, mean=0, sd=1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zdělení – př. </a:t>
            </a:r>
            <a:r>
              <a:rPr b="1" lang="en-US" sz="4100" spc="-1" strike="noStrike">
                <a:solidFill>
                  <a:srgbClr val="006633"/>
                </a:solidFill>
                <a:latin typeface="Garamond"/>
              </a:rPr>
              <a:t>Studentovo rozdělení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df - stupně vo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dt(x, df, ncp=0, log = 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pt(q, df, ncp=0, lower.tail = TRUE, log.p = 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qt(p, df,        lower.tail = TRUE, log.p = 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rt(n, d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5516640"/>
            <a:ext cx="2808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4797360"/>
            <a:ext cx="223380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brázky a graf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reslíme graf: příkaz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á velké množství parametrů pro nastavení: barvy, bodů, popisu os... et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&lt;-seq(-3,3,by=0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d&lt;-dnor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(s,d, main="Hustota N(0,1) a T(5)",col="red", type="p", xlab="kvantily„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stávajícího grafu dokreslujeme další funk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t&lt;-dt(s,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lines(s,t,type="l",col="blue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ložení obrázku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ave a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listování mezi obrázky je nutné průběžné ukládání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record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brázky a graf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st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x&lt;-rnorm(1000,0,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hist(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x-plo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boxplot(x, notch=TRUE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y&lt;-rnorm(1000,1,1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r&lt;-c(x,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nula&lt;- matrix(0,1,1000)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jedna&lt;-matrix(1,1,100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group&lt;-c(nula,jedn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group&lt;-c(rep(0,1000),rep(1,1000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boxplot(r~group, col="yellow"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: t-test  -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X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je náhodný výběr z N(0,1) nezávislý s 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náhodným výběrem z N(1,1). Testujte H0 o shodnosti středních hod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test&lt;-t.test(x, y , alternative = c("two.sided", "less", "greater"), mu = 0, paired = FALSE, var.equal = FALSE,conf.level = 0.95,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is pouze jednoho výstup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test$p.value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test$statistic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t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p j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bjekt typu seznam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2349360"/>
            <a:ext cx="460872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vorba vlastních procedu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externím textovém editoru (Notepad, WinEdit,....), přípona.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bo ta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é v rámci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w script (open scri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mojeprocedura&lt;-function(vstup1, vstup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{  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vysledek&lt;-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turn(vysled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rint(vysledek)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76360" y="1989000"/>
            <a:ext cx="309564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vorba vlastních procedu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I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čtení do prostředí R: viz. načtení vlastní procedury přes f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rce R Code nebo z příkazové řádky pomocí příkazu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ource("D:/Rko/mojeprocedura.r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 z procedury(funkc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lání procedury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mojeprocedura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entáře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# bla bla bla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 je od křížku až do konce řádku, to zůstává komentáře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ecti&lt;-function(x,y=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{s&lt;-x+y, return(s)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lání procedury např.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oucet1&lt;-secti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oucet2&lt;-secti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ybrané knihov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ega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 balík pro modelování v ekolog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epi, epitool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 nástroje pro epidemiolog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rvival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balík pro analýzu přeži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re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- klasifikační a regresní stro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serie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- časové ř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gc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 GAM - zobecněné aditivní mod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bioconductor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- soubor balíků pro analýzu Microarray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ntrolní příkazy a smyč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condifion) {express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condifion) {expression1}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{expression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condifion) {express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condifion) {expression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fel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ec.condifion,vec.expr1,vec.expr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 Kódování proměn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n&lt;-length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xx&lt;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for (i in 1:n) { if (x[i]&gt;=0)  {xx[i]&lt;-1 } else {xx[i]&lt;- 0  } 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: 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=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ovná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!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rovná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&amp;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zá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ybějící pozor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ybějící pozorování jsou reprezentovány kódem 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NA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NA&lt;-read.table("trees_NA.txt", header=TRUE, sep=" ", dec=".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attach(t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is.na(H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um(H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um(Height,na.rm=TR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ární modely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odel1&lt;-lm(zavisle~nezavisle1+nezavisle2*nezavisle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robnější výpis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ummary(model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gresní diagnostiky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plot(model1, ask=TR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odel2&lt;-update(model, .~.-nezavisle2 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stování podmodel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nova(model1,model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obecněný lineární mode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glm(zavisle~nezavisle, family="binomial"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nalýza rozptylu - jednoduché třídění 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nova(lm(zavisle~kategorie)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oneway(zavisle~katego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íklad: Lineární mode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library(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data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ummary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attach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cor(Bwt, Hwt, method = "spearman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linmodel&lt;-lm(Bwt~Hwt*Se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ummary(lin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(resid(linmodel)~Hwt,data=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abline(h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coef(lin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glmmodel&lt;-glm(Sex~Bwt, family="binomial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ummary(glmmodel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onec pr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á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e a 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uložení obrázků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is objektů, které máme momentálně v pracovním prostoru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s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končení práce s programem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q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ložení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r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ázků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avePlot(filename = "Rplot", type = c("wmf", "emf", "png", "jpeg", "jpg", "bmp", "ps", "eps", "pdf"), device = dev.cur(), restoreConsole = TRU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ložení dat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 formátu .Rdat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ave(data, file="data.Rdata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o textový soubor (množství parametrů stejné jako při načítaní dat)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rite.table(data, file="data.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txt”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,append=FAL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rite.table(data, file="data.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txt”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,append=TR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rite.csv2(data, file= ="data.csv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”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l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ší literatura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čební tex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l Kulich: R pro samou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ky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karlin.mff.cuni.cz/~kulich/vyuka/Rdoc/uvodr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 odkazy na další anglicky psan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karlin.mff.cuni.cz/~kulich/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vyuka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/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Rdoc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/index.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publ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http://www.r-project.org/doc/bib/R-publication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Cha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.J.Hastie(eds.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tatistical models in 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hap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HALL/CRC, 199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mnoho dalších… (Springer: edice use 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3573360"/>
            <a:ext cx="75614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alac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lasicky (setup.exe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instalování dalších knihoven: zkompilovanou knihovnu nakopírovat do adresář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/library, nebo přidat přes Packag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al package(s) from C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5640" y="2205000"/>
            <a:ext cx="338472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437000"/>
            <a:ext cx="4969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volání knihov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znam knihoven: hel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Pack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nihovnu už musíme mít nainstalovan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l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ibrary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(nazevknihov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př.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ibrary(MAS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bo volíme: packag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Load Pack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1628640"/>
            <a:ext cx="7632720" cy="28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ápověd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 Html Help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Packages + Search Engine &amp; Keywords, Search Engine vyžaduje Javu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puštění hypertextového helpu z příkazové řádk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help.start()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informace o konkrétní proceduře - příkazový řádek: např: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help(media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psání zdrojového kódu procedury: pouze název procedu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medi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pletní manuály ke stažení na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http://www.r-project.org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iha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eter Dalgaar: Introductory Statistics with R, Springer 20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492280"/>
            <a:ext cx="3745080" cy="50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724280"/>
            <a:ext cx="3527640" cy="433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čínáme s prac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stavení pracovního adresáře (zde se ukládají a vyhledávají soubory dat a výsledků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nge 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z příkazového řádku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etwd(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.....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”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jištění aktuálního nastavení pracovního adresáře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getwd(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.....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”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čtení vlastní procedury ve formátu procedura.r : Fi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Source R co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z příkazového řádku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ource(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989000"/>
            <a:ext cx="403236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Načtení dat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atový formát soubor.Rdata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l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Load Work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z příkazového řádku 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load(file, envir = parent.frame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oad("D:/Rko/mammals2.Rdata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textový soubor soubor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ta ve sloupcích, sloupce oddělené mezerou, sloupce nemají jména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ead.table(file, header = FALSE, sep = "", quote = "\"'", dec =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“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: data ve sloupcích, sloupce oddělené mezerou, sloupce mají jmén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ead.table("mammals1.txt",header=TRUE,sep=" ",dec=".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Načtení dat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I.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xtový soubor, další předdefinované formá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csv(file, header = TRUE, sep = ",", quote="\"", dec="."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csv2(file, header = TRUE, sep = ";", quote="\"", dec=","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delim(file, header = TRUE, sep = "\t", quote="\"", dec=".", 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delim2(file, header = TRUE, sep = "\t", quote="\"", dec=",", 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 uložena v Clipboa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table("clipboard",header=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26:21Z</dcterms:created>
  <dc:creator>uzivatel</dc:creator>
  <dc:description/>
  <dc:language>en-US</dc:language>
  <cp:lastModifiedBy>Vašík</cp:lastModifiedBy>
  <dcterms:modified xsi:type="dcterms:W3CDTF">2009-09-26T16:10:21Z</dcterms:modified>
  <cp:revision>223</cp:revision>
  <dc:subject/>
  <dc:title>Úvod do softwaru R</dc:title>
</cp:coreProperties>
</file>