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F787-AD42-4682-BB69-F99231A59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6FB3-E547-4C23-B06A-1178FD03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8833-2ED0-4EC4-A92F-B35B90979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48CA-A2CA-4E71-AED3-62C49537F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5E49-A3DA-4095-A840-3349757C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7E27-3475-4E06-9E3E-1FBCB3A7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CE5A-FC3D-4558-A031-5B799A08A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80FF-3100-4305-8D4F-2126DBC4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5682-616E-4C4A-BB31-079867CD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8C33-02BC-4DBB-9607-1819D9B8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8E60-1AE9-40EF-B860-765F6327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8B33-E4F4-4979-AC6E-C445255E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4F42-43D9-4BDC-97F0-9BF871A48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11:35:35Z</dcterms:created>
  <dc:creator>Jiří Jarkovský</dc:creator>
  <dc:description/>
  <dc:language>en-US</dc:language>
  <cp:lastModifiedBy>Jiří Jarkovský</cp:lastModifiedBy>
  <dcterms:modified xsi:type="dcterms:W3CDTF">2005-09-20T11:40:03Z</dcterms:modified>
  <cp:revision>6</cp:revision>
  <dc:subject/>
  <dc:title>Snímek 1</dc:title>
</cp:coreProperties>
</file>