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CEE-9AE1-4D74-9FCD-AB5864C7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E36-C0B0-4E50-A961-C8959B95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673-956A-47E6-9172-8752F498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A2C-432B-4E71-871E-DA82E748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A7AC-CBE3-45A9-8F81-665E9344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CCCF-6605-4129-9207-05152F85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A1F7-12A6-4C87-821B-0BD3AEBF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28BF-421B-4C54-BD4B-65210E73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8080-B0EE-4172-8E46-2B64C468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B4FF-F18F-45E4-8C3D-2580E6A2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70B2-20DA-4752-81D1-1F2E488F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567-C7B1-4937-B9B9-1A7D2EA3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43F7-DE10-4E33-BBFA-FB874593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DE23-B328-4867-BF99-7CB56E0F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6BE3-4317-4777-92AA-D18D69FD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F34A-E234-420A-B226-0C0CAF34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16FB-E7F7-4D7F-8279-2FDE7A0B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125-8D9D-4BB9-A757-655DF9B9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998-AEAE-440A-A05F-E8277BD4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18A2-F3A1-453B-AA9C-FC9F215E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2851-0217-4B28-BE61-15D6AB94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0B45-5251-4EF7-8801-D8AA4757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BC9-9A07-4A24-B632-BAE52B16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C0A8-E707-4EF0-98D6-FCD73E26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571640" y="15480"/>
            <a:ext cx="213372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EEF4-5224-4605-A56A-6C48361315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79280" y="1052640"/>
            <a:ext cx="87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61D9-DB2A-4991-98FC-5BEF13CF89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436640"/>
            <a:ext cx="60199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Analýza dat společenstev pomocí vícerozměrné analýzy da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le je již shluková analýza zpracována pomocí men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luster Analysi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Tree Clustering – an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ýza nad asociační mati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2349360"/>
          <a:ext cx="288000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2880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572000" y="2349360"/>
          <a:ext cx="360036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49360"/>
                    <a:ext cx="3600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1FF-864C-4B31-8FA7-783D43CD92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 vstup do multidimensional scaling může posloužit libovolná asociační m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dimensional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716360" y="3141720"/>
          <a:ext cx="431964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79280" y="3141720"/>
          <a:ext cx="4319640" cy="32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450-06BE-443C-9D3F-47BAA53C1A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dán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5 lokalitách bylo provedeno vzorkování společenstev cizopasníků ryb, jehož výsledky jsou uloženy v souboru. Data jsou uložena ve formátu, kdy jeden řádek odpovídá jednomu nalezenému cizopasníkovi. Sloupce nejvýznamnější pro analýzu jsou označeny žlutou barvou. Za pomoci software MS Excel, Statistica for Windows a SPSS proveďte na datech následující analýz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te tabulku zastoupení cizopasníků na lokalitách, která poslouží jako základ pro všechny ostatní analý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korespondenční analýzu společens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shlukovou analýzu společenstev na lokalitách pomo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ccardova koeficien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ray-Curtiss indexu vypočteném na relativizovaných logaritmovaných abundanc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ici indexů podobnosti proveďte multidimensional 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D9F1-8727-4F9E-ACEE-FBCC5F0E4A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13684" r="67154" b="30889"/>
          <a:stretch/>
        </p:blipFill>
        <p:spPr>
          <a:xfrm>
            <a:off x="5219640" y="2441520"/>
            <a:ext cx="3532320" cy="3724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 vytvoření tabulky společenstev použijte kontingenční tabulky v MS Excel (alternativou je kontingenční tabulka v libovolném S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ázdná místa v tabulce musí být doplněna nul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17284" r="54217" b="22969"/>
          <a:stretch/>
        </p:blipFill>
        <p:spPr>
          <a:xfrm>
            <a:off x="324000" y="2349360"/>
            <a:ext cx="4895640" cy="3992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5400000">
            <a:off x="4644720" y="3860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C097-7936-4DEA-B766-0C19C708E8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espondenční analýzu lze spočítat v SW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Correspondenc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76720" y="2349360"/>
          <a:ext cx="575928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49360"/>
                    <a:ext cx="5759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58640" y="2205000"/>
            <a:ext cx="303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ovat lze v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ájemno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ic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ruhů a loka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6B0-A6F8-4F01-8AC2-E38D3DADFB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265560" cy="1901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56360" y="4941720"/>
            <a:ext cx="2714760" cy="158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riky podobnosti společenstev lze spočítat v řadě nástrojů, zde je zobrazen postup pro výpočet Jaccardova koeficientu v SP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je založen na binárních datech, prvním krokem je tedy překódování 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code-&gt;Into sam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208320" cy="1707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00360" y="422100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4148280"/>
            <a:ext cx="1512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3068640"/>
            <a:ext cx="1369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15280" y="5372280"/>
            <a:ext cx="1477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3716280"/>
            <a:ext cx="86544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567B-F4D1-402F-B544-6F86B76C8B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79760" y="2003400"/>
            <a:ext cx="3648240" cy="236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lze v SPSS spočít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ze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Correlate-&gt;Dista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4200" y="2060640"/>
            <a:ext cx="3193920" cy="2262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11280" y="4076640"/>
            <a:ext cx="2087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4200" y="3716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4200" y="3500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2708280"/>
            <a:ext cx="2737080" cy="649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21150" t="37646" r="45556" b="40935"/>
          <a:stretch/>
        </p:blipFill>
        <p:spPr>
          <a:xfrm>
            <a:off x="2411280" y="4581360"/>
            <a:ext cx="5327640" cy="2089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6587640" y="2492280"/>
            <a:ext cx="1008360" cy="24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059-9F6D-47B2-8ACC-1F0D8AB143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up řešení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import do Statistica for Windows musí být asociační matice připravena ve speciální formě a převedena na matici vzdálenost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3684" r="70754" b="68319"/>
          <a:stretch/>
        </p:blipFill>
        <p:spPr>
          <a:xfrm>
            <a:off x="468360" y="2133720"/>
            <a:ext cx="468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13684" r="70754" b="67415"/>
          <a:stretch/>
        </p:blipFill>
        <p:spPr>
          <a:xfrm>
            <a:off x="3924360" y="4437000"/>
            <a:ext cx="4680000" cy="189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067280" y="2997360"/>
            <a:ext cx="1368360" cy="1726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4880" y="364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-Jac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A324-8999-4D17-9DB9-1A5651E44E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snazší cestou transformace dat je pomocí vzorců v MS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0743" r="64904" b="78515"/>
          <a:stretch/>
        </p:blipFill>
        <p:spPr>
          <a:xfrm>
            <a:off x="611280" y="1827360"/>
            <a:ext cx="4606920" cy="880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9455" t="10080" r="50052" b="48339"/>
          <a:stretch/>
        </p:blipFill>
        <p:spPr>
          <a:xfrm>
            <a:off x="539640" y="3284640"/>
            <a:ext cx="4824360" cy="3095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19440" y="20811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21600" y="45021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izace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5FE-0D95-4BDB-9868-26BF73FD96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2880000" cy="2403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ay Curtiss index lze spočítat pomocí makra v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0" t="0" r="69854" b="68337"/>
          <a:stretch/>
        </p:blipFill>
        <p:spPr>
          <a:xfrm>
            <a:off x="684360" y="2060640"/>
            <a:ext cx="3779640" cy="2481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76720" y="3284640"/>
            <a:ext cx="2087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2637000"/>
            <a:ext cx="86508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270828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342900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rcRect l="0" t="11067" r="69852" b="68998"/>
          <a:stretch/>
        </p:blipFill>
        <p:spPr>
          <a:xfrm>
            <a:off x="2627280" y="4811760"/>
            <a:ext cx="4248360" cy="1712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3716280"/>
            <a:ext cx="0" cy="122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DDE2-2FD4-45B5-858D-424F6E2737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0:17:04Z</dcterms:created>
  <dc:creator>Jiří Jarkovský</dc:creator>
  <dc:description/>
  <dc:language>en-US</dc:language>
  <cp:lastModifiedBy>Jiří Jarkovský</cp:lastModifiedBy>
  <dcterms:modified xsi:type="dcterms:W3CDTF">2006-05-23T19:49:19Z</dcterms:modified>
  <cp:revision>61</cp:revision>
  <dc:subject/>
  <dc:title>DIEP - </dc:title>
</cp:coreProperties>
</file>