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016-D89F-4D60-A55E-F8474E36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EC3-0D13-4631-939B-D5ACE12C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859-A427-4EF4-AAC7-DECF38C6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B3D-A24A-454C-9D85-06614E72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7919-2749-4784-A683-A6EB1720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B89-50F2-4189-A4D1-86317B54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785-6C38-4011-AD77-2CB49D51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407D-3CB4-4C5C-AB87-7AE91CA7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D7A-ACC1-4AC4-8EA9-D535811D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F763-70BE-4277-B6AB-297ADAE7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EE8-9A1C-42A8-956F-F5E98C34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E5CA-3893-450B-AE10-798E3652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9B7D-9C5C-42D3-A38C-81FF7C645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1:35:35Z</dcterms:created>
  <dc:creator>Jiří Jarkovský</dc:creator>
  <dc:description/>
  <dc:language>en-US</dc:language>
  <cp:lastModifiedBy>Jiří Jarkovský</cp:lastModifiedBy>
  <dcterms:modified xsi:type="dcterms:W3CDTF">2005-09-20T11:40:03Z</dcterms:modified>
  <cp:revision>6</cp:revision>
  <dc:subject/>
  <dc:title>Snímek 1</dc:title>
</cp:coreProperties>
</file>