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CBD-151D-4089-91AB-DE68051B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95A-5E1E-4E82-99B9-B3DFE30F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30E-6839-43A8-8CCF-B97CD061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3FA-B99A-42BC-8DE8-AA6E0191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C1DD-1577-4980-924C-3C1E6F29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79D0-691F-43B3-85CC-05D51A8B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80F7-5456-4918-B0F9-C7F52EE3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A539-B524-4273-9EA1-FD7AF7EF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9BD8-2284-4764-BDB7-CC4EB4F2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B3AC-0E3A-4781-AD63-152A8255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AA93-7127-4513-9963-EA8A2DC4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402-6910-4F73-9A4A-084A765E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4E92-4428-44DA-B624-F0A44B9C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BF54-91BC-48C5-8DEB-7A9E4CFA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E608-EA1F-4BAA-8DBE-F260A987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F8CB-0FEA-437C-A449-48736C89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C2E6-D3E2-42C1-AE3C-A7BA48E6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187-8603-418C-8E87-6AA872CB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44BA-1E5B-4E8E-B9FB-00CFB55E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EB5-CC30-4734-AF6F-A6508077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2E7-B95C-49FE-9A48-05F769E2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1C8D-653B-4FE0-AC8F-C6047C5D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195-332E-4DBB-BB17-6D6DE9A6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185-A3FF-491D-A980-3D58429A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571640" y="15480"/>
            <a:ext cx="21337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6716-9C7C-47AA-8FB5-301474F3AC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79280" y="1052640"/>
            <a:ext cx="87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1367-2F5F-4D8E-ADD4-D5DFC3DA08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436640"/>
            <a:ext cx="60199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nalýza dat společenstev pomocí vícerozměrné analýzy da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e je již shluková analýza zpracována pomocí men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uster Analysi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Tree Clustering – an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za nad asociační mati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349360"/>
          <a:ext cx="2880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2880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572000" y="2349360"/>
          <a:ext cx="360036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3600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F57-561C-47BA-8D8C-CA9046BFCA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vstup do multidimensional scaling může posloužit libovolná asociační 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dimensional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16360" y="3141720"/>
          <a:ext cx="43196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9280" y="3141720"/>
          <a:ext cx="4319640" cy="32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3B4-FEC4-4066-8F43-AF49AB7035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5 lokalitách bylo provedeno vzorkování společenstev cizopasníků ryb, jehož výsledky jsou uloženy v souboru. Data jsou uložena ve formátu, kdy jeden řádek odpovídá jednomu nalezenému cizopasníkovi. Sloupce nejvýznamnější pro analýzu jsou označeny žlutou barvou. Za pomoci software MS Excel, Statistica for Windows a SPSS proveďte na datech následující analýz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te tabulku zastoupení cizopasníků na lokalitách, která poslouží jako základ pro všechny ostatní analý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korespondenční analýzu společens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shlukovou analýzu společenstev na lokalitách pomo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ccardova koeficien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ay-Curtiss indexu vypočteném na relativizovaných logaritmovaných abundan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ici indexů podobnosti proveďte multidimensional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6FD2-05AC-4EF5-B2DA-CF5B0B8AAD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13684" r="67154" b="30889"/>
          <a:stretch/>
        </p:blipFill>
        <p:spPr>
          <a:xfrm>
            <a:off x="5219640" y="2441520"/>
            <a:ext cx="3532320" cy="3724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vytvoření tabulky společenstev použijte kontingenční tabulky v MS Excel (alternativou je kontingenční tabulka v libovolném S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zdná místa v tabulce musí být doplněna nu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17284" r="54217" b="22969"/>
          <a:stretch/>
        </p:blipFill>
        <p:spPr>
          <a:xfrm>
            <a:off x="324000" y="2349360"/>
            <a:ext cx="4895640" cy="3992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5400000">
            <a:off x="4644720" y="38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4A7-9ECB-47F2-B08C-53B79469C7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espondenční analýzu lze spočítat v SW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Corresponde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76720" y="2349360"/>
          <a:ext cx="5759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49360"/>
                    <a:ext cx="5759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58640" y="2205000"/>
            <a:ext cx="30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ovat lze v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jemn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c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ů a loka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FAD-A313-4307-8C97-FDA3349C62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265560" cy="190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4941720"/>
            <a:ext cx="2714760" cy="15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riky podobnosti společenstev lze spočítat v řadě nástrojů, zde je zobrazen postup pro výpočet Jaccardova koeficientu v SP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je založen na binárních datech, prvním krokem je tedy překódování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code-&gt;Into sa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208320" cy="170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00360" y="422100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4148280"/>
            <a:ext cx="151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3068640"/>
            <a:ext cx="1369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5280" y="5372280"/>
            <a:ext cx="1477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3716280"/>
            <a:ext cx="86544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EDF-8477-4CBC-9B84-FA20676A9B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79760" y="2003400"/>
            <a:ext cx="3648240" cy="236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lze v SPSS spočít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ze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Correlate-&gt;Dista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4200" y="2060640"/>
            <a:ext cx="3193920" cy="2262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11280" y="407664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4200" y="3716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4200" y="3500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708280"/>
            <a:ext cx="273708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21150" t="37646" r="45556" b="40935"/>
          <a:stretch/>
        </p:blipFill>
        <p:spPr>
          <a:xfrm>
            <a:off x="2411280" y="4581360"/>
            <a:ext cx="5327640" cy="208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6587640" y="2492280"/>
            <a:ext cx="1008360" cy="24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48A-4B1A-45C7-97B3-F453A67B5D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up řešení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import do Statistica for Windows musí být asociační matice připravena ve speciální formě a převedena na matici vzdálenos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3684" r="70754" b="68319"/>
          <a:stretch/>
        </p:blipFill>
        <p:spPr>
          <a:xfrm>
            <a:off x="468360" y="2133720"/>
            <a:ext cx="468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3684" r="70754" b="67415"/>
          <a:stretch/>
        </p:blipFill>
        <p:spPr>
          <a:xfrm>
            <a:off x="3924360" y="4437000"/>
            <a:ext cx="4680000" cy="189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067280" y="2997360"/>
            <a:ext cx="1368360" cy="172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4880" y="364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-Jac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209-8217-4D30-A594-D4718C20E7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nazší cestou transformace dat je pomocí vzorců v MS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0743" r="64904" b="78515"/>
          <a:stretch/>
        </p:blipFill>
        <p:spPr>
          <a:xfrm>
            <a:off x="611280" y="1827360"/>
            <a:ext cx="4606920" cy="88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9455" t="10080" r="50052" b="48339"/>
          <a:stretch/>
        </p:blipFill>
        <p:spPr>
          <a:xfrm>
            <a:off x="539640" y="3284640"/>
            <a:ext cx="4824360" cy="3095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9440" y="2081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21600" y="45021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izac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E87-5381-45F8-B18C-9C473AC8C5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2880000" cy="2403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ay Curtiss index lze spočítat pomocí makra v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0" t="0" r="69854" b="68337"/>
          <a:stretch/>
        </p:blipFill>
        <p:spPr>
          <a:xfrm>
            <a:off x="684360" y="2060640"/>
            <a:ext cx="3779640" cy="2481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6720" y="3284640"/>
            <a:ext cx="2087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2637000"/>
            <a:ext cx="8650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70828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342900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0" t="11067" r="69852" b="68998"/>
          <a:stretch/>
        </p:blipFill>
        <p:spPr>
          <a:xfrm>
            <a:off x="2627280" y="4811760"/>
            <a:ext cx="4248360" cy="1712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3716280"/>
            <a:ext cx="0" cy="122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6E5-8E47-4784-BD66-B5B899A868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0:17:04Z</dcterms:created>
  <dc:creator>Jiří Jarkovský</dc:creator>
  <dc:description/>
  <dc:language>en-US</dc:language>
  <cp:lastModifiedBy>Jiří Jarkovský</cp:lastModifiedBy>
  <dcterms:modified xsi:type="dcterms:W3CDTF">2006-05-23T19:49:19Z</dcterms:modified>
  <cp:revision>61</cp:revision>
  <dc:subject/>
  <dc:title>DIEP - </dc:title>
</cp:coreProperties>
</file>