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527-D0A3-4E1D-8A28-B20A9A4B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734-FFFC-40C5-99D8-51C41A10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E78-4A0C-48F7-9099-D376CBE8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614-FCAE-4E22-BEA0-99C03F20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935-444D-4DE8-BE51-B0345166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7EB-E379-4ACF-9702-35884826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B2E-7865-4C97-9F11-1BEA7701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7D8-BF84-45E8-8B12-2C13973F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A97-0812-4A0F-AAD0-DFAFFB4E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E1C-019B-4E95-A4D6-592120BD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9F2-4B6B-4545-8393-289E4565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921-993A-4920-8A9F-51A0166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1c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E0D3-919C-4AE0-9C25-981921D23E2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52712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54d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565-A7A8-4A04-A461-C6CCEF5841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291" name="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292" name="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28" name="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29" name="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65" name="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/>
              <a:ahLst/>
              <a:rect l="l" t="t" r="r" b="b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68" name="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/>
              <a:ahLst/>
              <a:rect l="l" t="t" r="r" b="b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71" name="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/>
              <a:ahLst/>
              <a:rect l="l" t="t" r="r" b="b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74" name="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/>
              <a:ahLst/>
              <a:rect l="l" t="t" r="r" b="b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394" name="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395" name="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6D3-6C06-4680-B0A1-95AD018FA6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44F-A55F-479F-A2E0-690FD51C5A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1" name="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3F8-8634-41BE-8A2F-F0028AFFF5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F87-010A-448C-9F6C-571FFFA270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E9E-FA92-413A-A176-A84FB41652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4C9-CB98-426B-BCD3-6B22F6646C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784-B91C-4D8B-9B30-18D8F0D208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6A5-3632-4E61-AF51-5F681ACBB0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23" name="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58" name="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3" name="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65" name="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66" name="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02" name="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730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7200" y="1881360"/>
            <a:ext cx="25704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224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494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732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996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737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975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23160" y="1881360"/>
            <a:ext cx="2458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5020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22" name="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28" name="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/>
              <a:ahLst/>
              <a:rect l="l" t="t" r="r" b="b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5320" y="2997360"/>
            <a:ext cx="8379000" cy="806400"/>
          </a:xfrm>
          <a:custGeom>
            <a:avLst/>
            <a:gdLst/>
            <a:ahLst/>
            <a:rect l="l" t="t" r="r" b="b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402-458C-45BD-961E-88DD36748A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507-E96F-484D-A23D-2CC7C38731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3F5-461A-4053-903E-454D00BE86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16A-E662-4D52-9337-15D131C7F5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AC9-5692-4F59-A918-0E4A46ABF0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11" name="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227160 w 792000"/>
              <a:gd name="textAreaRight" fmla="*/ 678600 w 792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001-FE70-472B-B7AA-96EFBE5C84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55" name="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58" name="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61" name="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64" name="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48D-53B9-4D2A-A0CD-2FFFF3323A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77" name="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00A-44A6-4CB0-984C-FFC6CA5F1C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01" name="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04" name="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F2C-B6E9-4304-8052-B061AB0BA2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2AA-8CE4-4D0C-A19E-E1A9EEA55F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dfb1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2C6-4F6C-4B73-872E-8D0E1566B1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9D8-C137-4A13-93C1-9BCEBF35D6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iří Jarkovský</cp:lastModifiedBy>
  <dcterms:modified xsi:type="dcterms:W3CDTF">2003-06-20T08:03:45Z</dcterms:modified>
  <cp:revision>106</cp:revision>
  <dc:subject/>
  <dc:title>Multivariate typology of river localities based on abiotic and biotic data - suggestion of robust solution</dc:title>
</cp:coreProperties>
</file>