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109C-D889-400E-A71A-C30A6809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28DA-8F68-4602-BC2F-DBF6AFD6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83A0-43B3-49E0-8F32-59E3662F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546-87C8-4579-B7F6-5AF3521B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3B84-1F7A-42F2-85BA-F65A9598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7762-5AF2-4A7C-9FF1-24EA8E91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205D-BA37-42CB-96FF-907D0471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24D4-5B93-44D2-BF1B-5A750449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9528-4EBB-4172-856A-5F74ECFC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5C8A-37B5-457B-A789-119E9D5C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2CEE-61D4-48CB-B2BA-10604825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9BFE-4073-42E5-AAF0-236761D1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2001-6225-4C45-BCBD-09658E17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89F3-5A82-4666-A45C-2B3CB388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E9F0-F6B5-42B1-84B6-7D99FDDE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4460-2BE1-428C-A868-FBAB2FE6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56E1-B04B-471D-95A5-6CEF159C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CF99-6805-4F09-8575-332ABFAE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A010-BEFB-4E43-8F31-73CF543D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A7A-A5A8-42FC-AF64-C18BFD10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8C3E-2CF5-41AB-A875-75A60E54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B34A-3DB3-4818-ADA2-C03B977A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CDDA-27A6-46FE-9C1B-C07914E5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D33A-1942-46DE-990F-C34A678F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4571640" y="15480"/>
            <a:ext cx="213372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0C69-697D-4C14-BB72-5DEBD7DE5D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79280" y="1052640"/>
            <a:ext cx="871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CAAF-68A6-4EAE-B3E9-E2E088082D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ffff"/>
                </a:solidFill>
                <a:latin typeface="Arial"/>
              </a:rPr>
              <a:t>Příklady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436640"/>
            <a:ext cx="60199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Analýza dat společenstev pomocí vícerozměrné analýzy da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ále je již shluková analýza zpracována pomocí men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luster Analysi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Tree Clustering – ana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ýza nad asociační mati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26920" y="2349360"/>
          <a:ext cx="288000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28800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572000" y="2349360"/>
          <a:ext cx="360036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49360"/>
                    <a:ext cx="3600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F8D1-D726-4D7C-AF17-487DB50FCB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 vstup do multidimensional scaling může posloužit libovolná asociační ma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dimensional 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716360" y="3141720"/>
          <a:ext cx="431964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79280" y="3141720"/>
          <a:ext cx="4319640" cy="32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C605-F689-4492-915B-5AE09E11DF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dán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5 lokalitách bylo provedeno vzorkování společenstev cizopasníků ryb, jehož výsledky jsou uloženy v souboru. Data jsou uložena ve formátu, kdy jeden řádek odpovídá jednomu nalezenému cizopasníkovi. Sloupce nejvýznamnější pro analýzu jsou označeny žlutou barvou. Za pomoci software MS Excel, Statistica for Windows a SPSS proveďte na datech následující analýz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vořte tabulku zastoupení cizopasníků na lokalitách, která poslouží jako základ pro všechny ostatní analýz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korespondenční analýzu společens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shlukovou analýzu společenstev na lokalitách pomo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ccardova koeficien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ray-Curtiss indexu vypočteném na relativizovaných logaritmovaných abundancí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ici indexů podobnosti proveďte multidimensional 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2C43-70D5-4E89-A48C-4EF94228EE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13684" r="67154" b="30889"/>
          <a:stretch/>
        </p:blipFill>
        <p:spPr>
          <a:xfrm>
            <a:off x="5219640" y="2441520"/>
            <a:ext cx="3532320" cy="3724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 vytvoření tabulky společenstev použijte kontingenční tabulky v MS Excel (alternativou je kontingenční tabulka v libovolném S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ázdná místa v tabulce musí být doplněna nul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17284" r="54217" b="22969"/>
          <a:stretch/>
        </p:blipFill>
        <p:spPr>
          <a:xfrm>
            <a:off x="324000" y="2349360"/>
            <a:ext cx="4895640" cy="3992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5400000">
            <a:off x="4644720" y="3860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CD05-C8F5-4359-911A-3EB8C3C1D5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respondenční analýzu lze spočítat v SW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Correspondenc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276720" y="2349360"/>
          <a:ext cx="575928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349360"/>
                    <a:ext cx="57592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58640" y="2205000"/>
            <a:ext cx="3033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ovat lze v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ájemno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zic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ruhů a loka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E8AB-C710-4D4F-B170-5562A013D0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265560" cy="1901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56360" y="4941720"/>
            <a:ext cx="2714760" cy="1581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riky podobnosti společenstev lze spočítat v řadě nástrojů, zde je zobrazen postup pro výpočet Jaccardova koeficientu v SP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je založen na binárních datech, prvním krokem je tedy překódování 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form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code-&gt;Into sam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3208320" cy="1707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00360" y="4221000"/>
            <a:ext cx="1295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4148280"/>
            <a:ext cx="151272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3068640"/>
            <a:ext cx="1369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15280" y="5372280"/>
            <a:ext cx="1477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3716280"/>
            <a:ext cx="865440" cy="1297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C0AE-DC58-4EF4-A18D-8384D2CC6F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379760" y="2003400"/>
            <a:ext cx="3648240" cy="2362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lze v SPSS spočít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ze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Correlate-&gt;Distanc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54200" y="2060640"/>
            <a:ext cx="3193920" cy="2262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411280" y="4076640"/>
            <a:ext cx="2087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4200" y="3716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4200" y="3500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2708280"/>
            <a:ext cx="2737080" cy="649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rcRect l="21150" t="37646" r="45556" b="40935"/>
          <a:stretch/>
        </p:blipFill>
        <p:spPr>
          <a:xfrm>
            <a:off x="2411280" y="4581360"/>
            <a:ext cx="5327640" cy="2089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>
            <a:off x="6587640" y="2492280"/>
            <a:ext cx="1008360" cy="244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5A05-7CFC-4D8F-95F2-616D0267A9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up řešení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import do Statistica for Windows musí být asociační matice připravena ve speciální formě a převedena na matici vzdálenost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13684" r="70754" b="68319"/>
          <a:stretch/>
        </p:blipFill>
        <p:spPr>
          <a:xfrm>
            <a:off x="468360" y="2133720"/>
            <a:ext cx="468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13684" r="70754" b="67415"/>
          <a:stretch/>
        </p:blipFill>
        <p:spPr>
          <a:xfrm>
            <a:off x="3924360" y="4437000"/>
            <a:ext cx="4680000" cy="189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067280" y="2997360"/>
            <a:ext cx="1368360" cy="1726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4880" y="364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-Jac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11E5-EAA4-4E41-A7E3-E233048A00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jsnazší cestou transformace dat je pomocí vzorců v MS 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10743" r="64904" b="78515"/>
          <a:stretch/>
        </p:blipFill>
        <p:spPr>
          <a:xfrm>
            <a:off x="611280" y="1827360"/>
            <a:ext cx="4606920" cy="880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9455" t="10080" r="50052" b="48339"/>
          <a:stretch/>
        </p:blipFill>
        <p:spPr>
          <a:xfrm>
            <a:off x="539640" y="3284640"/>
            <a:ext cx="4824360" cy="3095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19440" y="20811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trans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21600" y="45021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izace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9290-0D4B-4659-B476-F7DD4908FE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2880000" cy="2403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ay Curtiss index lze spočítat pomocí makra v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0" t="0" r="69854" b="68337"/>
          <a:stretch/>
        </p:blipFill>
        <p:spPr>
          <a:xfrm>
            <a:off x="684360" y="2060640"/>
            <a:ext cx="3779640" cy="2481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76720" y="3284640"/>
            <a:ext cx="2087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2637000"/>
            <a:ext cx="86508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270828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59640" y="342900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rcRect l="0" t="11067" r="69852" b="68998"/>
          <a:stretch/>
        </p:blipFill>
        <p:spPr>
          <a:xfrm>
            <a:off x="2627280" y="4811760"/>
            <a:ext cx="4248360" cy="1712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96000" y="3716280"/>
            <a:ext cx="0" cy="122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3A1-814D-4D57-AA23-BAB092A64F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0:17:04Z</dcterms:created>
  <dc:creator>Jiří Jarkovský</dc:creator>
  <dc:description/>
  <dc:language>en-US</dc:language>
  <cp:lastModifiedBy>Jiří Jarkovský</cp:lastModifiedBy>
  <dcterms:modified xsi:type="dcterms:W3CDTF">2006-05-23T19:49:19Z</dcterms:modified>
  <cp:revision>61</cp:revision>
  <dc:subject/>
  <dc:title>DIEP - </dc:title>
</cp:coreProperties>
</file>