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A524-C688-4C92-99D0-9AE4E0718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BCF4-E54B-4AB0-AF83-BCBC88AA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A038-AC9D-451F-B8C7-8E9EA0A2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270-AED1-4093-8078-F4117E7A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3943-A440-4A5E-8153-A82A4901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DE5E-F872-463C-934F-0071F141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408B-F16A-4C9B-ACCA-D6F189C2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652D-8CD9-4312-A209-5291F826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6E54-5DDC-43EF-AB46-2E5945FB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4C7B-82B5-4B2D-B246-5B18C8B4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375A-40EA-4303-98FD-9AEECB1C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8932-7CC1-49A1-B2F7-B80DF8AF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45D6-C678-47D7-BA5C-E33B0857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0AAE-A0CA-48C1-92D9-493B7E12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C0DC-B5C1-41BC-B549-BD9602E9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8E98-494B-4577-89C8-ABD622D7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19A8-33A3-4F93-B80C-E55D31F3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1855-4543-4A51-8EC0-8F6A51B4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C9A8-2D9E-49A8-B9D5-7462D512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901C-D3C2-4090-B9B2-AFBBD0BC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9E7F-E9C6-40CD-A272-AC975223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3C37-2DBF-4997-B2A5-A7C0EC88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EC9D-51B2-4923-8074-58534710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51B3-3F63-4939-9F00-1565A483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4571640" y="15480"/>
            <a:ext cx="213372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50C9-6FB4-410F-9E0A-E2F1C31723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79280" y="1052640"/>
            <a:ext cx="871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C346-DC96-45D8-8314-DBA299735A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ffff"/>
                </a:solidFill>
                <a:latin typeface="Arial"/>
              </a:rPr>
              <a:t>Příklady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436640"/>
            <a:ext cx="60199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Analýza dat společenstev pomocí vícerozměrné analýzy da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ále je již shluková analýza zpracována pomocí men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luster Analysi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Tree Clustering – ana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ýza nad asociační mati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26920" y="2349360"/>
          <a:ext cx="288000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28800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572000" y="2349360"/>
          <a:ext cx="3600360" cy="43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349360"/>
                    <a:ext cx="36003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F82E-7A80-494F-AC9B-8EE590F89E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o vstup do multidimensional scaling může posloužit libovolná asociační ma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dimensional 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716360" y="3141720"/>
          <a:ext cx="431964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141720"/>
                    <a:ext cx="43196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79280" y="3141720"/>
          <a:ext cx="4319640" cy="324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141720"/>
                    <a:ext cx="43196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60A0-B12F-4253-AF29-0B688FAE3B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dán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5 lokalitách bylo provedeno vzorkování společenstev cizopasníků ryb, jehož výsledky jsou uloženy v souboru. Data jsou uložena ve formátu, kdy jeden řádek odpovídá jednomu nalezenému cizopasníkovi. Sloupce nejvýznamnější pro analýzu jsou označeny žlutou barvou. Za pomoci software MS Excel, Statistica for Windows a SPSS proveďte na datech následující analýz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tvořte tabulku zastoupení cizopasníků na lokalitách, která poslouží jako základ pro všechny ostatní analýz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ďte korespondenční analýzu společens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ďte shlukovou analýzu společenstev na lokalitách pomo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ccardova koeficien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ray-Curtiss indexu vypočteném na relativizovaných logaritmovaných abundancí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ici indexů podobnosti proveďte multidimensional 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50DE-0B9A-49EE-87D0-3960BC34EA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13684" r="67154" b="30889"/>
          <a:stretch/>
        </p:blipFill>
        <p:spPr>
          <a:xfrm>
            <a:off x="5219640" y="2441520"/>
            <a:ext cx="3532320" cy="3724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 vytvoření tabulky společenstev použijte kontingenční tabulky v MS Excel (alternativou je kontingenční tabulka v libovolném S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ázdná místa v tabulce musí být doplněna nul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0" t="17284" r="54217" b="22969"/>
          <a:stretch/>
        </p:blipFill>
        <p:spPr>
          <a:xfrm>
            <a:off x="324000" y="2349360"/>
            <a:ext cx="4895640" cy="3992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5400000">
            <a:off x="4644720" y="3860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465A-A9C2-49F0-8744-F6174B570A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respondenční analýzu lze spočítat v SW Statistica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Correspondenc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276720" y="2349360"/>
          <a:ext cx="575928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349360"/>
                    <a:ext cx="57592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58640" y="2205000"/>
            <a:ext cx="3033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ovat lze v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ájemno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zic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ruhů a lokal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4E5C-EE8F-457C-BD8C-F657E013D9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265560" cy="1901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56360" y="4941720"/>
            <a:ext cx="2714760" cy="1581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riky podobnosti společenstev lze spočítat v řadě nástrojů, zde je zobrazen postup pro výpočet Jaccardova koeficientu v SP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ccardův koeficient je založen na binárních datech, prvním krokem je tedy překódování 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ansform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code-&gt;Into sam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3208320" cy="1707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00360" y="4221000"/>
            <a:ext cx="1295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4148280"/>
            <a:ext cx="151272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3068640"/>
            <a:ext cx="13698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15280" y="5372280"/>
            <a:ext cx="14778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3716280"/>
            <a:ext cx="865440" cy="1297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CC06-EEB8-43E1-8B80-275DFC5FEE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379760" y="2003400"/>
            <a:ext cx="3648240" cy="2362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ccardův koeficient lze v SPSS spočít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ze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Correlate-&gt;Distanc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54200" y="2060640"/>
            <a:ext cx="3193920" cy="2262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411280" y="4076640"/>
            <a:ext cx="2087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54200" y="3716280"/>
            <a:ext cx="86544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4200" y="3500280"/>
            <a:ext cx="86544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8920" y="2708280"/>
            <a:ext cx="2737080" cy="649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rcRect l="21150" t="37646" r="45556" b="40935"/>
          <a:stretch/>
        </p:blipFill>
        <p:spPr>
          <a:xfrm>
            <a:off x="2411280" y="4581360"/>
            <a:ext cx="5327640" cy="2089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H="1">
            <a:off x="6587640" y="2492280"/>
            <a:ext cx="1008360" cy="2449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79DE-514D-496B-8BB8-2B8379A4A1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up řešení 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import do Statistica for Windows musí být asociační matice připravena ve speciální formě a převedena na matici vzdálenost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13684" r="70754" b="68319"/>
          <a:stretch/>
        </p:blipFill>
        <p:spPr>
          <a:xfrm>
            <a:off x="468360" y="2133720"/>
            <a:ext cx="4680000" cy="1800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13684" r="70754" b="67415"/>
          <a:stretch/>
        </p:blipFill>
        <p:spPr>
          <a:xfrm>
            <a:off x="3924360" y="4437000"/>
            <a:ext cx="4680000" cy="1890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067280" y="2997360"/>
            <a:ext cx="1368360" cy="1726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4880" y="3645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-Jac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896F-FF4E-4627-A77C-49102756E3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jsnazší cestou transformace dat je pomocí vzorců v MS 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10743" r="64904" b="78515"/>
          <a:stretch/>
        </p:blipFill>
        <p:spPr>
          <a:xfrm>
            <a:off x="611280" y="1827360"/>
            <a:ext cx="4606920" cy="880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9455" t="10080" r="50052" b="48339"/>
          <a:stretch/>
        </p:blipFill>
        <p:spPr>
          <a:xfrm>
            <a:off x="539640" y="3284640"/>
            <a:ext cx="4824360" cy="3095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19440" y="208116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trans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21600" y="450216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izace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8941-B603-4614-BE31-901FB44A67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2880000" cy="2403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ay Curtiss index lze spočítat pomocí makra v Statistica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0" t="0" r="69854" b="68337"/>
          <a:stretch/>
        </p:blipFill>
        <p:spPr>
          <a:xfrm>
            <a:off x="684360" y="2060640"/>
            <a:ext cx="3779640" cy="2481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76720" y="3284640"/>
            <a:ext cx="2087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2637000"/>
            <a:ext cx="86508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2708280"/>
            <a:ext cx="86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59640" y="3429000"/>
            <a:ext cx="86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rcRect l="0" t="11067" r="69852" b="68998"/>
          <a:stretch/>
        </p:blipFill>
        <p:spPr>
          <a:xfrm>
            <a:off x="2627280" y="4811760"/>
            <a:ext cx="4248360" cy="1712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796000" y="3716280"/>
            <a:ext cx="0" cy="122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E785-9328-441A-AC32-6C7ECE83E4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10:17:04Z</dcterms:created>
  <dc:creator>Jiří Jarkovský</dc:creator>
  <dc:description/>
  <dc:language>en-US</dc:language>
  <cp:lastModifiedBy>Jiří Jarkovský</cp:lastModifiedBy>
  <dcterms:modified xsi:type="dcterms:W3CDTF">2006-05-23T19:49:19Z</dcterms:modified>
  <cp:revision>61</cp:revision>
  <dc:subject/>
  <dc:title>DIEP - </dc:title>
</cp:coreProperties>
</file>