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7509-29EF-4DB3-A00C-FBD55CE5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3019-23FA-462A-9883-A13AC40D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C671-5E37-4127-BEE7-CDDD7D5C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72A5-3120-45EF-899E-5EBEE387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3056-8277-4E2A-A69C-E2DF5C7E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4BC7-1A07-4966-B45E-AC45B027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62FB-AFB9-431C-AC88-53D70B91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C117-8CAD-4DDB-9F36-DA9100F8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1892-9C55-421F-B6DE-E0C336BA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C391-6356-4900-BAA6-AEC81398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19A2-5BBF-4449-8707-F1C10BA1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28D6-77C5-45A4-B17F-243E043D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74FA-AF32-4D24-8DE7-F25AD6581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1:35:35Z</dcterms:created>
  <dc:creator>Jiří Jarkovský</dc:creator>
  <dc:description/>
  <dc:language>en-US</dc:language>
  <cp:lastModifiedBy>Jiří Jarkovský</cp:lastModifiedBy>
  <dcterms:modified xsi:type="dcterms:W3CDTF">2005-09-20T11:40:03Z</dcterms:modified>
  <cp:revision>6</cp:revision>
  <dc:subject/>
  <dc:title>Snímek 1</dc:title>
</cp:coreProperties>
</file>