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D32C-0249-4592-B9A0-1E00CE1AF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235C-D3E1-4ABD-BDA1-C69839745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27F5-1749-4016-8FAA-74AFB1EDD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44E4-B3BC-4650-B860-245607C88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C94B-6128-48E0-8B88-27666742C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F03E-9E2E-4134-A128-B829565BB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93A9-0238-4A57-B4EA-337E281E7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FA2B-4B79-4CAD-BE34-EA048A583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4768-70C1-4043-9AAA-12DBB2366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08D5-CA20-42D9-AF51-2FB941F99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0C40-583E-4DDF-BAD6-B6EA4363E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740C-4C88-4F4A-B36E-731C8D456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10960"/>
            <a:ext cx="914400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7200" y="49824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E26A-FBA5-49FE-BA6B-A68511BC938D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8"/>
          <p:cNvGraphicFramePr/>
          <p:nvPr/>
        </p:nvGraphicFramePr>
        <p:xfrm>
          <a:off x="1238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Rectangle 10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havet1"/>
          <p:cNvPicPr/>
          <p:nvPr/>
        </p:nvPicPr>
        <p:blipFill>
          <a:blip r:embed="rId4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havet2"/>
          <p:cNvPicPr/>
          <p:nvPr/>
        </p:nvPicPr>
        <p:blipFill>
          <a:blip r:embed="rId5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3" descr="havet3"/>
          <p:cNvPicPr/>
          <p:nvPr/>
        </p:nvPicPr>
        <p:blipFill>
          <a:blip r:embed="rId6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havet4"/>
          <p:cNvPicPr/>
          <p:nvPr/>
        </p:nvPicPr>
        <p:blipFill>
          <a:blip r:embed="rId7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5" descr="havet1"/>
          <p:cNvPicPr/>
          <p:nvPr/>
        </p:nvPicPr>
        <p:blipFill>
          <a:blip r:embed="rId8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6" descr=""/>
          <p:cNvPicPr/>
          <p:nvPr/>
        </p:nvPicPr>
        <p:blipFill>
          <a:blip r:embed="rId9"/>
          <a:stretch/>
        </p:blipFill>
        <p:spPr>
          <a:xfrm>
            <a:off x="1116000" y="6242040"/>
            <a:ext cx="60948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Untitled-2"/>
          <p:cNvPicPr/>
          <p:nvPr/>
        </p:nvPicPr>
        <p:blipFill>
          <a:blip r:embed="rId2"/>
          <a:stretch/>
        </p:blipFill>
        <p:spPr>
          <a:xfrm>
            <a:off x="0" y="200160"/>
            <a:ext cx="9144000" cy="6457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3"/>
          <p:cNvGraphicFramePr/>
          <p:nvPr/>
        </p:nvGraphicFramePr>
        <p:xfrm>
          <a:off x="3240" y="6103800"/>
          <a:ext cx="82368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" y="6103800"/>
                    <a:ext cx="823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17"/>
          <p:cNvSpPr/>
          <p:nvPr/>
        </p:nvSpPr>
        <p:spPr>
          <a:xfrm>
            <a:off x="1258920" y="48625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havet1"/>
          <p:cNvPicPr/>
          <p:nvPr/>
        </p:nvPicPr>
        <p:blipFill>
          <a:blip r:embed="rId5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havet2"/>
          <p:cNvPicPr/>
          <p:nvPr/>
        </p:nvPicPr>
        <p:blipFill>
          <a:blip r:embed="rId6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avet3"/>
          <p:cNvPicPr/>
          <p:nvPr/>
        </p:nvPicPr>
        <p:blipFill>
          <a:blip r:embed="rId7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avet4"/>
          <p:cNvPicPr/>
          <p:nvPr/>
        </p:nvPicPr>
        <p:blipFill>
          <a:blip r:embed="rId8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havet1"/>
          <p:cNvPicPr/>
          <p:nvPr/>
        </p:nvPicPr>
        <p:blipFill>
          <a:blip r:embed="rId9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4"/>
          <p:cNvSpPr/>
          <p:nvPr/>
        </p:nvSpPr>
        <p:spPr>
          <a:xfrm>
            <a:off x="0" y="0"/>
            <a:ext cx="9144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havet1"/>
          <p:cNvPicPr/>
          <p:nvPr/>
        </p:nvPicPr>
        <p:blipFill>
          <a:blip r:embed="rId10"/>
          <a:stretch/>
        </p:blipFill>
        <p:spPr>
          <a:xfrm>
            <a:off x="14446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havet2"/>
          <p:cNvPicPr/>
          <p:nvPr/>
        </p:nvPicPr>
        <p:blipFill>
          <a:blip r:embed="rId11"/>
          <a:stretch/>
        </p:blipFill>
        <p:spPr>
          <a:xfrm>
            <a:off x="27828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havet3"/>
          <p:cNvPicPr/>
          <p:nvPr/>
        </p:nvPicPr>
        <p:blipFill>
          <a:blip r:embed="rId12"/>
          <a:stretch/>
        </p:blipFill>
        <p:spPr>
          <a:xfrm>
            <a:off x="10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havet4"/>
          <p:cNvPicPr/>
          <p:nvPr/>
        </p:nvPicPr>
        <p:blipFill>
          <a:blip r:embed="rId13"/>
          <a:stretch/>
        </p:blipFill>
        <p:spPr>
          <a:xfrm>
            <a:off x="41212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havet1"/>
          <p:cNvPicPr/>
          <p:nvPr/>
        </p:nvPicPr>
        <p:blipFill>
          <a:blip r:embed="rId14"/>
          <a:stretch/>
        </p:blipFill>
        <p:spPr>
          <a:xfrm>
            <a:off x="54594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havet2"/>
          <p:cNvPicPr/>
          <p:nvPr/>
        </p:nvPicPr>
        <p:blipFill>
          <a:blip r:embed="rId15"/>
          <a:stretch/>
        </p:blipFill>
        <p:spPr>
          <a:xfrm>
            <a:off x="6797520" y="586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havet3"/>
          <p:cNvPicPr/>
          <p:nvPr/>
        </p:nvPicPr>
        <p:blipFill>
          <a:blip r:embed="rId16"/>
          <a:stretch/>
        </p:blipFill>
        <p:spPr>
          <a:xfrm>
            <a:off x="802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"/>
          <p:cNvPicPr/>
          <p:nvPr/>
        </p:nvPicPr>
        <p:blipFill>
          <a:blip r:embed="rId17"/>
          <a:stretch/>
        </p:blipFill>
        <p:spPr>
          <a:xfrm>
            <a:off x="1052640" y="6140520"/>
            <a:ext cx="782640" cy="693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ultihabitatový vzorek makrozoobenthosu z pohledu variability jeho podjedno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rkovský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Brab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ntrum biostatistiky a anal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ýz PřF a L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tedra zoologie a ekologie Př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D4D6-6338-46E4-837B-25A89920258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19"/>
          <p:cNvGraphicFramePr/>
          <p:nvPr/>
        </p:nvGraphicFramePr>
        <p:xfrm>
          <a:off x="669960" y="12826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2826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AutoShape 2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2"/>
          <p:cNvGraphicFramePr/>
          <p:nvPr/>
        </p:nvGraphicFramePr>
        <p:xfrm>
          <a:off x="4643280" y="12826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826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AutoShape 17"/>
          <p:cNvSpPr/>
          <p:nvPr/>
        </p:nvSpPr>
        <p:spPr>
          <a:xfrm>
            <a:off x="5904000" y="1413000"/>
            <a:ext cx="3240000" cy="17571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aprobní index, jako jeden z prvků multimetrického indexu lze odhadovat s vysokou střední přesností i z poměrně malého počtu podvzorků, při 5 podvzorcích činí 9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rozsah odhadovaných hodnot zhruba 0.1-0.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F92C-F5A8-4B41-A51B-DE57417C19C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15"/>
          <p:cNvGraphicFramePr/>
          <p:nvPr/>
        </p:nvGraphicFramePr>
        <p:xfrm>
          <a:off x="4572000" y="1197000"/>
          <a:ext cx="382752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ad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í třídy saprob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 rot="16200000">
            <a:off x="-1467000" y="2992320"/>
            <a:ext cx="38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rektní zařazení do třídy saprobního index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684360" y="5618160"/>
            <a:ext cx="806436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Za dostatečnou přesnost zařazení do třídy stavu lze považovat 95% pravděpodobnost správného zařazení, tohoto stavu je při 5 podvzorcích vždy dosaž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66720" y="1197000"/>
          <a:ext cx="3827520" cy="44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12"/>
          <p:cNvSpPr/>
          <p:nvPr/>
        </p:nvSpPr>
        <p:spPr>
          <a:xfrm>
            <a:off x="1146240" y="2120760"/>
            <a:ext cx="74581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 (třída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 (třída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6433-B165-490D-848C-80C64EB675E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 rot="16200000">
            <a:off x="-171936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umber of EPT tax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9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AutoShape 8"/>
          <p:cNvSpPr/>
          <p:nvPr/>
        </p:nvSpPr>
        <p:spPr>
          <a:xfrm>
            <a:off x="5591160" y="4449600"/>
            <a:ext cx="324000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ejně jako v případě celkového počtu druhů jde i zde o silnou závislost počtu EPT taxonů na velikosti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10"/>
          <p:cNvGraphicFramePr/>
          <p:nvPr/>
        </p:nvGraphicFramePr>
        <p:xfrm>
          <a:off x="61128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C0C2-78BF-409D-AEF9-58A7E017DC1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Object 12"/>
          <p:cNvGraphicFramePr/>
          <p:nvPr/>
        </p:nvGraphicFramePr>
        <p:xfrm>
          <a:off x="755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3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AutoShape 6"/>
          <p:cNvSpPr/>
          <p:nvPr/>
        </p:nvSpPr>
        <p:spPr>
          <a:xfrm>
            <a:off x="5442120" y="4797360"/>
            <a:ext cx="3616200" cy="8125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 případě Shannonova indexu dochází k jeho podhodnocení u nízkých počtů podvzorků – vliv počtu druhů ve výbě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440A-F938-40C2-9658-212F568F477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971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1"/>
          <p:cNvGraphicFramePr/>
          <p:nvPr/>
        </p:nvGraphicFramePr>
        <p:xfrm>
          <a:off x="457200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AutoShape 5"/>
          <p:cNvSpPr/>
          <p:nvPr/>
        </p:nvSpPr>
        <p:spPr>
          <a:xfrm>
            <a:off x="5568840" y="1471680"/>
            <a:ext cx="3262320" cy="128484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řední odhad Simpsonova indexu je poměrně přesný, nicméně problematická je jeho vysoká variabilita při nízkém počtu podvzork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8CA6-E5C1-4B43-A3D7-84A7657A9A1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9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361A-0369-42B2-88F5-44A16FDDA3D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6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F84F-C070-4EBC-B5C4-6A23B62C6AB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ěry a budoucí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38400" y="4380120"/>
            <a:ext cx="8538120" cy="1624680"/>
          </a:xfrm>
          <a:prstGeom prst="rect">
            <a:avLst/>
          </a:prstGeom>
          <a:noFill/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ýšení počtu analyzovaných vzor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rovnání výpovědní schopnosti vzorkování u různých typů společenst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iv vzorkovacího zařízení a rozdělování vzorku do podvzork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kce nastavení výpočtů stavu odběrů při rutinním monitorin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é způsoby výběru podvzorků než čistě náhodný výběr (např. latinské čtverce, podvzorky odpovídající jednotlivým habitatů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250920" y="961920"/>
            <a:ext cx="8713800" cy="311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zpracování vzorku podstatně ovlivňuje měření některých parametrů společen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ě nejméně jsou ovlivněny indexové parametry, vyšší počet zpracovaných podvzorků se kladně projeví  zejména na jejich variabilitě, požívaná metodika odhaduje tyto parametry korekt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spěšnost záchytu indikačně významných taxonů silně závisí na jejich abund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lně závislé na počtu podvzor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nao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ty zjištěných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elmi významný je tento vliv např. u počtu EPT taxonů, pro využití tohoto parametru v dalších výpočtech bude zřejmě vhodné zjistit analýzou většího počtu společenstev odpovídající kore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E71A-2AD4-41A3-8A8D-1D8C7ADD145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a a cíl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X reprezentativnost výsledku – základní problém vzorkovacích plá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á velikost vzorku – zde nastavena metodikou sběru makrozobento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pracování vzorku – je skutečně nutné vzhledem k výpovědní hodnotě zpracovat celý vzore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rávné nastavení zpracování a velikosti vzorku je důležité zejména u rozsáhlých a dlouhodobých monitorovacích programů (např. AQ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používaná metodika dostate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prezent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bo příliš podrobná a tedy zbytečně nákladná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900000" y="4870440"/>
            <a:ext cx="7655040" cy="1224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ilotní studie pro posouzení reprezentativnosti používaných metod zpracování vzorku vzhledem k jeho celkovému objemu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 rot="10800000">
            <a:off x="3419280" y="4436640"/>
            <a:ext cx="257004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 rot="10800000">
            <a:off x="3419280" y="2997360"/>
            <a:ext cx="2570040" cy="26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0F53-B2FA-400E-9DAC-4EB2D0914386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I – sběr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zv. multihabitatový vzorek je odebírán proporcionálně podle plošného zastoupení habitatů na vzorkovaném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ý vzorek je nejprve homogenizován a poté za pomocí speciálního zařízení rozdělen na 30 podvzorků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izovaná metodika AQEM spočívá v náhodném výběru 5 z těchto podvzorků (1/6 nebo 700 jedinců) a jejich následném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é parametry společenstva makrozoobentosu jsou dále využity pro stanovení stavu na základě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ltimetrického inde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411360" y="468792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4503600" y="4365720"/>
            <a:ext cx="1539720" cy="268200"/>
            <a:chOff x="4503600" y="4365720"/>
            <a:chExt cx="1539720" cy="268200"/>
          </a:xfrm>
        </p:grpSpPr>
        <p:sp>
          <p:nvSpPr>
            <p:cNvPr id="122" name="Rectangle 6"/>
            <p:cNvSpPr/>
            <p:nvPr/>
          </p:nvSpPr>
          <p:spPr>
            <a:xfrm>
              <a:off x="45162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036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47890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47764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506232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504972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53370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3244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56098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55972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588456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587196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5"/>
          <p:cNvGrpSpPr/>
          <p:nvPr/>
        </p:nvGrpSpPr>
        <p:grpSpPr>
          <a:xfrm>
            <a:off x="4503600" y="4707000"/>
            <a:ext cx="1539720" cy="268200"/>
            <a:chOff x="4503600" y="4707000"/>
            <a:chExt cx="1539720" cy="268200"/>
          </a:xfrm>
        </p:grpSpPr>
        <p:sp>
          <p:nvSpPr>
            <p:cNvPr id="135" name="Rectangle 26"/>
            <p:cNvSpPr/>
            <p:nvPr/>
          </p:nvSpPr>
          <p:spPr>
            <a:xfrm>
              <a:off x="45162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5036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90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47764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506232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504972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53370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53244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6098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55972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588456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587196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8"/>
          <p:cNvGrpSpPr/>
          <p:nvPr/>
        </p:nvGrpSpPr>
        <p:grpSpPr>
          <a:xfrm>
            <a:off x="4503600" y="5049720"/>
            <a:ext cx="1539720" cy="268200"/>
            <a:chOff x="4503600" y="5049720"/>
            <a:chExt cx="1539720" cy="268200"/>
          </a:xfrm>
        </p:grpSpPr>
        <p:sp>
          <p:nvSpPr>
            <p:cNvPr id="148" name="Rectangle 39"/>
            <p:cNvSpPr/>
            <p:nvPr/>
          </p:nvSpPr>
          <p:spPr>
            <a:xfrm>
              <a:off x="45162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45036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7890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47764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06232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04972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3370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53244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56098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55972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588456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587196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1"/>
          <p:cNvGrpSpPr/>
          <p:nvPr/>
        </p:nvGrpSpPr>
        <p:grpSpPr>
          <a:xfrm>
            <a:off x="4503600" y="5391000"/>
            <a:ext cx="1539720" cy="268200"/>
            <a:chOff x="4503600" y="5391000"/>
            <a:chExt cx="1539720" cy="268200"/>
          </a:xfrm>
        </p:grpSpPr>
        <p:sp>
          <p:nvSpPr>
            <p:cNvPr id="161" name="Rectangle 52"/>
            <p:cNvSpPr/>
            <p:nvPr/>
          </p:nvSpPr>
          <p:spPr>
            <a:xfrm>
              <a:off x="45162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45036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7890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7764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506232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504972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53370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53244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56098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55972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588456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587196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4"/>
          <p:cNvGrpSpPr/>
          <p:nvPr/>
        </p:nvGrpSpPr>
        <p:grpSpPr>
          <a:xfrm>
            <a:off x="4503600" y="5734080"/>
            <a:ext cx="1539720" cy="268200"/>
            <a:chOff x="4503600" y="5734080"/>
            <a:chExt cx="1539720" cy="268200"/>
          </a:xfrm>
        </p:grpSpPr>
        <p:sp>
          <p:nvSpPr>
            <p:cNvPr id="174" name="Rectangle 65"/>
            <p:cNvSpPr/>
            <p:nvPr/>
          </p:nvSpPr>
          <p:spPr>
            <a:xfrm>
              <a:off x="45162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5036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47890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47764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506232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504972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53370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53244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6098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5972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588456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587196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37"/>
          <p:cNvGrpSpPr/>
          <p:nvPr/>
        </p:nvGrpSpPr>
        <p:grpSpPr>
          <a:xfrm>
            <a:off x="7281720" y="3687840"/>
            <a:ext cx="1138320" cy="1828800"/>
            <a:chOff x="7281720" y="3687840"/>
            <a:chExt cx="1138320" cy="1828800"/>
          </a:xfrm>
        </p:grpSpPr>
        <p:sp>
          <p:nvSpPr>
            <p:cNvPr id="187" name="AutoShape 80"/>
            <p:cNvSpPr/>
            <p:nvPr/>
          </p:nvSpPr>
          <p:spPr>
            <a:xfrm>
              <a:off x="7281720" y="3687840"/>
              <a:ext cx="1138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"/>
            <p:cNvSpPr/>
            <p:nvPr/>
          </p:nvSpPr>
          <p:spPr>
            <a:xfrm>
              <a:off x="7448400" y="3743280"/>
              <a:ext cx="971640" cy="17640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764000"/>
                <a:gd name="textAreaBottom" fmla="*/ 1764360 h 1764000"/>
              </a:gdLst>
              <a:ahLst/>
              <a:rect l="textAreaLeft" t="textAreaTop" r="textAreaRight" b="textAreaBottom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4"/>
            <p:cNvSpPr/>
            <p:nvPr/>
          </p:nvSpPr>
          <p:spPr>
            <a:xfrm>
              <a:off x="7954920" y="4600800"/>
              <a:ext cx="164880" cy="33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7988040" y="4600800"/>
              <a:ext cx="111240" cy="29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8005680" y="4603680"/>
              <a:ext cx="66600" cy="27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7"/>
            <p:cNvSpPr/>
            <p:nvPr/>
          </p:nvSpPr>
          <p:spPr>
            <a:xfrm>
              <a:off x="8022960" y="4605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8"/>
            <p:cNvSpPr/>
            <p:nvPr/>
          </p:nvSpPr>
          <p:spPr>
            <a:xfrm>
              <a:off x="7975440" y="3881520"/>
              <a:ext cx="125280" cy="3268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9"/>
            <p:cNvSpPr/>
            <p:nvPr/>
          </p:nvSpPr>
          <p:spPr>
            <a:xfrm>
              <a:off x="8038800" y="3882960"/>
              <a:ext cx="54000" cy="319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0"/>
            <p:cNvSpPr/>
            <p:nvPr/>
          </p:nvSpPr>
          <p:spPr>
            <a:xfrm>
              <a:off x="7980120" y="3882960"/>
              <a:ext cx="54000" cy="32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1"/>
            <p:cNvSpPr/>
            <p:nvPr/>
          </p:nvSpPr>
          <p:spPr>
            <a:xfrm>
              <a:off x="7965720" y="3768840"/>
              <a:ext cx="130320" cy="1080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2"/>
            <p:cNvSpPr/>
            <p:nvPr/>
          </p:nvSpPr>
          <p:spPr>
            <a:xfrm>
              <a:off x="8049960" y="3882960"/>
              <a:ext cx="38160" cy="317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3"/>
            <p:cNvSpPr/>
            <p:nvPr/>
          </p:nvSpPr>
          <p:spPr>
            <a:xfrm>
              <a:off x="7989840" y="3882960"/>
              <a:ext cx="34920" cy="324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4"/>
            <p:cNvSpPr/>
            <p:nvPr/>
          </p:nvSpPr>
          <p:spPr>
            <a:xfrm>
              <a:off x="7988040" y="3770280"/>
              <a:ext cx="84240" cy="104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8054640" y="3882960"/>
              <a:ext cx="25560" cy="317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7995960" y="3882960"/>
              <a:ext cx="19080" cy="320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7"/>
            <p:cNvSpPr/>
            <p:nvPr/>
          </p:nvSpPr>
          <p:spPr>
            <a:xfrm>
              <a:off x="8013600" y="3770280"/>
              <a:ext cx="42840" cy="101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8"/>
            <p:cNvSpPr/>
            <p:nvPr/>
          </p:nvSpPr>
          <p:spPr>
            <a:xfrm>
              <a:off x="8029440" y="3770280"/>
              <a:ext cx="14040" cy="1018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>
              <a:off x="7470720" y="4243320"/>
              <a:ext cx="447480" cy="8114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7446600" y="5010120"/>
              <a:ext cx="798480" cy="50652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7619760" y="4934160"/>
              <a:ext cx="603360" cy="792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2"/>
            <p:cNvSpPr/>
            <p:nvPr/>
          </p:nvSpPr>
          <p:spPr>
            <a:xfrm>
              <a:off x="8242200" y="5372280"/>
              <a:ext cx="52200" cy="14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3"/>
            <p:cNvSpPr/>
            <p:nvPr/>
          </p:nvSpPr>
          <p:spPr>
            <a:xfrm>
              <a:off x="8388000" y="5216760"/>
              <a:ext cx="30240" cy="13644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4"/>
            <p:cNvSpPr/>
            <p:nvPr/>
          </p:nvSpPr>
          <p:spPr>
            <a:xfrm>
              <a:off x="8208720" y="4834080"/>
              <a:ext cx="169920" cy="18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7948440" y="4243320"/>
              <a:ext cx="203040" cy="355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7954920" y="4245120"/>
              <a:ext cx="191880" cy="3538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7961040" y="4245120"/>
              <a:ext cx="179280" cy="3538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7968960" y="4245120"/>
              <a:ext cx="166680" cy="353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9"/>
            <p:cNvSpPr/>
            <p:nvPr/>
          </p:nvSpPr>
          <p:spPr>
            <a:xfrm>
              <a:off x="7976880" y="4245120"/>
              <a:ext cx="155520" cy="3538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7983360" y="4245120"/>
              <a:ext cx="144360" cy="353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1"/>
            <p:cNvSpPr/>
            <p:nvPr/>
          </p:nvSpPr>
          <p:spPr>
            <a:xfrm>
              <a:off x="7989840" y="4246560"/>
              <a:ext cx="131760" cy="3524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>
              <a:off x="7997760" y="4246560"/>
              <a:ext cx="118800" cy="35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3"/>
            <p:cNvSpPr/>
            <p:nvPr/>
          </p:nvSpPr>
          <p:spPr>
            <a:xfrm>
              <a:off x="8005680" y="4248360"/>
              <a:ext cx="106200" cy="350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4"/>
            <p:cNvSpPr/>
            <p:nvPr/>
          </p:nvSpPr>
          <p:spPr>
            <a:xfrm>
              <a:off x="8013600" y="4248360"/>
              <a:ext cx="95040" cy="350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8019720" y="4248360"/>
              <a:ext cx="82800" cy="350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6"/>
            <p:cNvSpPr/>
            <p:nvPr/>
          </p:nvSpPr>
          <p:spPr>
            <a:xfrm>
              <a:off x="8026200" y="4248360"/>
              <a:ext cx="71280" cy="350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7873920" y="4370400"/>
              <a:ext cx="77760" cy="2095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8"/>
            <p:cNvSpPr/>
            <p:nvPr/>
          </p:nvSpPr>
          <p:spPr>
            <a:xfrm>
              <a:off x="7940520" y="4200480"/>
              <a:ext cx="199800" cy="367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7765920" y="4213440"/>
              <a:ext cx="163440" cy="2052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8008560" y="4546800"/>
              <a:ext cx="236520" cy="126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1"/>
            <p:cNvSpPr/>
            <p:nvPr/>
          </p:nvSpPr>
          <p:spPr>
            <a:xfrm>
              <a:off x="7978680" y="4202280"/>
              <a:ext cx="136440" cy="31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7799040" y="4213440"/>
              <a:ext cx="109800" cy="205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3"/>
            <p:cNvSpPr/>
            <p:nvPr/>
          </p:nvSpPr>
          <p:spPr>
            <a:xfrm>
              <a:off x="8054640" y="4560840"/>
              <a:ext cx="162000" cy="92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4"/>
            <p:cNvSpPr/>
            <p:nvPr/>
          </p:nvSpPr>
          <p:spPr>
            <a:xfrm>
              <a:off x="8000640" y="4205520"/>
              <a:ext cx="82800" cy="270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816680" y="4213440"/>
              <a:ext cx="65160" cy="205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6"/>
            <p:cNvSpPr/>
            <p:nvPr/>
          </p:nvSpPr>
          <p:spPr>
            <a:xfrm>
              <a:off x="8078400" y="4578480"/>
              <a:ext cx="101880" cy="61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7"/>
            <p:cNvSpPr/>
            <p:nvPr/>
          </p:nvSpPr>
          <p:spPr>
            <a:xfrm>
              <a:off x="8022960" y="420696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7833960" y="4213440"/>
              <a:ext cx="30240" cy="205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9"/>
            <p:cNvSpPr/>
            <p:nvPr/>
          </p:nvSpPr>
          <p:spPr>
            <a:xfrm>
              <a:off x="8103960" y="4589640"/>
              <a:ext cx="49320" cy="396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8038800" y="4735440"/>
              <a:ext cx="65160" cy="558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021520" y="4702320"/>
              <a:ext cx="95040" cy="252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8049960" y="4735440"/>
              <a:ext cx="39600" cy="558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8038800" y="4702320"/>
              <a:ext cx="57240" cy="252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8061120" y="4735440"/>
              <a:ext cx="17280" cy="558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8054640" y="4702320"/>
              <a:ext cx="25560" cy="252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6"/>
            <p:cNvSpPr/>
            <p:nvPr/>
          </p:nvSpPr>
          <p:spPr>
            <a:xfrm>
              <a:off x="8156520" y="4672080"/>
              <a:ext cx="85680" cy="874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37"/>
            <p:cNvSpPr/>
            <p:nvPr/>
          </p:nvSpPr>
          <p:spPr>
            <a:xfrm>
              <a:off x="8250120" y="4646520"/>
              <a:ext cx="91800" cy="87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38"/>
            <p:cNvSpPr/>
            <p:nvPr/>
          </p:nvSpPr>
          <p:spPr>
            <a:xfrm>
              <a:off x="8235720" y="4627800"/>
              <a:ext cx="66600" cy="53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9"/>
            <p:cNvSpPr/>
            <p:nvPr/>
          </p:nvSpPr>
          <p:spPr>
            <a:xfrm>
              <a:off x="8164440" y="4673520"/>
              <a:ext cx="58680" cy="71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0"/>
            <p:cNvSpPr/>
            <p:nvPr/>
          </p:nvSpPr>
          <p:spPr>
            <a:xfrm>
              <a:off x="8265960" y="4662720"/>
              <a:ext cx="68040" cy="69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1"/>
            <p:cNvSpPr/>
            <p:nvPr/>
          </p:nvSpPr>
          <p:spPr>
            <a:xfrm>
              <a:off x="8246880" y="4640400"/>
              <a:ext cx="47520" cy="36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2"/>
            <p:cNvSpPr/>
            <p:nvPr/>
          </p:nvSpPr>
          <p:spPr>
            <a:xfrm>
              <a:off x="8173800" y="4678560"/>
              <a:ext cx="38160" cy="56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3"/>
            <p:cNvSpPr/>
            <p:nvPr/>
          </p:nvSpPr>
          <p:spPr>
            <a:xfrm>
              <a:off x="8280360" y="4672080"/>
              <a:ext cx="44280" cy="525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4"/>
            <p:cNvSpPr/>
            <p:nvPr/>
          </p:nvSpPr>
          <p:spPr>
            <a:xfrm>
              <a:off x="8261280" y="464832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5"/>
            <p:cNvSpPr/>
            <p:nvPr/>
          </p:nvSpPr>
          <p:spPr>
            <a:xfrm>
              <a:off x="8132400" y="4641840"/>
              <a:ext cx="90720" cy="63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6"/>
            <p:cNvSpPr/>
            <p:nvPr/>
          </p:nvSpPr>
          <p:spPr>
            <a:xfrm>
              <a:off x="8145360" y="4643640"/>
              <a:ext cx="61920" cy="47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7"/>
            <p:cNvSpPr/>
            <p:nvPr/>
          </p:nvSpPr>
          <p:spPr>
            <a:xfrm>
              <a:off x="8156520" y="46483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8"/>
            <p:cNvSpPr/>
            <p:nvPr/>
          </p:nvSpPr>
          <p:spPr>
            <a:xfrm>
              <a:off x="8019720" y="4573800"/>
              <a:ext cx="241560" cy="1206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9"/>
            <p:cNvSpPr/>
            <p:nvPr/>
          </p:nvSpPr>
          <p:spPr>
            <a:xfrm>
              <a:off x="8062560" y="4659480"/>
              <a:ext cx="71640" cy="33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0"/>
            <p:cNvSpPr/>
            <p:nvPr/>
          </p:nvSpPr>
          <p:spPr>
            <a:xfrm>
              <a:off x="8213400" y="4600800"/>
              <a:ext cx="63720" cy="52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1"/>
            <p:cNvSpPr/>
            <p:nvPr/>
          </p:nvSpPr>
          <p:spPr>
            <a:xfrm>
              <a:off x="7745040" y="4251240"/>
              <a:ext cx="158760" cy="17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2"/>
            <p:cNvSpPr/>
            <p:nvPr/>
          </p:nvSpPr>
          <p:spPr>
            <a:xfrm>
              <a:off x="7754760" y="4462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3"/>
            <p:cNvSpPr/>
            <p:nvPr/>
          </p:nvSpPr>
          <p:spPr>
            <a:xfrm>
              <a:off x="7561080" y="5067360"/>
              <a:ext cx="87120" cy="95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7849800" y="4864320"/>
              <a:ext cx="68400" cy="457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5"/>
            <p:cNvSpPr/>
            <p:nvPr/>
          </p:nvSpPr>
          <p:spPr>
            <a:xfrm>
              <a:off x="7945200" y="480708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6"/>
            <p:cNvSpPr/>
            <p:nvPr/>
          </p:nvSpPr>
          <p:spPr>
            <a:xfrm>
              <a:off x="7726320" y="4251240"/>
              <a:ext cx="160200" cy="1749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7"/>
            <p:cNvSpPr/>
            <p:nvPr/>
          </p:nvSpPr>
          <p:spPr>
            <a:xfrm>
              <a:off x="7729200" y="4253040"/>
              <a:ext cx="149400" cy="164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8"/>
            <p:cNvSpPr/>
            <p:nvPr/>
          </p:nvSpPr>
          <p:spPr>
            <a:xfrm>
              <a:off x="7731000" y="4254480"/>
              <a:ext cx="139680" cy="154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59"/>
            <p:cNvSpPr/>
            <p:nvPr/>
          </p:nvSpPr>
          <p:spPr>
            <a:xfrm>
              <a:off x="7734240" y="4256280"/>
              <a:ext cx="129960" cy="142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60"/>
            <p:cNvSpPr/>
            <p:nvPr/>
          </p:nvSpPr>
          <p:spPr>
            <a:xfrm>
              <a:off x="7735680" y="4257720"/>
              <a:ext cx="120600" cy="131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61"/>
            <p:cNvSpPr/>
            <p:nvPr/>
          </p:nvSpPr>
          <p:spPr>
            <a:xfrm>
              <a:off x="7738920" y="4260960"/>
              <a:ext cx="110880" cy="120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2"/>
            <p:cNvSpPr/>
            <p:nvPr/>
          </p:nvSpPr>
          <p:spPr>
            <a:xfrm>
              <a:off x="7742160" y="4262400"/>
              <a:ext cx="99720" cy="109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9800"/>
                <a:gd name="textAreaBottom" fmla="*/ 109800 h 109800"/>
              </a:gdLst>
              <a:ahLst/>
              <a:rect l="textAreaLeft" t="textAreaTop" r="textAreaRight" b="textAreaBottom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3"/>
            <p:cNvSpPr/>
            <p:nvPr/>
          </p:nvSpPr>
          <p:spPr>
            <a:xfrm>
              <a:off x="7743600" y="4264200"/>
              <a:ext cx="90360" cy="1000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64"/>
            <p:cNvSpPr/>
            <p:nvPr/>
          </p:nvSpPr>
          <p:spPr>
            <a:xfrm>
              <a:off x="7746840" y="426564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5"/>
            <p:cNvSpPr/>
            <p:nvPr/>
          </p:nvSpPr>
          <p:spPr>
            <a:xfrm>
              <a:off x="7748280" y="4267440"/>
              <a:ext cx="71640" cy="79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66"/>
            <p:cNvSpPr/>
            <p:nvPr/>
          </p:nvSpPr>
          <p:spPr>
            <a:xfrm>
              <a:off x="7750080" y="4268880"/>
              <a:ext cx="63360" cy="6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67"/>
            <p:cNvSpPr/>
            <p:nvPr/>
          </p:nvSpPr>
          <p:spPr>
            <a:xfrm>
              <a:off x="7752960" y="4270320"/>
              <a:ext cx="52560" cy="572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68"/>
            <p:cNvSpPr/>
            <p:nvPr/>
          </p:nvSpPr>
          <p:spPr>
            <a:xfrm>
              <a:off x="7737120" y="4467240"/>
              <a:ext cx="63720" cy="698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9"/>
            <p:cNvSpPr/>
            <p:nvPr/>
          </p:nvSpPr>
          <p:spPr>
            <a:xfrm>
              <a:off x="7738920" y="4467240"/>
              <a:ext cx="58680" cy="66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0"/>
            <p:cNvSpPr/>
            <p:nvPr/>
          </p:nvSpPr>
          <p:spPr>
            <a:xfrm>
              <a:off x="7740360" y="446904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1"/>
            <p:cNvSpPr/>
            <p:nvPr/>
          </p:nvSpPr>
          <p:spPr>
            <a:xfrm>
              <a:off x="7740360" y="4469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72"/>
            <p:cNvSpPr/>
            <p:nvPr/>
          </p:nvSpPr>
          <p:spPr>
            <a:xfrm>
              <a:off x="7742160" y="4470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3"/>
            <p:cNvSpPr/>
            <p:nvPr/>
          </p:nvSpPr>
          <p:spPr>
            <a:xfrm>
              <a:off x="7742160" y="4471920"/>
              <a:ext cx="44280" cy="4788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74"/>
            <p:cNvSpPr/>
            <p:nvPr/>
          </p:nvSpPr>
          <p:spPr>
            <a:xfrm>
              <a:off x="7743600" y="447192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75"/>
            <p:cNvSpPr/>
            <p:nvPr/>
          </p:nvSpPr>
          <p:spPr>
            <a:xfrm>
              <a:off x="7743600" y="447192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6"/>
            <p:cNvSpPr/>
            <p:nvPr/>
          </p:nvSpPr>
          <p:spPr>
            <a:xfrm>
              <a:off x="7746840" y="44737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7"/>
            <p:cNvSpPr/>
            <p:nvPr/>
          </p:nvSpPr>
          <p:spPr>
            <a:xfrm>
              <a:off x="7746840" y="447372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8"/>
            <p:cNvSpPr/>
            <p:nvPr/>
          </p:nvSpPr>
          <p:spPr>
            <a:xfrm>
              <a:off x="7748280" y="4473720"/>
              <a:ext cx="23760" cy="28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9"/>
            <p:cNvSpPr/>
            <p:nvPr/>
          </p:nvSpPr>
          <p:spPr>
            <a:xfrm>
              <a:off x="7748280" y="4475160"/>
              <a:ext cx="20880" cy="223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0"/>
            <p:cNvSpPr/>
            <p:nvPr/>
          </p:nvSpPr>
          <p:spPr>
            <a:xfrm>
              <a:off x="7538760" y="5072040"/>
              <a:ext cx="87480" cy="95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1"/>
            <p:cNvSpPr/>
            <p:nvPr/>
          </p:nvSpPr>
          <p:spPr>
            <a:xfrm>
              <a:off x="7540560" y="50738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82"/>
            <p:cNvSpPr/>
            <p:nvPr/>
          </p:nvSpPr>
          <p:spPr>
            <a:xfrm>
              <a:off x="7542000" y="5073840"/>
              <a:ext cx="76320" cy="83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3"/>
            <p:cNvSpPr/>
            <p:nvPr/>
          </p:nvSpPr>
          <p:spPr>
            <a:xfrm>
              <a:off x="7543440" y="5075280"/>
              <a:ext cx="69840" cy="77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4"/>
            <p:cNvSpPr/>
            <p:nvPr/>
          </p:nvSpPr>
          <p:spPr>
            <a:xfrm>
              <a:off x="7543440" y="5075280"/>
              <a:ext cx="66960" cy="7308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5"/>
            <p:cNvSpPr/>
            <p:nvPr/>
          </p:nvSpPr>
          <p:spPr>
            <a:xfrm>
              <a:off x="7545240" y="507708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6"/>
            <p:cNvSpPr/>
            <p:nvPr/>
          </p:nvSpPr>
          <p:spPr>
            <a:xfrm>
              <a:off x="7546680" y="507852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87"/>
            <p:cNvSpPr/>
            <p:nvPr/>
          </p:nvSpPr>
          <p:spPr>
            <a:xfrm>
              <a:off x="7548480" y="5078520"/>
              <a:ext cx="48960" cy="55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8"/>
            <p:cNvSpPr/>
            <p:nvPr/>
          </p:nvSpPr>
          <p:spPr>
            <a:xfrm>
              <a:off x="7549920" y="507996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9"/>
            <p:cNvSpPr/>
            <p:nvPr/>
          </p:nvSpPr>
          <p:spPr>
            <a:xfrm>
              <a:off x="7549920" y="507996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0"/>
            <p:cNvSpPr/>
            <p:nvPr/>
          </p:nvSpPr>
          <p:spPr>
            <a:xfrm>
              <a:off x="7551360" y="50817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1"/>
            <p:cNvSpPr/>
            <p:nvPr/>
          </p:nvSpPr>
          <p:spPr>
            <a:xfrm>
              <a:off x="7553160" y="508176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2"/>
            <p:cNvSpPr/>
            <p:nvPr/>
          </p:nvSpPr>
          <p:spPr>
            <a:xfrm>
              <a:off x="7851600" y="485640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3"/>
            <p:cNvSpPr/>
            <p:nvPr/>
          </p:nvSpPr>
          <p:spPr>
            <a:xfrm>
              <a:off x="7854840" y="4856400"/>
              <a:ext cx="63360" cy="31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4"/>
            <p:cNvSpPr/>
            <p:nvPr/>
          </p:nvSpPr>
          <p:spPr>
            <a:xfrm>
              <a:off x="7856280" y="4856400"/>
              <a:ext cx="60480" cy="29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95"/>
            <p:cNvSpPr/>
            <p:nvPr/>
          </p:nvSpPr>
          <p:spPr>
            <a:xfrm>
              <a:off x="7859520" y="4856400"/>
              <a:ext cx="55440" cy="28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6"/>
            <p:cNvSpPr/>
            <p:nvPr/>
          </p:nvSpPr>
          <p:spPr>
            <a:xfrm>
              <a:off x="7862760" y="485640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7"/>
            <p:cNvSpPr/>
            <p:nvPr/>
          </p:nvSpPr>
          <p:spPr>
            <a:xfrm>
              <a:off x="7866000" y="4856400"/>
              <a:ext cx="47520" cy="25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98"/>
            <p:cNvSpPr/>
            <p:nvPr/>
          </p:nvSpPr>
          <p:spPr>
            <a:xfrm>
              <a:off x="7868880" y="4857840"/>
              <a:ext cx="42840" cy="22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9"/>
            <p:cNvSpPr/>
            <p:nvPr/>
          </p:nvSpPr>
          <p:spPr>
            <a:xfrm>
              <a:off x="7872120" y="4857840"/>
              <a:ext cx="38160" cy="19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0"/>
            <p:cNvSpPr/>
            <p:nvPr/>
          </p:nvSpPr>
          <p:spPr>
            <a:xfrm>
              <a:off x="7875360" y="485784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1"/>
            <p:cNvSpPr/>
            <p:nvPr/>
          </p:nvSpPr>
          <p:spPr>
            <a:xfrm>
              <a:off x="7876800" y="4857840"/>
              <a:ext cx="32040" cy="15840"/>
            </a:xfrm>
            <a:custGeom>
              <a:avLst/>
              <a:gdLst>
                <a:gd name="textAreaLeft" fmla="*/ 0 w 32040"/>
                <a:gd name="textAreaRight" fmla="*/ 32040 w 32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2"/>
            <p:cNvSpPr/>
            <p:nvPr/>
          </p:nvSpPr>
          <p:spPr>
            <a:xfrm>
              <a:off x="7880040" y="4857840"/>
              <a:ext cx="27000" cy="14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3"/>
            <p:cNvSpPr/>
            <p:nvPr/>
          </p:nvSpPr>
          <p:spPr>
            <a:xfrm>
              <a:off x="7884720" y="4857840"/>
              <a:ext cx="20880" cy="126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4"/>
            <p:cNvSpPr/>
            <p:nvPr/>
          </p:nvSpPr>
          <p:spPr>
            <a:xfrm>
              <a:off x="7945200" y="4800600"/>
              <a:ext cx="54000" cy="27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05"/>
            <p:cNvSpPr/>
            <p:nvPr/>
          </p:nvSpPr>
          <p:spPr>
            <a:xfrm>
              <a:off x="7948440" y="4800600"/>
              <a:ext cx="49320" cy="25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06"/>
            <p:cNvSpPr/>
            <p:nvPr/>
          </p:nvSpPr>
          <p:spPr>
            <a:xfrm>
              <a:off x="7951680" y="4802400"/>
              <a:ext cx="44280" cy="219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7"/>
            <p:cNvSpPr/>
            <p:nvPr/>
          </p:nvSpPr>
          <p:spPr>
            <a:xfrm>
              <a:off x="7953120" y="4802400"/>
              <a:ext cx="42840" cy="2052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08"/>
            <p:cNvSpPr/>
            <p:nvPr/>
          </p:nvSpPr>
          <p:spPr>
            <a:xfrm>
              <a:off x="7954920" y="4802400"/>
              <a:ext cx="41040" cy="19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9"/>
            <p:cNvSpPr/>
            <p:nvPr/>
          </p:nvSpPr>
          <p:spPr>
            <a:xfrm>
              <a:off x="7957800" y="48024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0"/>
            <p:cNvSpPr/>
            <p:nvPr/>
          </p:nvSpPr>
          <p:spPr>
            <a:xfrm>
              <a:off x="7959600" y="4802400"/>
              <a:ext cx="3312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1"/>
            <p:cNvSpPr/>
            <p:nvPr/>
          </p:nvSpPr>
          <p:spPr>
            <a:xfrm>
              <a:off x="7961040" y="480240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12"/>
            <p:cNvSpPr/>
            <p:nvPr/>
          </p:nvSpPr>
          <p:spPr>
            <a:xfrm>
              <a:off x="7964280" y="4802400"/>
              <a:ext cx="27000" cy="14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3"/>
            <p:cNvSpPr/>
            <p:nvPr/>
          </p:nvSpPr>
          <p:spPr>
            <a:xfrm>
              <a:off x="7965720" y="480240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14"/>
            <p:cNvSpPr/>
            <p:nvPr/>
          </p:nvSpPr>
          <p:spPr>
            <a:xfrm>
              <a:off x="7968960" y="4802400"/>
              <a:ext cx="20880" cy="108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5"/>
            <p:cNvSpPr/>
            <p:nvPr/>
          </p:nvSpPr>
          <p:spPr>
            <a:xfrm>
              <a:off x="7970760" y="4803840"/>
              <a:ext cx="17280" cy="79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16"/>
            <p:cNvSpPr/>
            <p:nvPr/>
          </p:nvSpPr>
          <p:spPr>
            <a:xfrm>
              <a:off x="7777080" y="4311720"/>
              <a:ext cx="58680" cy="65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17"/>
            <p:cNvSpPr/>
            <p:nvPr/>
          </p:nvSpPr>
          <p:spPr>
            <a:xfrm>
              <a:off x="7758000" y="4491000"/>
              <a:ext cx="21960" cy="2556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8"/>
            <p:cNvSpPr/>
            <p:nvPr/>
          </p:nvSpPr>
          <p:spPr>
            <a:xfrm>
              <a:off x="7565760" y="51055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9"/>
            <p:cNvSpPr/>
            <p:nvPr/>
          </p:nvSpPr>
          <p:spPr>
            <a:xfrm>
              <a:off x="7884720" y="4819680"/>
              <a:ext cx="365400" cy="921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0"/>
            <p:cNvSpPr/>
            <p:nvPr/>
          </p:nvSpPr>
          <p:spPr>
            <a:xfrm>
              <a:off x="7779960" y="5162760"/>
              <a:ext cx="209880" cy="712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1"/>
            <p:cNvSpPr/>
            <p:nvPr/>
          </p:nvSpPr>
          <p:spPr>
            <a:xfrm>
              <a:off x="7779960" y="5175360"/>
              <a:ext cx="208080" cy="50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22"/>
            <p:cNvSpPr/>
            <p:nvPr/>
          </p:nvSpPr>
          <p:spPr>
            <a:xfrm>
              <a:off x="7781760" y="5184720"/>
              <a:ext cx="206280" cy="30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3"/>
            <p:cNvSpPr/>
            <p:nvPr/>
          </p:nvSpPr>
          <p:spPr>
            <a:xfrm>
              <a:off x="7943760" y="516564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24"/>
            <p:cNvSpPr/>
            <p:nvPr/>
          </p:nvSpPr>
          <p:spPr>
            <a:xfrm>
              <a:off x="7994520" y="5127840"/>
              <a:ext cx="135000" cy="1522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25"/>
            <p:cNvSpPr/>
            <p:nvPr/>
          </p:nvSpPr>
          <p:spPr>
            <a:xfrm>
              <a:off x="8024760" y="5122800"/>
              <a:ext cx="109440" cy="154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26"/>
            <p:cNvSpPr/>
            <p:nvPr/>
          </p:nvSpPr>
          <p:spPr>
            <a:xfrm>
              <a:off x="8029440" y="5127840"/>
              <a:ext cx="102960" cy="145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7"/>
            <p:cNvSpPr/>
            <p:nvPr/>
          </p:nvSpPr>
          <p:spPr>
            <a:xfrm>
              <a:off x="8030880" y="5130720"/>
              <a:ext cx="100080" cy="1414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8"/>
            <p:cNvSpPr/>
            <p:nvPr/>
          </p:nvSpPr>
          <p:spPr>
            <a:xfrm>
              <a:off x="8034120" y="5135760"/>
              <a:ext cx="95400" cy="1332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9"/>
            <p:cNvSpPr/>
            <p:nvPr/>
          </p:nvSpPr>
          <p:spPr>
            <a:xfrm>
              <a:off x="8037360" y="513864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0"/>
            <p:cNvSpPr/>
            <p:nvPr/>
          </p:nvSpPr>
          <p:spPr>
            <a:xfrm>
              <a:off x="8038800" y="5143680"/>
              <a:ext cx="87480" cy="120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1"/>
            <p:cNvSpPr/>
            <p:nvPr/>
          </p:nvSpPr>
          <p:spPr>
            <a:xfrm>
              <a:off x="8042040" y="5146920"/>
              <a:ext cx="82440" cy="115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2"/>
            <p:cNvSpPr/>
            <p:nvPr/>
          </p:nvSpPr>
          <p:spPr>
            <a:xfrm>
              <a:off x="8045280" y="5151600"/>
              <a:ext cx="77760" cy="108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3"/>
            <p:cNvSpPr/>
            <p:nvPr/>
          </p:nvSpPr>
          <p:spPr>
            <a:xfrm>
              <a:off x="8048520" y="5154840"/>
              <a:ext cx="73080" cy="102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34"/>
            <p:cNvSpPr/>
            <p:nvPr/>
          </p:nvSpPr>
          <p:spPr>
            <a:xfrm>
              <a:off x="8051760" y="5159520"/>
              <a:ext cx="68040" cy="95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35"/>
            <p:cNvSpPr/>
            <p:nvPr/>
          </p:nvSpPr>
          <p:spPr>
            <a:xfrm>
              <a:off x="8054640" y="5164200"/>
              <a:ext cx="61920" cy="88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6"/>
            <p:cNvSpPr/>
            <p:nvPr/>
          </p:nvSpPr>
          <p:spPr>
            <a:xfrm>
              <a:off x="8056440" y="5168880"/>
              <a:ext cx="60120" cy="81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239"/>
          <p:cNvSpPr/>
          <p:nvPr/>
        </p:nvSpPr>
        <p:spPr>
          <a:xfrm>
            <a:off x="72802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0"/>
          <p:cNvSpPr/>
          <p:nvPr/>
        </p:nvSpPr>
        <p:spPr>
          <a:xfrm>
            <a:off x="72676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1"/>
          <p:cNvSpPr/>
          <p:nvPr/>
        </p:nvSpPr>
        <p:spPr>
          <a:xfrm>
            <a:off x="75531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2"/>
          <p:cNvSpPr/>
          <p:nvPr/>
        </p:nvSpPr>
        <p:spPr>
          <a:xfrm>
            <a:off x="75405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43"/>
          <p:cNvSpPr/>
          <p:nvPr/>
        </p:nvSpPr>
        <p:spPr>
          <a:xfrm>
            <a:off x="782640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4"/>
          <p:cNvSpPr/>
          <p:nvPr/>
        </p:nvSpPr>
        <p:spPr>
          <a:xfrm>
            <a:off x="781380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5"/>
          <p:cNvSpPr/>
          <p:nvPr/>
        </p:nvSpPr>
        <p:spPr>
          <a:xfrm>
            <a:off x="81010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46"/>
          <p:cNvSpPr/>
          <p:nvPr/>
        </p:nvSpPr>
        <p:spPr>
          <a:xfrm>
            <a:off x="80884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47"/>
          <p:cNvSpPr/>
          <p:nvPr/>
        </p:nvSpPr>
        <p:spPr>
          <a:xfrm>
            <a:off x="83739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48"/>
          <p:cNvSpPr/>
          <p:nvPr/>
        </p:nvSpPr>
        <p:spPr>
          <a:xfrm>
            <a:off x="83613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51"/>
          <p:cNvSpPr/>
          <p:nvPr/>
        </p:nvSpPr>
        <p:spPr>
          <a:xfrm>
            <a:off x="6330960" y="468936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52" descr="subsamplovaci_miska"/>
          <p:cNvPicPr/>
          <p:nvPr/>
        </p:nvPicPr>
        <p:blipFill>
          <a:blip r:embed="rId1"/>
          <a:stretch/>
        </p:blipFill>
        <p:spPr>
          <a:xfrm>
            <a:off x="108000" y="4005360"/>
            <a:ext cx="309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0D39-21EE-4682-8FC4-15B8AC62837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2 – simulace odbě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ata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va různé odbě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odběr rozdělený do 30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odný výběr 1 .. 30 podvzorků (bez opakování) + mnohonásobné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ají různě reprezentativní výseky z celkového vzo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ké rozložení sledovaných parametrů pro daný počet náhodně vybraných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10800000">
            <a:off x="3131640" y="15123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0800000">
            <a:off x="3131640" y="242064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10800000">
            <a:off x="3131640" y="328428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 rot="5400000">
            <a:off x="3455640" y="49989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4276800" y="4484520"/>
            <a:ext cx="4624200" cy="13201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rovnání s parametry popisujícími celkový vzo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 srovnání použity popisné grafy (průměr, kvartily, 95% rozsa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04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403280" y="4869000"/>
            <a:ext cx="36036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763640" y="4653000"/>
            <a:ext cx="360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2122560" y="4941720"/>
            <a:ext cx="36036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68256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48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284328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395280" y="595008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417600" y="443700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7B35-0F6F-4C8C-A505-CFB7B6B456A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á společenstva - charakter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rovnatelný celkový počet jedi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tší saprobní index na lokalitě Nectava, která je více zatížena organickými látk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minance korýšů na obou lokalitách (Luborča 80 %, Nectava 40%) – Gammarus fossa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kality se liší abundancí Diptera – především Chironomidae což opět souvisí s větším množstvím partikulované organické hmoty na Nect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EPT taxonů bývá negativně korelován s poškozením lokality – v tomto případě nebylo zatížení organickými látkami tak závažné, aby limitovalo výskyt jepic, pošvatek a chrostíků – naopak větší pestrost potravních zdrojů se projevila vyššími hodnotami parametru na lokalitě Nectava (podpořeno také větší vyrovnaností zastoupení potravních strategií na této lokalit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m bylo srovnat lokality kde na jedné početně dominují velikostí těla větší korýši (Luborča) ve srovnání s pakomáry (Nectava) – vliv dělení vz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90000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485928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007B-626C-43B9-861E-0645F009BF3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é para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60" y="1052280"/>
            <a:ext cx="91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druh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(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vnoměrnost počtu jedinců v podvzorcích 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8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63.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4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14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psonův index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5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0.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aprobní ind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936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.3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phemer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c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ich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xony významné pro hodnocení variability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brophlebia lauta; Sialis fuliginosa; Prodiamesa olivacea; Epoicocladius flavens; Ibisia marginata; Polypedilum laetum-Gr.; Protonemura sp.; Ephemera danica; Gammarus fossa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4487760" y="5877000"/>
            <a:ext cx="4548240" cy="3733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obrazeny pouze nejvýznamnější výsled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02EF-C7E1-4255-9958-65BD6A60573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e vzor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16"/>
          <p:cNvGraphicFramePr/>
          <p:nvPr/>
        </p:nvGraphicFramePr>
        <p:xfrm>
          <a:off x="46836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AutoShape 17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20"/>
          <p:cNvGraphicFramePr/>
          <p:nvPr/>
        </p:nvGraphicFramePr>
        <p:xfrm>
          <a:off x="435600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5C90-DDA2-498A-A065-09FB0259D20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 závislosti na počtu jedi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9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Line 10"/>
          <p:cNvSpPr/>
          <p:nvPr/>
        </p:nvSpPr>
        <p:spPr>
          <a:xfrm flipV="1">
            <a:off x="154764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118512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Line 13"/>
          <p:cNvSpPr/>
          <p:nvPr/>
        </p:nvSpPr>
        <p:spPr>
          <a:xfrm flipV="1">
            <a:off x="550872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514620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573D-2AB7-4D51-84CF-A09F0AA7278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mogenita podvzor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30"/>
          <p:cNvSpPr/>
          <p:nvPr/>
        </p:nvSpPr>
        <p:spPr>
          <a:xfrm>
            <a:off x="5629320" y="1413000"/>
            <a:ext cx="351468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 výjimkou náhodného výběru jediného vzorku vykazují ostatní vzorkovací plány poměrně rovnoměrné zastoupení početnosti členů společenst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31"/>
          <p:cNvSpPr/>
          <p:nvPr/>
        </p:nvSpPr>
        <p:spPr>
          <a:xfrm rot="16200000">
            <a:off x="-1576440" y="3276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ůměrný podvzorek výběru ku celkovému průměrnému podvz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4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4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045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0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046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14:15Z</dcterms:created>
  <dc:creator>Jirka</dc:creator>
  <dc:description/>
  <dc:language>en-US</dc:language>
  <cp:lastModifiedBy>Jarkovsky</cp:lastModifiedBy>
  <dcterms:modified xsi:type="dcterms:W3CDTF">2009-09-29T12:39:20Z</dcterms:modified>
  <cp:revision>148</cp:revision>
  <dc:subject/>
  <dc:title>Snímek 1</dc:title>
</cp:coreProperties>
</file>