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A681-E6E6-4906-BB80-D2448DDF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CCE4-5E90-4A8B-935F-6D7B3E30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599D-5CCB-491F-BFE1-02EEDDA80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8E72-3323-4B39-9F42-DD1E7ED0C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B656-7A9B-4195-BE14-643A628D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93C2-35FA-47A9-918A-7FEA55F8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DE0D-DF03-4809-A363-4288F1F0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D6C8-5250-4188-94B1-57BF79ED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AB51-8350-4408-B009-4E7CA251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0B38-EEA2-451B-85C1-BF5E794C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863F-38D3-46F0-B3A3-EDFE9C8A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2817-C189-4237-8679-0162828F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5D98-F691-4B56-908D-323621F7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86BE-BC4C-4302-9956-C35F377A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6491-FD5F-4C5E-9519-B61AC72F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3886-203A-4942-9D65-2883DFD6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AAFA-6421-4F9B-9927-1ED9C8D29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0791-532C-46B8-9021-63C15761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D728-0CD4-4F87-AEB0-CAF11CCF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3E08-9DFD-4C61-AA97-FE38BCC0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1435-0E47-49AF-9A6E-27A9DB64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E103-F244-405D-8293-658E9D01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B152-637D-4830-AFA0-E2773E23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1D9C-A7F3-4A16-A9FE-ADC24F2F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4571640" y="15480"/>
            <a:ext cx="213372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FACB-19DB-4A1E-8BB0-7791056C31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79280" y="1052640"/>
            <a:ext cx="871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77E8-BF0A-4814-BCE5-11512F4F0F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ffff"/>
                </a:solidFill>
                <a:latin typeface="Arial"/>
              </a:rPr>
              <a:t>Příklady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971800" y="4436640"/>
            <a:ext cx="601992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Analýza dat společenstev pomocí vícerozměrné analýzy da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V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ále je již shluková analýza zpracována pomocí men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Multivariate Exploratory Techniques-&g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luster Analysi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Tree Clustering – ana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ýza nad asociační mati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826920" y="2349360"/>
          <a:ext cx="288000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49360"/>
                    <a:ext cx="288000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572000" y="2349360"/>
          <a:ext cx="3600360" cy="431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349360"/>
                    <a:ext cx="360036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1EA2-969B-4DBB-B780-33F9C31FE0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o vstup do multidimensional scaling může posloužit libovolná asociační ma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Multivariate Exploratory Techniques-&g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ultidimensional 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716360" y="3141720"/>
          <a:ext cx="4319640" cy="32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3141720"/>
                    <a:ext cx="431964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79280" y="3141720"/>
          <a:ext cx="4319640" cy="324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141720"/>
                    <a:ext cx="431964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B467-FC33-4CF3-8F48-DD8A349466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adán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5 lokalitách bylo provedeno vzorkování společenstev cizopasníků ryb, jehož výsledky jsou uloženy v souboru. Data jsou uložena ve formátu, kdy jeden řádek odpovídá jednomu nalezenému cizopasníkovi. Sloupce nejvýznamnější pro analýzu jsou označeny žlutou barvou. Za pomoci software MS Excel, Statistica for Windows a SPSS proveďte na datech následující analýz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tvořte tabulku zastoupení cizopasníků na lokalitách, která poslouží jako základ pro všechny ostatní analýz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veďte korespondenční analýzu společens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veďte shlukovou analýzu společenstev na lokalitách pomo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accardova koeficien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ray-Curtiss indexu vypočteném na relativizovaných logaritmovaných abundancí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matici indexů podobnosti proveďte multidimensional sc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60E1-EAD3-4F64-8E7B-8ED557C9C9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0" t="13684" r="67154" b="30889"/>
          <a:stretch/>
        </p:blipFill>
        <p:spPr>
          <a:xfrm>
            <a:off x="5219640" y="2441520"/>
            <a:ext cx="3532320" cy="37242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 vytvoření tabulky společenstev použijte kontingenční tabulky v MS Excel (alternativou je kontingenční tabulka v libovolném S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ázdná místa v tabulce musí být doplněna nul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0" t="17284" r="54217" b="22969"/>
          <a:stretch/>
        </p:blipFill>
        <p:spPr>
          <a:xfrm>
            <a:off x="324000" y="2349360"/>
            <a:ext cx="4895640" cy="39927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rot="5400000">
            <a:off x="4644720" y="386064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6996-DA66-436D-9896-A6E339D9D9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respondenční analýzu lze spočítat v SW Statistica for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Multivariate Exploratory Techniques-&gt;Correspondenc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276720" y="2349360"/>
          <a:ext cx="575928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349360"/>
                    <a:ext cx="57592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458640" y="2205000"/>
            <a:ext cx="3033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ovat lze v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ájemno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zic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ruhů a lokal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524E-8EF8-4FE8-8E28-CCDA98A876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211640" y="2924280"/>
            <a:ext cx="3265560" cy="1901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156360" y="4941720"/>
            <a:ext cx="2714760" cy="15814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triky podobnosti společenstev lze spočítat v řadě nástrojů, zde je zobrazen postup pro výpočet Jaccardova koeficientu v SP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ccardův koeficient je založen na binárních datech, prvním krokem je tedy překódování 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ansform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Recode-&gt;Into same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24000" y="2997360"/>
            <a:ext cx="3208320" cy="1707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00360" y="4221000"/>
            <a:ext cx="1295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11640" y="4148280"/>
            <a:ext cx="151272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6000" y="3068640"/>
            <a:ext cx="13698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15280" y="5372280"/>
            <a:ext cx="14778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84720" y="3716280"/>
            <a:ext cx="865440" cy="1297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68AE-30E0-49B5-839C-820C76A68C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379760" y="2003400"/>
            <a:ext cx="3648240" cy="2362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ccardův koeficient lze v SPSS spočít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alyze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Correlate-&gt;Distanc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54200" y="2060640"/>
            <a:ext cx="3193920" cy="2262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411280" y="4076640"/>
            <a:ext cx="20876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54200" y="3716280"/>
            <a:ext cx="86544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54200" y="3500280"/>
            <a:ext cx="86544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98920" y="2708280"/>
            <a:ext cx="2737080" cy="649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rcRect l="21150" t="37646" r="45556" b="40935"/>
          <a:stretch/>
        </p:blipFill>
        <p:spPr>
          <a:xfrm>
            <a:off x="2411280" y="4581360"/>
            <a:ext cx="5327640" cy="2089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flipH="1">
            <a:off x="6587640" y="2492280"/>
            <a:ext cx="1008360" cy="2449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571A-B3B8-4B75-A01E-D0F616EABF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up řešení 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import do Statistica for Windows musí být asociační matice připravena ve speciální formě a převedena na matici vzdálenost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13684" r="70754" b="68319"/>
          <a:stretch/>
        </p:blipFill>
        <p:spPr>
          <a:xfrm>
            <a:off x="468360" y="2133720"/>
            <a:ext cx="4680000" cy="1800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rcRect l="0" t="13684" r="70754" b="67415"/>
          <a:stretch/>
        </p:blipFill>
        <p:spPr>
          <a:xfrm>
            <a:off x="3924360" y="4437000"/>
            <a:ext cx="4680000" cy="1890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067280" y="2997360"/>
            <a:ext cx="1368360" cy="1726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34880" y="36450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-Jac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B64E-836F-4DCD-937B-17AE190451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V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jsnazší cestou transformace dat je pomocí vzorců v MS Ex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10743" r="64904" b="78515"/>
          <a:stretch/>
        </p:blipFill>
        <p:spPr>
          <a:xfrm>
            <a:off x="611280" y="1827360"/>
            <a:ext cx="4606920" cy="880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rcRect l="9455" t="10080" r="50052" b="48339"/>
          <a:stretch/>
        </p:blipFill>
        <p:spPr>
          <a:xfrm>
            <a:off x="539640" y="3284640"/>
            <a:ext cx="4824360" cy="3095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419440" y="208116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transform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21600" y="450216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izace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5EEC-AC3F-49C5-9E7E-1B1147EC60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003640" y="2060640"/>
            <a:ext cx="2880000" cy="24033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V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ray Curtiss index lze spočítat pomocí makra v Statistica for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0" t="0" r="69854" b="68337"/>
          <a:stretch/>
        </p:blipFill>
        <p:spPr>
          <a:xfrm>
            <a:off x="684360" y="2060640"/>
            <a:ext cx="3779640" cy="2481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276720" y="3284640"/>
            <a:ext cx="2087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4560" y="2637000"/>
            <a:ext cx="865080" cy="288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48360" y="2708280"/>
            <a:ext cx="86508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59640" y="3429000"/>
            <a:ext cx="86508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rcRect l="0" t="11067" r="69852" b="68998"/>
          <a:stretch/>
        </p:blipFill>
        <p:spPr>
          <a:xfrm>
            <a:off x="2627280" y="4811760"/>
            <a:ext cx="4248360" cy="17128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796000" y="3716280"/>
            <a:ext cx="0" cy="1225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00D7-B8D2-4090-A1A6-0860FD2179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10:17:04Z</dcterms:created>
  <dc:creator>Jiří Jarkovský</dc:creator>
  <dc:description/>
  <dc:language>en-US</dc:language>
  <cp:lastModifiedBy>Jiří Jarkovský</cp:lastModifiedBy>
  <dcterms:modified xsi:type="dcterms:W3CDTF">2006-05-23T19:49:19Z</dcterms:modified>
  <cp:revision>61</cp:revision>
  <dc:subject/>
  <dc:title>DIEP - </dc:title>
</cp:coreProperties>
</file>