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F98-B54F-4256-819E-0372E44D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B9E-BA57-4FC5-AEA0-6C815D30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A6C-65BA-40E6-A9BB-0DDFD0BA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C36-6204-4AB8-BE7A-443360AF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9FE-C088-432F-82B0-C13D3B2C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6D3-94B3-4EF8-8611-DCF6CAA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BB1-D71F-4B04-8E72-3C814E3E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2E8-E1A4-4B1D-B11C-6AD1D2D1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E84-F811-4C4F-A887-36FEA2A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07D-37B1-4F49-A930-112DC8F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99D-3580-4694-BC33-A31FDA6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426-7E99-4C42-B8C3-69662BB5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24AF-B3AA-423A-A4EE-2752F4FB1F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plexní aplikace metod analýzy biodiverz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: parazitární společen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databázové tabulky vytvořte tabulku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lokalita x vyšší taxonomické skupiny,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tabulku obohaťte o typ lok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bundanci vyjádřete jak ve formě absolutní, tak relativní v rámci společen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čtěte indexy diverzity vyšších taxonomických skupin a srovnejte j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očtěte asociační matici Jaccardových a kvantitativních Sorensenových koeficient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shlukovou analýzu pro alespoň 2 asociační ma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korespondenční analýzu na abundan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MDS na Jaccardových koeficientech a srovnejte s výsledky 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y ordinačních metod graficky srovnejt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46Z</dcterms:created>
  <dc:creator>Jarkovsky</dc:creator>
  <dc:description/>
  <dc:language>en-US</dc:language>
  <cp:lastModifiedBy>Jarkovsky</cp:lastModifiedBy>
  <dcterms:modified xsi:type="dcterms:W3CDTF">2010-12-14T07:45:20Z</dcterms:modified>
  <cp:revision>6</cp:revision>
  <dc:subject/>
  <dc:title>Vícerozměrné analýzy pro biodiverzitní data</dc:title>
</cp:coreProperties>
</file>