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4E5-116B-48A3-8D02-E1E35CDC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0EB-7376-48EB-9AB6-DE1E5B58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1AC-DB89-40E0-BE2D-DFB54152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B7C-0F34-48D7-BB10-B7341C3D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A2F-398A-4B7B-A4C6-49F025BB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6D5-6028-4647-8262-D3043915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187-DA8F-43CE-BEB0-36CB3D64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E00-2454-430D-B4F7-5BF77814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C62-3DAE-451C-929F-0A0A4412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8E4-0989-401F-AAEF-23BDE253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A46-9DA4-4A3B-B357-ACEA633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495-89C0-4BA8-9907-CA3573DC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626A-BB67-4629-8964-FEE4BD65D8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plexní aplikace metod analýzy biodiverz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: parazitární společen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 databázové tabulky vytvořte tabulku 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lokalita x vyšší taxonomické skupiny,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tabulku obohaťte o typ lokal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bundanci vyjádřete jak ve formě absolutní, tak relativní v rámci společen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očtěte indexy diverzity vyšších taxonomických skupin a srovnejte j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očtěte asociační matici Jaccardových a kvantitativních Sorensenových koeficient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shlukovou analýzu pro alespoň 2 asociační ma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korespondenční analýzu na abundanc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MDS na Jaccardových koeficientech a srovnejte s výsledky 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y ordinačních metod graficky srovnejt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40:46Z</dcterms:created>
  <dc:creator>Jarkovsky</dc:creator>
  <dc:description/>
  <dc:language>en-US</dc:language>
  <cp:lastModifiedBy>Jarkovsky</cp:lastModifiedBy>
  <dcterms:modified xsi:type="dcterms:W3CDTF">2010-12-14T07:45:20Z</dcterms:modified>
  <cp:revision>6</cp:revision>
  <dc:subject/>
  <dc:title>Vícerozměrné analýzy pro biodiverzitní data</dc:title>
</cp:coreProperties>
</file>