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0BA5-9EA9-4DC6-AE42-7BE8B64FD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15A6-7212-4939-AB30-4F098AE06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8387-A791-460A-93B9-F2D924010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ACFB-15F4-456A-891C-2AD44C3F5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A16B-815E-4E5F-9C0F-0D8054B50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9FFE-AD5C-483F-984F-E49B38313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78D8-3C4C-4776-B88F-8D9EA4E8E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A1A6-8325-4A86-88BF-E117AA8E9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ED75-800C-4BDD-BB15-208EC9454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A556-5FB0-446A-A061-2294F48B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A82F-B8F8-480C-BD20-C99C02D7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4C45-D5DE-4D67-B160-DB6FC705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ABA88-892C-4FD4-B651-843B18D8E7A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omplexní aplikace metod analýzy biodiverz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: parazitární společenstv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Z databázové tabulky vytvořte tabulku </a:t>
            </a:r>
            <a:br>
              <a:rPr sz="2200"/>
            </a:br>
            <a:r>
              <a:rPr b="0" lang="cs-CZ" sz="2200" spc="-1" strike="noStrike" u="sng">
                <a:solidFill>
                  <a:srgbClr val="000000"/>
                </a:solidFill>
                <a:uFillTx/>
                <a:latin typeface="Calibri"/>
              </a:rPr>
              <a:t>lokalita x vyšší taxonomické skupiny,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tabulku obohaťte o typ lokality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Abundanci vyjádřete jak ve formě absolutní, tak relativní v rámci společenstv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počtěte indexy diverzity vyšších taxonomických skupin a srovnejte je mezi různými typy lokali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ypočtěte asociační matici Jaccardových a kvantitativních Sorensenových koeficientů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ykreslete shlukovou analýzu pro alespoň 2 asociační mati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ykreslete korespondenční analýzu na abundancí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ykreslete MDS na Jaccardových koeficientech a srovnejte s výsledky C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ýsledky ordinačních metod graficky srovnejte mezi různými typy lokali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7T08:40:46Z</dcterms:created>
  <dc:creator>Jarkovsky</dc:creator>
  <dc:description/>
  <dc:language>en-US</dc:language>
  <cp:lastModifiedBy>Jarkovsky</cp:lastModifiedBy>
  <dcterms:modified xsi:type="dcterms:W3CDTF">2010-12-14T07:45:20Z</dcterms:modified>
  <cp:revision>6</cp:revision>
  <dc:subject/>
  <dc:title>Vícerozměrné analýzy pro biodiverzitní data</dc:title>
</cp:coreProperties>
</file>