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A063-3760-4BD9-88BB-8331B0472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D3DB-453E-44F5-B84B-097DBFEF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989E-DBCA-497F-BE47-273DCE2E8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9264-A8B0-4629-AC39-F52D1C1C6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AFEB-0E84-40DB-AAEE-3B372C73A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1277-1799-412E-A263-4A40359A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0D9D-9955-4B7F-B789-E950AE3F2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0F19-5778-434B-B8A6-EC5C3429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C349-29FE-4C14-AF47-FA5A2ECB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F11B-5738-4C9D-A4EF-AAAA2550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AE0D-3A8C-4120-A393-FA3EA1AA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547A-0841-4D44-99D2-EF06B4F1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7981-8F65-4CD9-AECC-82A7D51025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plexní aplikace metod analýzy biodiverz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: parazitární společenst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 databázové tabulky vytvořte tabulku </a:t>
            </a:r>
            <a:br>
              <a:rPr sz="2200"/>
            </a:br>
            <a:r>
              <a:rPr b="0" lang="cs-CZ" sz="2200" spc="-1" strike="noStrike" u="sng">
                <a:solidFill>
                  <a:srgbClr val="000000"/>
                </a:solidFill>
                <a:uFillTx/>
                <a:latin typeface="Calibri"/>
              </a:rPr>
              <a:t>lokalita x vyšší taxonomické skupiny,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tabulku obohaťte o typ lokali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bundanci vyjádřete jak ve formě absolutní, tak relativní v rámci společenst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počtěte indexy diverzity vyšších taxonomických skupin a srovnejte je mezi různými typy lokal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počtěte asociační matici Jaccardových a kvantitativních Sorensenových koeficientů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kreslete shlukovou analýzu pro alespoň 2 asociační mati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kreslete korespondenční analýzu na abundancíc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ykreslete MDS na Jaccardových koeficientech a srovnejte s výsledky C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sledky ordinačních metod graficky srovnejte mezi různými typy lokal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08:40:46Z</dcterms:created>
  <dc:creator>Jarkovsky</dc:creator>
  <dc:description/>
  <dc:language>en-US</dc:language>
  <cp:lastModifiedBy>Jarkovsky</cp:lastModifiedBy>
  <dcterms:modified xsi:type="dcterms:W3CDTF">2010-12-14T07:45:20Z</dcterms:modified>
  <cp:revision>6</cp:revision>
  <dc:subject/>
  <dc:title>Vícerozměrné analýzy pro biodiverzitní data</dc:title>
</cp:coreProperties>
</file>