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7DE-C179-4AA5-8E25-36DF2B32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B79-947B-45E5-BCDC-D0E46576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E10-E89A-4D10-A089-DFCB0A60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C1A-27FA-4B7B-BC37-F0DCE967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35F-C733-47C8-8829-5F78BCFE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12E8-BA3B-4250-96E5-3CE4A923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0087-04E4-43D4-A5CE-23B6BA91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4B5-EFE0-4346-8146-62B5AAB6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C6B9-923D-4206-B7BD-B69524F9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DE9-1BB1-499A-8A0F-9079DE1A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14F7-7773-4E7B-8FAE-3E624FCF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85B-50C0-4EEB-8009-68C934C5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D1B1-2755-41EF-B93D-94F1625711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plexní aplikace metod analýzy biodiverz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: parazitární společenst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 databázové tabulky vytvořte tabulku </a:t>
            </a:r>
            <a:br>
              <a:rPr sz="2200"/>
            </a:b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lokalita x vyšší taxonomické skupiny,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tabulku obohaťte o typ lokali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bundanci vyjádřete jak ve formě absolutní, tak relativní v rámci společen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očtěte indexy diverzity vyšších taxonomických skupin a srovnejte je mezi různými typy lokal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počtěte asociační matici Jaccardových a kvantitativních Sorensenových koeficient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kreslete shlukovou analýzu pro alespoň 2 asociační ma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kreslete korespondenční analýzu na abundancí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kreslete MDS na Jaccardových koeficientech a srovnejte s výsledky 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y ordinačních metod graficky srovnejte mezi různými typy lokal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8:40:46Z</dcterms:created>
  <dc:creator>Jarkovsky</dc:creator>
  <dc:description/>
  <dc:language>en-US</dc:language>
  <cp:lastModifiedBy>Jarkovsky</cp:lastModifiedBy>
  <dcterms:modified xsi:type="dcterms:W3CDTF">2010-12-14T07:45:20Z</dcterms:modified>
  <cp:revision>6</cp:revision>
  <dc:subject/>
  <dc:title>Vícerozměrné analýzy pro biodiverzitní data</dc:title>
</cp:coreProperties>
</file>