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wmf" ContentType="image/x-wmf"/>
  <Override PartName="/ppt/media/image2.png" ContentType="image/png"/>
  <Override PartName="/ppt/media/image13.wmf" ContentType="image/x-wmf"/>
  <Override PartName="/ppt/media/image5.png" ContentType="image/png"/>
  <Override PartName="/ppt/media/image9.png" ContentType="image/png"/>
  <Override PartName="/ppt/media/image8.wmf" ContentType="image/x-wmf"/>
  <Override PartName="/ppt/media/image7.wmf" ContentType="image/x-wmf"/>
  <Override PartName="/ppt/media/image12.png" ContentType="image/png"/>
  <Override PartName="/ppt/media/image11.wmf" ContentType="image/x-wmf"/>
  <Override PartName="/ppt/media/image3.png" ContentType="image/png"/>
  <Override PartName="/ppt/media/image23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jpeg" ContentType="image/jpeg"/>
  <Override PartName="/ppt/media/image15.wmf" ContentType="image/x-wmf"/>
  <Override PartName="/ppt/media/image14.wmf" ContentType="image/x-wmf"/>
  <Override PartName="/ppt/media/image6.wmf" ContentType="image/x-wmf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62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e5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037880"/>
            <a:ext cx="7848720" cy="242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95400"/>
            <a:ext cx="7848720" cy="242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62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e5c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037880"/>
            <a:ext cx="3830040" cy="242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479120" y="1037880"/>
            <a:ext cx="3830040" cy="242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95400"/>
            <a:ext cx="3830040" cy="242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479120" y="3695400"/>
            <a:ext cx="3830040" cy="242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62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e5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037880"/>
            <a:ext cx="2527200" cy="242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11120" y="1037880"/>
            <a:ext cx="2527200" cy="242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765040" y="1037880"/>
            <a:ext cx="2527200" cy="242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95400"/>
            <a:ext cx="2527200" cy="242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11120" y="3695400"/>
            <a:ext cx="2527200" cy="242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765040" y="3695400"/>
            <a:ext cx="2527200" cy="242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62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e5c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037880"/>
            <a:ext cx="7848720" cy="50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62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e5c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037880"/>
            <a:ext cx="7848720" cy="508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62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e5c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037880"/>
            <a:ext cx="3830040" cy="508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479120" y="1037880"/>
            <a:ext cx="3830040" cy="508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62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e5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848720" cy="289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62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e5c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037880"/>
            <a:ext cx="3830040" cy="242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479120" y="1037880"/>
            <a:ext cx="3830040" cy="508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695400"/>
            <a:ext cx="3830040" cy="242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62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e5c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037880"/>
            <a:ext cx="7848720" cy="50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62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e5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037880"/>
            <a:ext cx="3830040" cy="508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79120" y="1037880"/>
            <a:ext cx="3830040" cy="242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479120" y="3695400"/>
            <a:ext cx="3830040" cy="242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62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e5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037880"/>
            <a:ext cx="3830040" cy="242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79120" y="1037880"/>
            <a:ext cx="3830040" cy="242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95400"/>
            <a:ext cx="7848720" cy="242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62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e5c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037880"/>
            <a:ext cx="7848720" cy="242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695400"/>
            <a:ext cx="7848720" cy="242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62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e5c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037880"/>
            <a:ext cx="3830040" cy="242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479120" y="1037880"/>
            <a:ext cx="3830040" cy="242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695400"/>
            <a:ext cx="3830040" cy="242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479120" y="3695400"/>
            <a:ext cx="3830040" cy="242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62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e5c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037880"/>
            <a:ext cx="2527200" cy="242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111120" y="1037880"/>
            <a:ext cx="2527200" cy="242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765040" y="1037880"/>
            <a:ext cx="2527200" cy="242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695400"/>
            <a:ext cx="2527200" cy="242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111120" y="3695400"/>
            <a:ext cx="2527200" cy="242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765040" y="3695400"/>
            <a:ext cx="2527200" cy="242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62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e5c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037880"/>
            <a:ext cx="7848720" cy="508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62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e5c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037880"/>
            <a:ext cx="3830040" cy="508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479120" y="1037880"/>
            <a:ext cx="3830040" cy="508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62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e5c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848720" cy="289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62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e5c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037880"/>
            <a:ext cx="3830040" cy="242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479120" y="1037880"/>
            <a:ext cx="3830040" cy="508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95400"/>
            <a:ext cx="3830040" cy="242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62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e5c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037880"/>
            <a:ext cx="3830040" cy="508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79120" y="1037880"/>
            <a:ext cx="3830040" cy="242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479120" y="3695400"/>
            <a:ext cx="3830040" cy="242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62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e5c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037880"/>
            <a:ext cx="3830040" cy="242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479120" y="1037880"/>
            <a:ext cx="3830040" cy="242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95400"/>
            <a:ext cx="7848720" cy="242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3.png"/><Relationship Id="rId12" Type="http://schemas.openxmlformats.org/officeDocument/2006/relationships/slideLayout" Target="../slideLayouts/slideLayout13.xml"/><Relationship Id="rId13" Type="http://schemas.openxmlformats.org/officeDocument/2006/relationships/slideLayout" Target="../slideLayouts/slideLayout14.xml"/><Relationship Id="rId14" Type="http://schemas.openxmlformats.org/officeDocument/2006/relationships/slideLayout" Target="../slideLayouts/slideLayout15.xml"/><Relationship Id="rId15" Type="http://schemas.openxmlformats.org/officeDocument/2006/relationships/slideLayout" Target="../slideLayouts/slideLayout16.xml"/><Relationship Id="rId16" Type="http://schemas.openxmlformats.org/officeDocument/2006/relationships/slideLayout" Target="../slideLayouts/slideLayout17.xml"/><Relationship Id="rId17" Type="http://schemas.openxmlformats.org/officeDocument/2006/relationships/slideLayout" Target="../slideLayouts/slideLayout18.xml"/><Relationship Id="rId18" Type="http://schemas.openxmlformats.org/officeDocument/2006/relationships/slideLayout" Target="../slideLayouts/slideLayout19.xml"/><Relationship Id="rId19" Type="http://schemas.openxmlformats.org/officeDocument/2006/relationships/slideLayout" Target="../slideLayouts/slideLayout20.xml"/><Relationship Id="rId20" Type="http://schemas.openxmlformats.org/officeDocument/2006/relationships/slideLayout" Target="../slideLayouts/slideLayout21.xml"/><Relationship Id="rId21" Type="http://schemas.openxmlformats.org/officeDocument/2006/relationships/slideLayout" Target="../slideLayouts/slideLayout22.xml"/><Relationship Id="rId22" Type="http://schemas.openxmlformats.org/officeDocument/2006/relationships/slideLayout" Target="../slideLayouts/slideLayout23.xml"/><Relationship Id="rId2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62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5c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2e5c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037880"/>
            <a:ext cx="7848720" cy="508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589c5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589c54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82bf5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9" descr=""/>
          <p:cNvPicPr/>
          <p:nvPr/>
        </p:nvPicPr>
        <p:blipFill>
          <a:blip r:embed="rId2"/>
          <a:srcRect l="0" t="32971" r="0" b="0"/>
          <a:stretch/>
        </p:blipFill>
        <p:spPr>
          <a:xfrm>
            <a:off x="0" y="95400"/>
            <a:ext cx="1222200" cy="6624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" name="Object 21"/>
          <p:cNvGraphicFramePr/>
          <p:nvPr/>
        </p:nvGraphicFramePr>
        <p:xfrm>
          <a:off x="0" y="6796080"/>
          <a:ext cx="8394840" cy="61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" name="Object 2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796080"/>
                    <a:ext cx="8394840" cy="6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" name="Picture 24" descr=""/>
          <p:cNvPicPr/>
          <p:nvPr/>
        </p:nvPicPr>
        <p:blipFill>
          <a:blip r:embed="rId5"/>
          <a:stretch/>
        </p:blipFill>
        <p:spPr>
          <a:xfrm>
            <a:off x="8342280" y="0"/>
            <a:ext cx="80172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Line 22"/>
          <p:cNvSpPr/>
          <p:nvPr/>
        </p:nvSpPr>
        <p:spPr>
          <a:xfrm>
            <a:off x="0" y="6843600"/>
            <a:ext cx="9144000" cy="0"/>
          </a:xfrm>
          <a:prstGeom prst="line">
            <a:avLst/>
          </a:prstGeom>
          <a:ln w="50760">
            <a:solidFill>
              <a:srgbClr val="ffca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AutoShape 9"/>
          <p:cNvSpPr/>
          <p:nvPr/>
        </p:nvSpPr>
        <p:spPr>
          <a:xfrm>
            <a:off x="0" y="3213000"/>
            <a:ext cx="1727280" cy="1346400"/>
          </a:xfrm>
          <a:prstGeom prst="roundRect">
            <a:avLst>
              <a:gd name="adj" fmla="val 16667"/>
            </a:avLst>
          </a:prstGeom>
          <a:solidFill>
            <a:srgbClr val="ffca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8"/>
          <p:cNvSpPr/>
          <p:nvPr/>
        </p:nvSpPr>
        <p:spPr>
          <a:xfrm>
            <a:off x="0" y="2971800"/>
            <a:ext cx="9144000" cy="1244520"/>
          </a:xfrm>
          <a:prstGeom prst="rect">
            <a:avLst/>
          </a:prstGeom>
          <a:solidFill>
            <a:srgbClr val="ffca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0" y="3441600"/>
            <a:ext cx="800280" cy="1119240"/>
          </a:xfrm>
          <a:prstGeom prst="rect">
            <a:avLst/>
          </a:prstGeom>
          <a:solidFill>
            <a:srgbClr val="ffca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1"/>
          <p:cNvSpPr/>
          <p:nvPr/>
        </p:nvSpPr>
        <p:spPr>
          <a:xfrm>
            <a:off x="28440" y="0"/>
            <a:ext cx="0" cy="6858000"/>
          </a:xfrm>
          <a:prstGeom prst="line">
            <a:avLst/>
          </a:prstGeom>
          <a:ln w="50760">
            <a:solidFill>
              <a:srgbClr val="ffca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12" descr=""/>
          <p:cNvPicPr/>
          <p:nvPr/>
        </p:nvPicPr>
        <p:blipFill>
          <a:blip r:embed="rId2"/>
          <a:stretch/>
        </p:blipFill>
        <p:spPr>
          <a:xfrm>
            <a:off x="57240" y="4302000"/>
            <a:ext cx="207720" cy="2034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"/>
          <p:cNvPicPr/>
          <p:nvPr/>
        </p:nvPicPr>
        <p:blipFill>
          <a:blip r:embed="rId3"/>
          <a:stretch/>
        </p:blipFill>
        <p:spPr>
          <a:xfrm>
            <a:off x="351000" y="4303800"/>
            <a:ext cx="207720" cy="2030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4" descr=""/>
          <p:cNvPicPr/>
          <p:nvPr/>
        </p:nvPicPr>
        <p:blipFill>
          <a:blip r:embed="rId4"/>
          <a:stretch/>
        </p:blipFill>
        <p:spPr>
          <a:xfrm>
            <a:off x="644400" y="4305240"/>
            <a:ext cx="208080" cy="2034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5" descr=""/>
          <p:cNvPicPr/>
          <p:nvPr/>
        </p:nvPicPr>
        <p:blipFill>
          <a:blip r:embed="rId5"/>
          <a:stretch/>
        </p:blipFill>
        <p:spPr>
          <a:xfrm>
            <a:off x="934920" y="4307040"/>
            <a:ext cx="208080" cy="2030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6" descr=""/>
          <p:cNvPicPr/>
          <p:nvPr/>
        </p:nvPicPr>
        <p:blipFill>
          <a:blip r:embed="rId6"/>
          <a:stretch/>
        </p:blipFill>
        <p:spPr>
          <a:xfrm>
            <a:off x="61920" y="4033800"/>
            <a:ext cx="208080" cy="2034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7" descr=""/>
          <p:cNvPicPr/>
          <p:nvPr/>
        </p:nvPicPr>
        <p:blipFill>
          <a:blip r:embed="rId7"/>
          <a:stretch/>
        </p:blipFill>
        <p:spPr>
          <a:xfrm>
            <a:off x="66600" y="3743280"/>
            <a:ext cx="208080" cy="2034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8" descr=""/>
          <p:cNvPicPr/>
          <p:nvPr/>
        </p:nvPicPr>
        <p:blipFill>
          <a:blip r:embed="rId8"/>
          <a:stretch/>
        </p:blipFill>
        <p:spPr>
          <a:xfrm>
            <a:off x="68400" y="3479760"/>
            <a:ext cx="207720" cy="2034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9" descr=""/>
          <p:cNvPicPr/>
          <p:nvPr/>
        </p:nvPicPr>
        <p:blipFill>
          <a:blip r:embed="rId9"/>
          <a:stretch/>
        </p:blipFill>
        <p:spPr>
          <a:xfrm>
            <a:off x="353880" y="4044960"/>
            <a:ext cx="208080" cy="2030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0" descr=""/>
          <p:cNvPicPr/>
          <p:nvPr/>
        </p:nvPicPr>
        <p:blipFill>
          <a:blip r:embed="rId10"/>
          <a:stretch/>
        </p:blipFill>
        <p:spPr>
          <a:xfrm>
            <a:off x="1214280" y="4309920"/>
            <a:ext cx="208080" cy="203400"/>
          </a:xfrm>
          <a:prstGeom prst="rect">
            <a:avLst/>
          </a:prstGeom>
          <a:ln w="0">
            <a:noFill/>
          </a:ln>
        </p:spPr>
      </p:pic>
      <p:sp>
        <p:nvSpPr>
          <p:cNvPr id="56" name="Line 23"/>
          <p:cNvSpPr/>
          <p:nvPr/>
        </p:nvSpPr>
        <p:spPr>
          <a:xfrm>
            <a:off x="8304120" y="68184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4"/>
          <p:cNvSpPr/>
          <p:nvPr/>
        </p:nvSpPr>
        <p:spPr>
          <a:xfrm>
            <a:off x="8312040" y="6815160"/>
            <a:ext cx="47880" cy="42840"/>
          </a:xfrm>
          <a:prstGeom prst="rect">
            <a:avLst/>
          </a:prstGeom>
          <a:solidFill>
            <a:srgbClr val="ffca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8" descr=""/>
          <p:cNvPicPr/>
          <p:nvPr/>
        </p:nvPicPr>
        <p:blipFill>
          <a:blip r:embed="rId11"/>
          <a:stretch/>
        </p:blipFill>
        <p:spPr>
          <a:xfrm>
            <a:off x="8342280" y="0"/>
            <a:ext cx="80172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62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5c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2e5c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037880"/>
            <a:ext cx="7848720" cy="508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589c5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589c54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82bf5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1"/>
          </p:nvPr>
        </p:nvSpPr>
        <p:spPr>
          <a:xfrm>
            <a:off x="1359000" y="6597360"/>
            <a:ext cx="703584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GB" sz="9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GB" sz="900" spc="-1" strike="noStrike">
                <a:solidFill>
                  <a:srgbClr val="000000"/>
                </a:solidFill>
                <a:latin typeface="Times New Roman"/>
              </a:rPr>
              <a:t> International Summer School on Computational Biology, August 13 – 15, 2007, Mikulov, Czech Republi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2"/>
    <p:sldLayoutId id="2147483663" r:id="rId13"/>
    <p:sldLayoutId id="2147483664" r:id="rId14"/>
    <p:sldLayoutId id="2147483665" r:id="rId15"/>
    <p:sldLayoutId id="2147483666" r:id="rId16"/>
    <p:sldLayoutId id="2147483667" r:id="rId17"/>
    <p:sldLayoutId id="2147483668" r:id="rId18"/>
    <p:sldLayoutId id="2147483669" r:id="rId19"/>
    <p:sldLayoutId id="2147483670" r:id="rId20"/>
    <p:sldLayoutId id="2147483671" r:id="rId21"/>
    <p:sldLayoutId id="2147483672" r:id="rId22"/>
    <p:sldLayoutId id="2147483673" r:id="rId2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9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9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9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9.png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9.png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9.png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9.png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9.png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9.png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9.png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9.png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9.png"/><Relationship Id="rId3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25"/>
          <p:cNvSpPr/>
          <p:nvPr/>
        </p:nvSpPr>
        <p:spPr>
          <a:xfrm>
            <a:off x="1359000" y="6597720"/>
            <a:ext cx="703584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9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 International Summer School on Computational Biology, August 13 – 15, 2007, Mikulov, Czech Re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"/>
          <p:cNvSpPr/>
          <p:nvPr/>
        </p:nvSpPr>
        <p:spPr>
          <a:xfrm>
            <a:off x="254160" y="3051000"/>
            <a:ext cx="803880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e5c00"/>
                </a:solidFill>
                <a:latin typeface="Arial"/>
              </a:rPr>
              <a:t>X. Clustering of Data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e5c00"/>
                </a:solidFill>
                <a:latin typeface="Arial"/>
              </a:rPr>
              <a:t>Introduction</a:t>
            </a:r>
            <a:endParaRPr b="0" lang="en-US" sz="2800" spc="-1" strike="noStrike">
              <a:solidFill>
                <a:srgbClr val="2e5c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76280" y="1481040"/>
            <a:ext cx="3790800" cy="108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451"/>
              </a:spcBef>
              <a:buClr>
                <a:srgbClr val="2e5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Classification of sites (localities) or spe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451"/>
              </a:spcBef>
              <a:buClr>
                <a:srgbClr val="2e5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earching for groups in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572000" y="1480680"/>
            <a:ext cx="3819600" cy="6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451"/>
              </a:spcBef>
              <a:buClr>
                <a:srgbClr val="2e5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rrange sites and species along an underlying trend in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5"/>
          <p:cNvSpPr/>
          <p:nvPr/>
        </p:nvSpPr>
        <p:spPr>
          <a:xfrm>
            <a:off x="4549680" y="981000"/>
            <a:ext cx="377028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82bf5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ORDIN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6"/>
          <p:cNvSpPr/>
          <p:nvPr/>
        </p:nvSpPr>
        <p:spPr>
          <a:xfrm>
            <a:off x="550800" y="981000"/>
            <a:ext cx="377028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82bf5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CLUSTER 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Line 7"/>
          <p:cNvSpPr/>
          <p:nvPr/>
        </p:nvSpPr>
        <p:spPr>
          <a:xfrm>
            <a:off x="0" y="3141720"/>
            <a:ext cx="6697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Line 8"/>
          <p:cNvSpPr/>
          <p:nvPr/>
        </p:nvSpPr>
        <p:spPr>
          <a:xfrm>
            <a:off x="0" y="3386160"/>
            <a:ext cx="6697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9"/>
          <p:cNvSpPr/>
          <p:nvPr/>
        </p:nvSpPr>
        <p:spPr>
          <a:xfrm>
            <a:off x="0" y="31417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Line 10"/>
          <p:cNvSpPr/>
          <p:nvPr/>
        </p:nvSpPr>
        <p:spPr>
          <a:xfrm>
            <a:off x="6697800" y="31417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11"/>
          <p:cNvGrpSpPr/>
          <p:nvPr/>
        </p:nvGrpSpPr>
        <p:grpSpPr>
          <a:xfrm>
            <a:off x="820800" y="2765520"/>
            <a:ext cx="7459560" cy="3302640"/>
            <a:chOff x="820800" y="2765520"/>
            <a:chExt cx="7459560" cy="3302640"/>
          </a:xfrm>
        </p:grpSpPr>
        <p:sp>
          <p:nvSpPr>
            <p:cNvPr id="290" name="Line 12"/>
            <p:cNvSpPr/>
            <p:nvPr/>
          </p:nvSpPr>
          <p:spPr>
            <a:xfrm>
              <a:off x="5688000" y="4270320"/>
              <a:ext cx="2592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Line 13"/>
            <p:cNvSpPr/>
            <p:nvPr/>
          </p:nvSpPr>
          <p:spPr>
            <a:xfrm flipH="1">
              <a:off x="6928920" y="3029040"/>
              <a:ext cx="1800" cy="2496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Line 14"/>
            <p:cNvSpPr/>
            <p:nvPr/>
          </p:nvSpPr>
          <p:spPr>
            <a:xfrm>
              <a:off x="2843280" y="3111480"/>
              <a:ext cx="0" cy="2316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Line 15"/>
            <p:cNvSpPr/>
            <p:nvPr/>
          </p:nvSpPr>
          <p:spPr>
            <a:xfrm flipH="1">
              <a:off x="2843280" y="5427720"/>
              <a:ext cx="21636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Text Box 16"/>
            <p:cNvSpPr/>
            <p:nvPr/>
          </p:nvSpPr>
          <p:spPr>
            <a:xfrm>
              <a:off x="4801680" y="551196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Text Box 17"/>
            <p:cNvSpPr/>
            <p:nvPr/>
          </p:nvSpPr>
          <p:spPr>
            <a:xfrm>
              <a:off x="2731680" y="276696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4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AutoShape 18"/>
            <p:cNvSpPr/>
            <p:nvPr/>
          </p:nvSpPr>
          <p:spPr>
            <a:xfrm rot="16200000">
              <a:off x="1401840" y="4079520"/>
              <a:ext cx="2212920" cy="339480"/>
            </a:xfrm>
            <a:prstGeom prst="triangle">
              <a:avLst>
                <a:gd name="adj" fmla="val 50000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AutoShape 19"/>
            <p:cNvSpPr/>
            <p:nvPr/>
          </p:nvSpPr>
          <p:spPr>
            <a:xfrm rot="5400000">
              <a:off x="4216320" y="4151160"/>
              <a:ext cx="2212920" cy="339840"/>
            </a:xfrm>
            <a:prstGeom prst="triangle">
              <a:avLst>
                <a:gd name="adj" fmla="val 50000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Text Box 20"/>
            <p:cNvSpPr/>
            <p:nvPr/>
          </p:nvSpPr>
          <p:spPr>
            <a:xfrm>
              <a:off x="5634720" y="2957400"/>
              <a:ext cx="111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400" spc="-1" strike="noStrike">
                  <a:solidFill>
                    <a:srgbClr val="000000"/>
                  </a:solidFill>
                  <a:latin typeface="Arial"/>
                </a:rPr>
                <a:t>Factor ax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Line 21"/>
            <p:cNvSpPr/>
            <p:nvPr/>
          </p:nvSpPr>
          <p:spPr>
            <a:xfrm flipH="1">
              <a:off x="5684760" y="3333600"/>
              <a:ext cx="433440" cy="7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Line 22"/>
            <p:cNvSpPr/>
            <p:nvPr/>
          </p:nvSpPr>
          <p:spPr>
            <a:xfrm>
              <a:off x="6191280" y="3316320"/>
              <a:ext cx="57636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Line 23"/>
            <p:cNvSpPr/>
            <p:nvPr/>
          </p:nvSpPr>
          <p:spPr>
            <a:xfrm flipV="1">
              <a:off x="6954840" y="3749400"/>
              <a:ext cx="820800" cy="5223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Line 24"/>
            <p:cNvSpPr/>
            <p:nvPr/>
          </p:nvSpPr>
          <p:spPr>
            <a:xfrm>
              <a:off x="6912000" y="4253040"/>
              <a:ext cx="792000" cy="7207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Text Box 25"/>
            <p:cNvSpPr/>
            <p:nvPr/>
          </p:nvSpPr>
          <p:spPr>
            <a:xfrm>
              <a:off x="7560720" y="338940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4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Text Box 26"/>
            <p:cNvSpPr/>
            <p:nvPr/>
          </p:nvSpPr>
          <p:spPr>
            <a:xfrm>
              <a:off x="7705080" y="490068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Rectangle 27"/>
            <p:cNvSpPr/>
            <p:nvPr/>
          </p:nvSpPr>
          <p:spPr>
            <a:xfrm>
              <a:off x="1179360" y="2965320"/>
              <a:ext cx="216000" cy="5400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Rectangle 28"/>
            <p:cNvSpPr/>
            <p:nvPr/>
          </p:nvSpPr>
          <p:spPr>
            <a:xfrm>
              <a:off x="1646280" y="3613320"/>
              <a:ext cx="404640" cy="14335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Rectangle 29"/>
            <p:cNvSpPr/>
            <p:nvPr/>
          </p:nvSpPr>
          <p:spPr>
            <a:xfrm>
              <a:off x="1628640" y="3414600"/>
              <a:ext cx="69840" cy="2232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Rectangle 30"/>
            <p:cNvSpPr/>
            <p:nvPr/>
          </p:nvSpPr>
          <p:spPr>
            <a:xfrm>
              <a:off x="1179360" y="3181320"/>
              <a:ext cx="505080" cy="9144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Rectangle 31"/>
            <p:cNvSpPr/>
            <p:nvPr/>
          </p:nvSpPr>
          <p:spPr>
            <a:xfrm>
              <a:off x="1179360" y="4746600"/>
              <a:ext cx="505080" cy="5763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Rectangle 32"/>
            <p:cNvSpPr/>
            <p:nvPr/>
          </p:nvSpPr>
          <p:spPr>
            <a:xfrm>
              <a:off x="1163520" y="2765520"/>
              <a:ext cx="69840" cy="309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Rectangle 33"/>
            <p:cNvSpPr/>
            <p:nvPr/>
          </p:nvSpPr>
          <p:spPr>
            <a:xfrm>
              <a:off x="1098720" y="3108240"/>
              <a:ext cx="288720" cy="14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Line 34"/>
            <p:cNvSpPr/>
            <p:nvPr/>
          </p:nvSpPr>
          <p:spPr>
            <a:xfrm>
              <a:off x="860400" y="5689440"/>
              <a:ext cx="1152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Text Box 35"/>
            <p:cNvSpPr/>
            <p:nvPr/>
          </p:nvSpPr>
          <p:spPr>
            <a:xfrm>
              <a:off x="1001520" y="5761080"/>
              <a:ext cx="875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400" spc="-1" strike="noStrike">
                  <a:solidFill>
                    <a:srgbClr val="000000"/>
                  </a:solidFill>
                  <a:latin typeface="Arial"/>
                </a:rPr>
                <a:t>similarit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314" name="Object 36"/>
            <p:cNvGraphicFramePr/>
            <p:nvPr/>
          </p:nvGraphicFramePr>
          <p:xfrm>
            <a:off x="2987640" y="4869000"/>
            <a:ext cx="432000" cy="2905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15" name="Object 36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87640" y="4869000"/>
                      <a:ext cx="432000" cy="290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16" name="Object 37"/>
            <p:cNvGraphicFramePr/>
            <p:nvPr/>
          </p:nvGraphicFramePr>
          <p:xfrm>
            <a:off x="3348000" y="4508640"/>
            <a:ext cx="432000" cy="2905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17" name="Object 37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348000" y="4508640"/>
                      <a:ext cx="432000" cy="290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18" name="Object 38"/>
            <p:cNvGraphicFramePr/>
            <p:nvPr/>
          </p:nvGraphicFramePr>
          <p:xfrm>
            <a:off x="4044960" y="3789360"/>
            <a:ext cx="431640" cy="2905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319" name="Object 38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044960" y="3789360"/>
                      <a:ext cx="431640" cy="290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20" name="Object 39"/>
            <p:cNvGraphicFramePr/>
            <p:nvPr/>
          </p:nvGraphicFramePr>
          <p:xfrm>
            <a:off x="4332240" y="3498840"/>
            <a:ext cx="432000" cy="2905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321" name="Object 39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332240" y="3498840"/>
                      <a:ext cx="432000" cy="290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22" name="Object 40"/>
            <p:cNvGraphicFramePr/>
            <p:nvPr/>
          </p:nvGraphicFramePr>
          <p:xfrm>
            <a:off x="4405320" y="4002120"/>
            <a:ext cx="431640" cy="29052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323" name="Object 40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4405320" y="4002120"/>
                      <a:ext cx="431640" cy="290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24" name="Object 41"/>
            <p:cNvGraphicFramePr/>
            <p:nvPr/>
          </p:nvGraphicFramePr>
          <p:xfrm>
            <a:off x="5713560" y="4135320"/>
            <a:ext cx="431640" cy="290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325" name="Object 41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5713560" y="4135320"/>
                      <a:ext cx="431640" cy="290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26" name="Object 42"/>
            <p:cNvGraphicFramePr/>
            <p:nvPr/>
          </p:nvGraphicFramePr>
          <p:xfrm>
            <a:off x="6149880" y="4122720"/>
            <a:ext cx="432000" cy="29052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327" name="Object 42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6149880" y="4122720"/>
                      <a:ext cx="432000" cy="290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28" name="Object 43"/>
            <p:cNvGraphicFramePr/>
            <p:nvPr/>
          </p:nvGraphicFramePr>
          <p:xfrm>
            <a:off x="7201080" y="4125960"/>
            <a:ext cx="431640" cy="29052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329" name="Object 43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7201080" y="4125960"/>
                      <a:ext cx="431640" cy="290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30" name="Object 44"/>
            <p:cNvGraphicFramePr/>
            <p:nvPr/>
          </p:nvGraphicFramePr>
          <p:xfrm>
            <a:off x="7704000" y="4125960"/>
            <a:ext cx="432000" cy="29052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331" name="Object 44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7704000" y="4125960"/>
                      <a:ext cx="432000" cy="290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32" name="Object 45"/>
            <p:cNvGraphicFramePr/>
            <p:nvPr/>
          </p:nvGraphicFramePr>
          <p:xfrm>
            <a:off x="7416720" y="4486320"/>
            <a:ext cx="432000" cy="29052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333" name="Object 45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416720" y="4486320"/>
                      <a:ext cx="432000" cy="290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34" name="Object 46"/>
            <p:cNvGraphicFramePr/>
            <p:nvPr/>
          </p:nvGraphicFramePr>
          <p:xfrm>
            <a:off x="820800" y="2838600"/>
            <a:ext cx="431640" cy="2905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335" name="Object 46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820800" y="2838600"/>
                      <a:ext cx="431640" cy="290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36" name="Object 47"/>
            <p:cNvGraphicFramePr/>
            <p:nvPr/>
          </p:nvGraphicFramePr>
          <p:xfrm>
            <a:off x="820800" y="3341520"/>
            <a:ext cx="431640" cy="29052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337" name="Object 47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820800" y="3341520"/>
                      <a:ext cx="431640" cy="290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38" name="Object 48"/>
            <p:cNvGraphicFramePr/>
            <p:nvPr/>
          </p:nvGraphicFramePr>
          <p:xfrm>
            <a:off x="820800" y="3962520"/>
            <a:ext cx="431640" cy="29052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339" name="Object 48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20800" y="3962520"/>
                      <a:ext cx="431640" cy="290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40" name="Object 49"/>
            <p:cNvGraphicFramePr/>
            <p:nvPr/>
          </p:nvGraphicFramePr>
          <p:xfrm>
            <a:off x="820800" y="4610160"/>
            <a:ext cx="431640" cy="2905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341" name="Object 49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820800" y="4610160"/>
                      <a:ext cx="431640" cy="290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42" name="Object 50"/>
            <p:cNvGraphicFramePr/>
            <p:nvPr/>
          </p:nvGraphicFramePr>
          <p:xfrm>
            <a:off x="820800" y="5180040"/>
            <a:ext cx="431640" cy="29052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343" name="Object 50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820800" y="5180040"/>
                      <a:ext cx="431640" cy="290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62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e5c00"/>
                </a:solidFill>
                <a:latin typeface="Arial"/>
              </a:rPr>
              <a:t>Ordination</a:t>
            </a:r>
            <a:endParaRPr b="0" lang="en-US" sz="2800" spc="-1" strike="noStrike">
              <a:solidFill>
                <a:srgbClr val="2e5c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542880" y="1038240"/>
            <a:ext cx="7848720" cy="148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589c5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rdination and cluster analysis can be used without environmental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589c5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Explanatory variables in ordination are theoretical (underlying) variables = environmental gradi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4"/>
          <p:cNvSpPr/>
          <p:nvPr/>
        </p:nvSpPr>
        <p:spPr>
          <a:xfrm>
            <a:off x="1647720" y="3309840"/>
            <a:ext cx="1871640" cy="15303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95480"/>
                <a:tab algn="l" pos="2190600"/>
                <a:tab algn="l" pos="3286080"/>
                <a:tab algn="l" pos="4381560"/>
                <a:tab algn="l" pos="5477040"/>
                <a:tab algn="l" pos="6572160"/>
                <a:tab algn="l" pos="7667640"/>
                <a:tab algn="l" pos="8763120"/>
                <a:tab algn="l" pos="9858240"/>
                <a:tab algn="l" pos="1095372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pecies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095480"/>
                <a:tab algn="l" pos="2190600"/>
                <a:tab algn="l" pos="3286080"/>
                <a:tab algn="l" pos="4381560"/>
                <a:tab algn="l" pos="5477040"/>
                <a:tab algn="l" pos="6572160"/>
                <a:tab algn="l" pos="7667640"/>
                <a:tab algn="l" pos="8763120"/>
                <a:tab algn="l" pos="985824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095480"/>
                <a:tab algn="l" pos="2190600"/>
                <a:tab algn="l" pos="3286080"/>
                <a:tab algn="l" pos="4381560"/>
                <a:tab algn="l" pos="5477040"/>
                <a:tab algn="l" pos="6572160"/>
                <a:tab algn="l" pos="7667640"/>
                <a:tab algn="l" pos="8763120"/>
                <a:tab algn="l" pos="985824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5"/>
          <p:cNvSpPr/>
          <p:nvPr/>
        </p:nvSpPr>
        <p:spPr>
          <a:xfrm>
            <a:off x="2270160" y="2876400"/>
            <a:ext cx="71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1095480"/>
                <a:tab algn="l" pos="2190600"/>
                <a:tab algn="l" pos="3286080"/>
                <a:tab algn="l" pos="4381560"/>
                <a:tab algn="l" pos="5477040"/>
                <a:tab algn="l" pos="6572160"/>
                <a:tab algn="l" pos="7667640"/>
                <a:tab algn="l" pos="8763120"/>
                <a:tab algn="l" pos="9858240"/>
                <a:tab algn="l" pos="1095372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si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6"/>
          <p:cNvSpPr/>
          <p:nvPr/>
        </p:nvSpPr>
        <p:spPr>
          <a:xfrm>
            <a:off x="1574640" y="3094200"/>
            <a:ext cx="201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1095480"/>
                <a:tab algn="l" pos="2190600"/>
                <a:tab algn="l" pos="3286080"/>
                <a:tab algn="l" pos="4381560"/>
                <a:tab algn="l" pos="5477040"/>
                <a:tab algn="l" pos="6572160"/>
                <a:tab algn="l" pos="7667640"/>
                <a:tab algn="l" pos="8763120"/>
                <a:tab algn="l" pos="9858240"/>
                <a:tab algn="l" pos="1095372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1 2 3 ………………… i ……….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7"/>
          <p:cNvSpPr/>
          <p:nvPr/>
        </p:nvSpPr>
        <p:spPr>
          <a:xfrm>
            <a:off x="1414440" y="3255840"/>
            <a:ext cx="324000" cy="16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095480"/>
                <a:tab algn="l" pos="2190600"/>
                <a:tab algn="l" pos="3286080"/>
                <a:tab algn="l" pos="4381560"/>
                <a:tab algn="l" pos="5477040"/>
                <a:tab algn="l" pos="6572160"/>
                <a:tab algn="l" pos="7667640"/>
                <a:tab algn="l" pos="8763120"/>
                <a:tab algn="l" pos="9858240"/>
                <a:tab algn="l" pos="1095372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95480"/>
                <a:tab algn="l" pos="2190600"/>
                <a:tab algn="l" pos="3286080"/>
                <a:tab algn="l" pos="4381560"/>
                <a:tab algn="l" pos="5477040"/>
                <a:tab algn="l" pos="6572160"/>
                <a:tab algn="l" pos="7667640"/>
                <a:tab algn="l" pos="8763120"/>
                <a:tab algn="l" pos="9858240"/>
                <a:tab algn="l" pos="1095372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95480"/>
                <a:tab algn="l" pos="2190600"/>
                <a:tab algn="l" pos="3286080"/>
                <a:tab algn="l" pos="4381560"/>
                <a:tab algn="l" pos="5477040"/>
                <a:tab algn="l" pos="6572160"/>
                <a:tab algn="l" pos="7667640"/>
                <a:tab algn="l" pos="8763120"/>
                <a:tab algn="l" pos="9858240"/>
                <a:tab algn="l" pos="1095372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95480"/>
                <a:tab algn="l" pos="2190600"/>
                <a:tab algn="l" pos="3286080"/>
                <a:tab algn="l" pos="4381560"/>
                <a:tab algn="l" pos="5477040"/>
                <a:tab algn="l" pos="6572160"/>
                <a:tab algn="l" pos="7667640"/>
                <a:tab algn="l" pos="8763120"/>
                <a:tab algn="l" pos="9858240"/>
                <a:tab algn="l" pos="1095372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95480"/>
                <a:tab algn="l" pos="2190600"/>
                <a:tab algn="l" pos="3286080"/>
                <a:tab algn="l" pos="4381560"/>
                <a:tab algn="l" pos="5477040"/>
                <a:tab algn="l" pos="6572160"/>
                <a:tab algn="l" pos="7667640"/>
                <a:tab algn="l" pos="8763120"/>
                <a:tab algn="l" pos="9858240"/>
                <a:tab algn="l" pos="1095372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95480"/>
                <a:tab algn="l" pos="2190600"/>
                <a:tab algn="l" pos="3286080"/>
                <a:tab algn="l" pos="4381560"/>
                <a:tab algn="l" pos="5477040"/>
                <a:tab algn="l" pos="6572160"/>
                <a:tab algn="l" pos="7667640"/>
                <a:tab algn="l" pos="8763120"/>
                <a:tab algn="l" pos="9858240"/>
                <a:tab algn="l" pos="1095372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95480"/>
                <a:tab algn="l" pos="2190600"/>
                <a:tab algn="l" pos="3286080"/>
                <a:tab algn="l" pos="4381560"/>
                <a:tab algn="l" pos="5477040"/>
                <a:tab algn="l" pos="6572160"/>
                <a:tab algn="l" pos="7667640"/>
                <a:tab algn="l" pos="8763120"/>
                <a:tab algn="l" pos="9858240"/>
                <a:tab algn="l" pos="1095372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95480"/>
                <a:tab algn="l" pos="2190600"/>
                <a:tab algn="l" pos="3286080"/>
                <a:tab algn="l" pos="4381560"/>
                <a:tab algn="l" pos="5477040"/>
                <a:tab algn="l" pos="6572160"/>
                <a:tab algn="l" pos="7667640"/>
                <a:tab algn="l" pos="8763120"/>
                <a:tab algn="l" pos="9858240"/>
                <a:tab algn="l" pos="1095372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95480"/>
                <a:tab algn="l" pos="2190600"/>
                <a:tab algn="l" pos="3286080"/>
                <a:tab algn="l" pos="4381560"/>
                <a:tab algn="l" pos="5477040"/>
                <a:tab algn="l" pos="6572160"/>
                <a:tab algn="l" pos="7667640"/>
                <a:tab algn="l" pos="8763120"/>
                <a:tab algn="l" pos="9858240"/>
                <a:tab algn="l" pos="1095372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95480"/>
                <a:tab algn="l" pos="2190600"/>
                <a:tab algn="l" pos="3286080"/>
                <a:tab algn="l" pos="4381560"/>
                <a:tab algn="l" pos="5477040"/>
                <a:tab algn="l" pos="6572160"/>
                <a:tab algn="l" pos="7667640"/>
                <a:tab algn="l" pos="8763120"/>
                <a:tab algn="l" pos="9858240"/>
                <a:tab algn="l" pos="1095372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8"/>
          <p:cNvSpPr/>
          <p:nvPr/>
        </p:nvSpPr>
        <p:spPr>
          <a:xfrm rot="16200000">
            <a:off x="760680" y="3862440"/>
            <a:ext cx="100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1095480"/>
                <a:tab algn="l" pos="2190600"/>
                <a:tab algn="l" pos="3286080"/>
                <a:tab algn="l" pos="4381560"/>
                <a:tab algn="l" pos="5477040"/>
                <a:tab algn="l" pos="6572160"/>
                <a:tab algn="l" pos="7667640"/>
                <a:tab algn="l" pos="8763120"/>
                <a:tab algn="l" pos="9858240"/>
                <a:tab algn="l" pos="1095372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Arial"/>
              </a:rPr>
              <a:t>spec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AutoShape 9"/>
          <p:cNvSpPr/>
          <p:nvPr/>
        </p:nvSpPr>
        <p:spPr>
          <a:xfrm>
            <a:off x="3662280" y="3597120"/>
            <a:ext cx="1081080" cy="557280"/>
          </a:xfrm>
          <a:prstGeom prst="rightArrow">
            <a:avLst>
              <a:gd name="adj1" fmla="val 50000"/>
              <a:gd name="adj2" fmla="val 48498"/>
            </a:avLst>
          </a:prstGeom>
          <a:solidFill>
            <a:srgbClr val="ffca0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10"/>
          <p:cNvSpPr/>
          <p:nvPr/>
        </p:nvSpPr>
        <p:spPr>
          <a:xfrm>
            <a:off x="958680" y="5094360"/>
            <a:ext cx="361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1095480"/>
                <a:tab algn="l" pos="2190600"/>
                <a:tab algn="l" pos="3286080"/>
                <a:tab algn="l" pos="4381560"/>
                <a:tab algn="l" pos="5477040"/>
                <a:tab algn="l" pos="6572160"/>
                <a:tab algn="l" pos="7667640"/>
                <a:tab algn="l" pos="8763120"/>
                <a:tab algn="l" pos="9858240"/>
                <a:tab algn="l" pos="1095372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Each sample includes values of many speci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11"/>
          <p:cNvSpPr/>
          <p:nvPr/>
        </p:nvSpPr>
        <p:spPr>
          <a:xfrm>
            <a:off x="958680" y="5699160"/>
            <a:ext cx="3630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1095480"/>
                <a:tab algn="l" pos="2190600"/>
                <a:tab algn="l" pos="3286080"/>
                <a:tab algn="l" pos="4381560"/>
                <a:tab algn="l" pos="5477040"/>
                <a:tab algn="l" pos="6572160"/>
                <a:tab algn="l" pos="7667640"/>
                <a:tab algn="l" pos="8763120"/>
                <a:tab algn="l" pos="9858240"/>
                <a:tab algn="l" pos="1095372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Response = dependent vari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095480"/>
                <a:tab algn="l" pos="2190600"/>
                <a:tab algn="l" pos="3286080"/>
                <a:tab algn="l" pos="4381560"/>
                <a:tab algn="l" pos="5477040"/>
                <a:tab algn="l" pos="6572160"/>
                <a:tab algn="l" pos="7667640"/>
                <a:tab algn="l" pos="8763120"/>
                <a:tab algn="l" pos="9858240"/>
                <a:tab algn="l" pos="1095372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species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Picture 12" descr=""/>
          <p:cNvPicPr/>
          <p:nvPr/>
        </p:nvPicPr>
        <p:blipFill>
          <a:blip r:embed="rId1"/>
          <a:stretch/>
        </p:blipFill>
        <p:spPr>
          <a:xfrm>
            <a:off x="4992840" y="3200400"/>
            <a:ext cx="2646360" cy="2263680"/>
          </a:xfrm>
          <a:prstGeom prst="rect">
            <a:avLst/>
          </a:prstGeom>
          <a:ln w="0">
            <a:noFill/>
          </a:ln>
        </p:spPr>
      </p:pic>
      <p:sp>
        <p:nvSpPr>
          <p:cNvPr id="355" name="Text Box 13"/>
          <p:cNvSpPr/>
          <p:nvPr/>
        </p:nvSpPr>
        <p:spPr>
          <a:xfrm>
            <a:off x="5256360" y="2795760"/>
            <a:ext cx="228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1095480"/>
                <a:tab algn="l" pos="2190600"/>
                <a:tab algn="l" pos="3286080"/>
                <a:tab algn="l" pos="4381560"/>
                <a:tab algn="l" pos="5477040"/>
                <a:tab algn="l" pos="6572160"/>
                <a:tab algn="l" pos="7667640"/>
                <a:tab algn="l" pos="8763120"/>
                <a:tab algn="l" pos="9858240"/>
                <a:tab algn="l" pos="1095372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ordination diagr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14"/>
          <p:cNvSpPr/>
          <p:nvPr/>
        </p:nvSpPr>
        <p:spPr>
          <a:xfrm>
            <a:off x="4924440" y="2762280"/>
            <a:ext cx="3048120" cy="2657520"/>
          </a:xfrm>
          <a:prstGeom prst="rect">
            <a:avLst/>
          </a:prstGeom>
          <a:noFill/>
          <a:ln w="12708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2"/>
          <p:cNvSpPr/>
          <p:nvPr/>
        </p:nvSpPr>
        <p:spPr>
          <a:xfrm>
            <a:off x="0" y="115920"/>
            <a:ext cx="91440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e5c00"/>
                </a:solidFill>
                <a:latin typeface="Arial"/>
              </a:rPr>
              <a:t>Ordination analysis: types of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3"/>
          <p:cNvSpPr/>
          <p:nvPr/>
        </p:nvSpPr>
        <p:spPr>
          <a:xfrm>
            <a:off x="1330200" y="2852640"/>
            <a:ext cx="1871640" cy="15303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95480"/>
                <a:tab algn="l" pos="2190600"/>
                <a:tab algn="l" pos="3286080"/>
                <a:tab algn="l" pos="4381560"/>
                <a:tab algn="l" pos="5477040"/>
                <a:tab algn="l" pos="6572160"/>
                <a:tab algn="l" pos="7667640"/>
                <a:tab algn="l" pos="8763120"/>
                <a:tab algn="l" pos="9858240"/>
                <a:tab algn="l" pos="1095372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pecies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095480"/>
                <a:tab algn="l" pos="2190600"/>
                <a:tab algn="l" pos="3286080"/>
                <a:tab algn="l" pos="4381560"/>
                <a:tab algn="l" pos="5477040"/>
                <a:tab algn="l" pos="6572160"/>
                <a:tab algn="l" pos="7667640"/>
                <a:tab algn="l" pos="8763120"/>
                <a:tab algn="l" pos="985824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095480"/>
                <a:tab algn="l" pos="2190600"/>
                <a:tab algn="l" pos="3286080"/>
                <a:tab algn="l" pos="4381560"/>
                <a:tab algn="l" pos="5477040"/>
                <a:tab algn="l" pos="6572160"/>
                <a:tab algn="l" pos="7667640"/>
                <a:tab algn="l" pos="8763120"/>
                <a:tab algn="l" pos="985824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4"/>
          <p:cNvSpPr/>
          <p:nvPr/>
        </p:nvSpPr>
        <p:spPr>
          <a:xfrm>
            <a:off x="1689120" y="2492280"/>
            <a:ext cx="71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1095480"/>
                <a:tab algn="l" pos="2190600"/>
                <a:tab algn="l" pos="3286080"/>
                <a:tab algn="l" pos="4381560"/>
                <a:tab algn="l" pos="5477040"/>
                <a:tab algn="l" pos="6572160"/>
                <a:tab algn="l" pos="7667640"/>
                <a:tab algn="l" pos="8763120"/>
                <a:tab algn="l" pos="9858240"/>
                <a:tab algn="l" pos="1095372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si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5"/>
          <p:cNvSpPr/>
          <p:nvPr/>
        </p:nvSpPr>
        <p:spPr>
          <a:xfrm>
            <a:off x="1257480" y="2637000"/>
            <a:ext cx="20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1095480"/>
                <a:tab algn="l" pos="2190600"/>
                <a:tab algn="l" pos="3286080"/>
                <a:tab algn="l" pos="4381560"/>
                <a:tab algn="l" pos="5477040"/>
                <a:tab algn="l" pos="6572160"/>
                <a:tab algn="l" pos="7667640"/>
                <a:tab algn="l" pos="8763120"/>
                <a:tab algn="l" pos="9858240"/>
                <a:tab algn="l" pos="1095372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1 2 3 ………………… i ……….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6"/>
          <p:cNvSpPr/>
          <p:nvPr/>
        </p:nvSpPr>
        <p:spPr>
          <a:xfrm>
            <a:off x="1096920" y="2798640"/>
            <a:ext cx="324000" cy="16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095480"/>
                <a:tab algn="l" pos="2190600"/>
                <a:tab algn="l" pos="3286080"/>
                <a:tab algn="l" pos="4381560"/>
                <a:tab algn="l" pos="5477040"/>
                <a:tab algn="l" pos="6572160"/>
                <a:tab algn="l" pos="7667640"/>
                <a:tab algn="l" pos="8763120"/>
                <a:tab algn="l" pos="9858240"/>
                <a:tab algn="l" pos="1095372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95480"/>
                <a:tab algn="l" pos="2190600"/>
                <a:tab algn="l" pos="3286080"/>
                <a:tab algn="l" pos="4381560"/>
                <a:tab algn="l" pos="5477040"/>
                <a:tab algn="l" pos="6572160"/>
                <a:tab algn="l" pos="7667640"/>
                <a:tab algn="l" pos="8763120"/>
                <a:tab algn="l" pos="9858240"/>
                <a:tab algn="l" pos="1095372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95480"/>
                <a:tab algn="l" pos="2190600"/>
                <a:tab algn="l" pos="3286080"/>
                <a:tab algn="l" pos="4381560"/>
                <a:tab algn="l" pos="5477040"/>
                <a:tab algn="l" pos="6572160"/>
                <a:tab algn="l" pos="7667640"/>
                <a:tab algn="l" pos="8763120"/>
                <a:tab algn="l" pos="9858240"/>
                <a:tab algn="l" pos="1095372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95480"/>
                <a:tab algn="l" pos="2190600"/>
                <a:tab algn="l" pos="3286080"/>
                <a:tab algn="l" pos="4381560"/>
                <a:tab algn="l" pos="5477040"/>
                <a:tab algn="l" pos="6572160"/>
                <a:tab algn="l" pos="7667640"/>
                <a:tab algn="l" pos="8763120"/>
                <a:tab algn="l" pos="9858240"/>
                <a:tab algn="l" pos="1095372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95480"/>
                <a:tab algn="l" pos="2190600"/>
                <a:tab algn="l" pos="3286080"/>
                <a:tab algn="l" pos="4381560"/>
                <a:tab algn="l" pos="5477040"/>
                <a:tab algn="l" pos="6572160"/>
                <a:tab algn="l" pos="7667640"/>
                <a:tab algn="l" pos="8763120"/>
                <a:tab algn="l" pos="9858240"/>
                <a:tab algn="l" pos="1095372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95480"/>
                <a:tab algn="l" pos="2190600"/>
                <a:tab algn="l" pos="3286080"/>
                <a:tab algn="l" pos="4381560"/>
                <a:tab algn="l" pos="5477040"/>
                <a:tab algn="l" pos="6572160"/>
                <a:tab algn="l" pos="7667640"/>
                <a:tab algn="l" pos="8763120"/>
                <a:tab algn="l" pos="9858240"/>
                <a:tab algn="l" pos="1095372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95480"/>
                <a:tab algn="l" pos="2190600"/>
                <a:tab algn="l" pos="3286080"/>
                <a:tab algn="l" pos="4381560"/>
                <a:tab algn="l" pos="5477040"/>
                <a:tab algn="l" pos="6572160"/>
                <a:tab algn="l" pos="7667640"/>
                <a:tab algn="l" pos="8763120"/>
                <a:tab algn="l" pos="9858240"/>
                <a:tab algn="l" pos="1095372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95480"/>
                <a:tab algn="l" pos="2190600"/>
                <a:tab algn="l" pos="3286080"/>
                <a:tab algn="l" pos="4381560"/>
                <a:tab algn="l" pos="5477040"/>
                <a:tab algn="l" pos="6572160"/>
                <a:tab algn="l" pos="7667640"/>
                <a:tab algn="l" pos="8763120"/>
                <a:tab algn="l" pos="9858240"/>
                <a:tab algn="l" pos="1095372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95480"/>
                <a:tab algn="l" pos="2190600"/>
                <a:tab algn="l" pos="3286080"/>
                <a:tab algn="l" pos="4381560"/>
                <a:tab algn="l" pos="5477040"/>
                <a:tab algn="l" pos="6572160"/>
                <a:tab algn="l" pos="7667640"/>
                <a:tab algn="l" pos="8763120"/>
                <a:tab algn="l" pos="9858240"/>
                <a:tab algn="l" pos="1095372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95480"/>
                <a:tab algn="l" pos="2190600"/>
                <a:tab algn="l" pos="3286080"/>
                <a:tab algn="l" pos="4381560"/>
                <a:tab algn="l" pos="5477040"/>
                <a:tab algn="l" pos="6572160"/>
                <a:tab algn="l" pos="7667640"/>
                <a:tab algn="l" pos="8763120"/>
                <a:tab algn="l" pos="9858240"/>
                <a:tab algn="l" pos="1095372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7"/>
          <p:cNvSpPr/>
          <p:nvPr/>
        </p:nvSpPr>
        <p:spPr>
          <a:xfrm rot="16200000">
            <a:off x="560520" y="3441600"/>
            <a:ext cx="100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1095480"/>
                <a:tab algn="l" pos="2190600"/>
                <a:tab algn="l" pos="3286080"/>
                <a:tab algn="l" pos="4381560"/>
                <a:tab algn="l" pos="5477040"/>
                <a:tab algn="l" pos="6572160"/>
                <a:tab algn="l" pos="7667640"/>
                <a:tab algn="l" pos="8763120"/>
                <a:tab algn="l" pos="9858240"/>
                <a:tab algn="l" pos="1095372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Arial"/>
              </a:rPr>
              <a:t>spec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AutoShape 8"/>
          <p:cNvSpPr/>
          <p:nvPr/>
        </p:nvSpPr>
        <p:spPr>
          <a:xfrm>
            <a:off x="896760" y="2405160"/>
            <a:ext cx="2592720" cy="2160360"/>
          </a:xfrm>
          <a:prstGeom prst="roundRect">
            <a:avLst>
              <a:gd name="adj" fmla="val 5657"/>
            </a:avLst>
          </a:prstGeom>
          <a:noFill/>
          <a:ln w="31680">
            <a:solidFill>
              <a:srgbClr val="00c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9"/>
          <p:cNvSpPr/>
          <p:nvPr/>
        </p:nvSpPr>
        <p:spPr>
          <a:xfrm>
            <a:off x="3849840" y="2286000"/>
            <a:ext cx="458604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tabLst>
                <a:tab algn="l" pos="0"/>
                <a:tab algn="l" pos="1095480"/>
                <a:tab algn="l" pos="2190600"/>
                <a:tab algn="l" pos="3286080"/>
                <a:tab algn="l" pos="4381560"/>
                <a:tab algn="l" pos="5477040"/>
                <a:tab algn="l" pos="6572160"/>
                <a:tab algn="l" pos="7667640"/>
                <a:tab algn="l" pos="8763120"/>
                <a:tab algn="l" pos="9858240"/>
                <a:tab algn="l" pos="1095372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quantitative dat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buClr>
                <a:srgbClr val="00c800"/>
              </a:buClr>
              <a:buSzPct val="70000"/>
              <a:buFont typeface="Wingdings" charset="2"/>
              <a:buChar char=""/>
              <a:tabLst>
                <a:tab algn="l" pos="1095480"/>
                <a:tab algn="l" pos="2190600"/>
                <a:tab algn="l" pos="3286080"/>
                <a:tab algn="l" pos="4381560"/>
                <a:tab algn="l" pos="5477040"/>
                <a:tab algn="l" pos="6572160"/>
                <a:tab algn="l" pos="7667640"/>
                <a:tab algn="l" pos="8763120"/>
                <a:tab algn="l" pos="9858240"/>
                <a:tab algn="l" pos="1095372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number of individuals of defined spec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buClr>
                <a:srgbClr val="00c800"/>
              </a:buClr>
              <a:buSzPct val="70000"/>
              <a:buFont typeface="Wingdings" charset="2"/>
              <a:buChar char=""/>
              <a:tabLst>
                <a:tab algn="l" pos="1095480"/>
                <a:tab algn="l" pos="2190600"/>
                <a:tab algn="l" pos="3286080"/>
                <a:tab algn="l" pos="4381560"/>
                <a:tab algn="l" pos="5477040"/>
                <a:tab algn="l" pos="6572160"/>
                <a:tab algn="l" pos="7667640"/>
                <a:tab algn="l" pos="8763120"/>
                <a:tab algn="l" pos="9858240"/>
                <a:tab algn="l" pos="1095372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ercentage co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buClr>
                <a:srgbClr val="00c800"/>
              </a:buClr>
              <a:buSzPct val="70000"/>
              <a:buFont typeface="Wingdings" charset="2"/>
              <a:buChar char=""/>
              <a:tabLst>
                <a:tab algn="l" pos="1095480"/>
                <a:tab algn="l" pos="2190600"/>
                <a:tab algn="l" pos="3286080"/>
                <a:tab algn="l" pos="4381560"/>
                <a:tab algn="l" pos="5477040"/>
                <a:tab algn="l" pos="6572160"/>
                <a:tab algn="l" pos="7667640"/>
                <a:tab algn="l" pos="8763120"/>
                <a:tab algn="l" pos="9858240"/>
                <a:tab algn="l" pos="1095372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bioma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tabLst>
                <a:tab algn="l" pos="0"/>
                <a:tab algn="l" pos="1095480"/>
                <a:tab algn="l" pos="2190600"/>
                <a:tab algn="l" pos="3286080"/>
                <a:tab algn="l" pos="4381560"/>
                <a:tab algn="l" pos="5477040"/>
                <a:tab algn="l" pos="6572160"/>
                <a:tab algn="l" pos="7667640"/>
                <a:tab algn="l" pos="8763120"/>
                <a:tab algn="l" pos="985824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tabLst>
                <a:tab algn="l" pos="0"/>
                <a:tab algn="l" pos="1095480"/>
                <a:tab algn="l" pos="2190600"/>
                <a:tab algn="l" pos="3286080"/>
                <a:tab algn="l" pos="4381560"/>
                <a:tab algn="l" pos="5477040"/>
                <a:tab algn="l" pos="6572160"/>
                <a:tab algn="l" pos="7667640"/>
                <a:tab algn="l" pos="8763120"/>
                <a:tab algn="l" pos="9858240"/>
                <a:tab algn="l" pos="1095372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semiquantitative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buClr>
                <a:srgbClr val="00c800"/>
              </a:buClr>
              <a:buSzPct val="70000"/>
              <a:buFont typeface="Wingdings" charset="2"/>
              <a:buChar char=""/>
              <a:tabLst>
                <a:tab algn="l" pos="1095480"/>
                <a:tab algn="l" pos="2190600"/>
                <a:tab algn="l" pos="3286080"/>
                <a:tab algn="l" pos="4381560"/>
                <a:tab algn="l" pos="5477040"/>
                <a:tab algn="l" pos="6572160"/>
                <a:tab algn="l" pos="7667640"/>
                <a:tab algn="l" pos="8763120"/>
                <a:tab algn="l" pos="9858240"/>
                <a:tab algn="l" pos="1095372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Braun-Blanquet sc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tabLst>
                <a:tab algn="l" pos="0"/>
                <a:tab algn="l" pos="1095480"/>
                <a:tab algn="l" pos="2190600"/>
                <a:tab algn="l" pos="3286080"/>
                <a:tab algn="l" pos="4381560"/>
                <a:tab algn="l" pos="5477040"/>
                <a:tab algn="l" pos="6572160"/>
                <a:tab algn="l" pos="7667640"/>
                <a:tab algn="l" pos="8763120"/>
                <a:tab algn="l" pos="985824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tabLst>
                <a:tab algn="l" pos="0"/>
                <a:tab algn="l" pos="1095480"/>
                <a:tab algn="l" pos="2190600"/>
                <a:tab algn="l" pos="3286080"/>
                <a:tab algn="l" pos="4381560"/>
                <a:tab algn="l" pos="5477040"/>
                <a:tab algn="l" pos="6572160"/>
                <a:tab algn="l" pos="7667640"/>
                <a:tab algn="l" pos="8763120"/>
                <a:tab algn="l" pos="9858240"/>
                <a:tab algn="l" pos="1095372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qualitative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buClr>
                <a:srgbClr val="00c800"/>
              </a:buClr>
              <a:buSzPct val="70000"/>
              <a:buFont typeface="Wingdings" charset="2"/>
              <a:buChar char=""/>
              <a:tabLst>
                <a:tab algn="l" pos="1095480"/>
                <a:tab algn="l" pos="2190600"/>
                <a:tab algn="l" pos="3286080"/>
                <a:tab algn="l" pos="4381560"/>
                <a:tab algn="l" pos="5477040"/>
                <a:tab algn="l" pos="6572160"/>
                <a:tab algn="l" pos="7667640"/>
                <a:tab algn="l" pos="8763120"/>
                <a:tab algn="l" pos="9858240"/>
                <a:tab algn="l" pos="1095372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resence / abs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ectangle 10"/>
          <p:cNvSpPr/>
          <p:nvPr/>
        </p:nvSpPr>
        <p:spPr>
          <a:xfrm>
            <a:off x="2463840" y="1574640"/>
            <a:ext cx="36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1095480"/>
                <a:tab algn="l" pos="2190600"/>
                <a:tab algn="l" pos="3286080"/>
                <a:tab algn="l" pos="4381560"/>
                <a:tab algn="l" pos="5477040"/>
                <a:tab algn="l" pos="6572160"/>
                <a:tab algn="l" pos="7667640"/>
                <a:tab algn="l" pos="8763120"/>
                <a:tab algn="l" pos="9858240"/>
                <a:tab algn="l" pos="1095372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Biodiversity dat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e5c00"/>
                </a:solidFill>
                <a:latin typeface="Arial"/>
              </a:rPr>
              <a:t>Ordination methods,  gradient analysis</a:t>
            </a:r>
            <a:endParaRPr b="0" lang="en-US" sz="2800" spc="-1" strike="noStrike">
              <a:solidFill>
                <a:srgbClr val="2e5c00"/>
              </a:solidFill>
              <a:latin typeface="Arial"/>
            </a:endParaRPr>
          </a:p>
        </p:txBody>
      </p:sp>
      <p:sp>
        <p:nvSpPr>
          <p:cNvPr id="367" name="Text Box 3"/>
          <p:cNvSpPr/>
          <p:nvPr/>
        </p:nvSpPr>
        <p:spPr>
          <a:xfrm>
            <a:off x="633240" y="1125360"/>
            <a:ext cx="772344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1125"/>
              </a:spcBef>
              <a:buClr>
                <a:srgbClr val="2e5c00"/>
              </a:buClr>
              <a:buFont typeface="Arial"/>
              <a:buChar char="•"/>
              <a:tabLst>
                <a:tab algn="l" pos="1095480"/>
                <a:tab algn="l" pos="2190600"/>
                <a:tab algn="l" pos="3286080"/>
                <a:tab algn="l" pos="4381560"/>
                <a:tab algn="l" pos="5477040"/>
                <a:tab algn="l" pos="6572160"/>
                <a:tab algn="l" pos="7667640"/>
                <a:tab algn="l" pos="8763120"/>
                <a:tab algn="l" pos="9858240"/>
                <a:tab algn="l" pos="1095372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We use the term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gradient analysi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for any method arranging species data along environmental gradient – this gradient can be measured or can be hypothetic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1125"/>
              </a:spcBef>
              <a:buClr>
                <a:srgbClr val="2e5c00"/>
              </a:buClr>
              <a:buFont typeface="Arial"/>
              <a:buChar char="•"/>
              <a:tabLst>
                <a:tab algn="l" pos="1095480"/>
                <a:tab algn="l" pos="2190600"/>
                <a:tab algn="l" pos="3286080"/>
                <a:tab algn="l" pos="4381560"/>
                <a:tab algn="l" pos="5477040"/>
                <a:tab algn="l" pos="6572160"/>
                <a:tab algn="l" pos="7667640"/>
                <a:tab algn="l" pos="8763120"/>
                <a:tab algn="l" pos="9858240"/>
                <a:tab algn="l" pos="1095372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Gradient analysis deals with relationship of community structure to (known or unknown) environmental gradi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4"/>
          <p:cNvSpPr/>
          <p:nvPr/>
        </p:nvSpPr>
        <p:spPr>
          <a:xfrm>
            <a:off x="973080" y="3281400"/>
            <a:ext cx="3056040" cy="398880"/>
          </a:xfrm>
          <a:prstGeom prst="rect">
            <a:avLst/>
          </a:prstGeom>
          <a:solidFill>
            <a:srgbClr val="ffff6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1095480"/>
                <a:tab algn="l" pos="2190600"/>
                <a:tab algn="l" pos="3286080"/>
                <a:tab algn="l" pos="4381560"/>
                <a:tab algn="l" pos="5477040"/>
                <a:tab algn="l" pos="6572160"/>
                <a:tab algn="l" pos="7667640"/>
                <a:tab algn="l" pos="8763120"/>
                <a:tab algn="l" pos="9858240"/>
                <a:tab algn="l" pos="1095372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Indirect gradient analy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5"/>
          <p:cNvSpPr/>
          <p:nvPr/>
        </p:nvSpPr>
        <p:spPr>
          <a:xfrm>
            <a:off x="973080" y="4486320"/>
            <a:ext cx="3056040" cy="398880"/>
          </a:xfrm>
          <a:prstGeom prst="rect">
            <a:avLst/>
          </a:prstGeom>
          <a:solidFill>
            <a:srgbClr val="ffff6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1095480"/>
                <a:tab algn="l" pos="2190600"/>
                <a:tab algn="l" pos="3286080"/>
                <a:tab algn="l" pos="4381560"/>
                <a:tab algn="l" pos="5477040"/>
                <a:tab algn="l" pos="6572160"/>
                <a:tab algn="l" pos="7667640"/>
                <a:tab algn="l" pos="8763120"/>
                <a:tab algn="l" pos="9858240"/>
                <a:tab algn="l" pos="1095372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irect gradient analy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6"/>
          <p:cNvSpPr/>
          <p:nvPr/>
        </p:nvSpPr>
        <p:spPr>
          <a:xfrm>
            <a:off x="961920" y="3863880"/>
            <a:ext cx="489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spcBef>
                <a:spcPts val="1125"/>
              </a:spcBef>
              <a:buClr>
                <a:srgbClr val="2e5c00"/>
              </a:buClr>
              <a:buFont typeface="Arial"/>
              <a:buChar char="•"/>
              <a:tabLst>
                <a:tab algn="l" pos="1095480"/>
                <a:tab algn="l" pos="2190600"/>
                <a:tab algn="l" pos="3286080"/>
                <a:tab algn="l" pos="4381560"/>
                <a:tab algn="l" pos="5477040"/>
                <a:tab algn="l" pos="6572160"/>
                <a:tab algn="l" pos="7667640"/>
                <a:tab algn="l" pos="8763120"/>
                <a:tab algn="l" pos="9858240"/>
                <a:tab algn="l" pos="1095372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xes constructed on species da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7"/>
          <p:cNvSpPr/>
          <p:nvPr/>
        </p:nvSpPr>
        <p:spPr>
          <a:xfrm>
            <a:off x="1014480" y="5095800"/>
            <a:ext cx="7335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spcBef>
                <a:spcPts val="1125"/>
              </a:spcBef>
              <a:buClr>
                <a:srgbClr val="2e5c00"/>
              </a:buClr>
              <a:buFont typeface="Arial"/>
              <a:buChar char="•"/>
              <a:tabLst>
                <a:tab algn="l" pos="1095480"/>
                <a:tab algn="l" pos="2190600"/>
                <a:tab algn="l" pos="3286080"/>
                <a:tab algn="l" pos="4381560"/>
                <a:tab algn="l" pos="5477040"/>
                <a:tab algn="l" pos="6572160"/>
                <a:tab algn="l" pos="7667640"/>
                <a:tab algn="l" pos="8763120"/>
                <a:tab algn="l" pos="9858240"/>
                <a:tab algn="l" pos="1095372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rdination combined with regression – ordination axes are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constrained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canonical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– linearly dependent on measured variabl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2"/>
          <p:cNvSpPr/>
          <p:nvPr/>
        </p:nvSpPr>
        <p:spPr>
          <a:xfrm>
            <a:off x="0" y="115920"/>
            <a:ext cx="91440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e5c00"/>
                </a:solidFill>
                <a:latin typeface="Arial"/>
              </a:rPr>
              <a:t>Species response on environmental gradi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3"/>
          <p:cNvSpPr/>
          <p:nvPr/>
        </p:nvSpPr>
        <p:spPr>
          <a:xfrm>
            <a:off x="665280" y="1803240"/>
            <a:ext cx="764676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>
              <a:spcBef>
                <a:spcPts val="1125"/>
              </a:spcBef>
              <a:buClr>
                <a:srgbClr val="2e5c00"/>
              </a:buClr>
              <a:buFont typeface="Arial"/>
              <a:buChar char="•"/>
              <a:tabLst>
                <a:tab algn="l" pos="1095480"/>
                <a:tab algn="l" pos="2190600"/>
                <a:tab algn="l" pos="3286080"/>
                <a:tab algn="l" pos="4381560"/>
                <a:tab algn="l" pos="5477040"/>
                <a:tab algn="l" pos="6572160"/>
                <a:tab algn="l" pos="7667640"/>
                <a:tab algn="l" pos="8763120"/>
                <a:tab algn="l" pos="9858240"/>
                <a:tab algn="l" pos="1095372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linear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– the most simple estimation (in the case the sites from short gradient are available, linear approximation works very good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spcBef>
                <a:spcPts val="1125"/>
              </a:spcBef>
              <a:buClr>
                <a:srgbClr val="2e5c00"/>
              </a:buClr>
              <a:buFont typeface="Arial"/>
              <a:buChar char="•"/>
              <a:tabLst>
                <a:tab algn="l" pos="1095480"/>
                <a:tab algn="l" pos="2190600"/>
                <a:tab algn="l" pos="3286080"/>
                <a:tab algn="l" pos="4381560"/>
                <a:tab algn="l" pos="5477040"/>
                <a:tab algn="l" pos="6572160"/>
                <a:tab algn="l" pos="7667640"/>
                <a:tab algn="l" pos="8763120"/>
                <a:tab algn="l" pos="9858240"/>
                <a:tab algn="l" pos="1095372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unimodal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– species has an optimum on the environmental gradient (linear approximation does not work in case we have a long gradien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4"/>
          <p:cNvSpPr/>
          <p:nvPr/>
        </p:nvSpPr>
        <p:spPr>
          <a:xfrm>
            <a:off x="636480" y="981000"/>
            <a:ext cx="7417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1095480"/>
                <a:tab algn="l" pos="2190600"/>
                <a:tab algn="l" pos="3286080"/>
                <a:tab algn="l" pos="4381560"/>
                <a:tab algn="l" pos="5477040"/>
                <a:tab algn="l" pos="6572160"/>
                <a:tab algn="l" pos="7667640"/>
                <a:tab algn="l" pos="8763120"/>
                <a:tab algn="l" pos="9858240"/>
                <a:tab algn="l" pos="1095372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Two types of species response on environmental (known or unknown) gradi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Picture 5" descr=""/>
          <p:cNvPicPr/>
          <p:nvPr/>
        </p:nvPicPr>
        <p:blipFill>
          <a:blip r:embed="rId1"/>
          <a:stretch/>
        </p:blipFill>
        <p:spPr>
          <a:xfrm>
            <a:off x="750960" y="3270240"/>
            <a:ext cx="3593880" cy="229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76" name="Text Box 6"/>
          <p:cNvSpPr/>
          <p:nvPr/>
        </p:nvSpPr>
        <p:spPr>
          <a:xfrm>
            <a:off x="765000" y="5572080"/>
            <a:ext cx="36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1095480"/>
                <a:tab algn="l" pos="2190600"/>
                <a:tab algn="l" pos="3286080"/>
                <a:tab algn="l" pos="4381560"/>
                <a:tab algn="l" pos="5477040"/>
                <a:tab algn="l" pos="6572160"/>
                <a:tab algn="l" pos="7667640"/>
                <a:tab algn="l" pos="8763120"/>
                <a:tab algn="l" pos="9858240"/>
                <a:tab algn="l" pos="1095372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Linear approximation of unimodal response on short gradi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Picture 7" descr=""/>
          <p:cNvPicPr/>
          <p:nvPr/>
        </p:nvPicPr>
        <p:blipFill>
          <a:blip r:embed="rId2"/>
          <a:stretch/>
        </p:blipFill>
        <p:spPr>
          <a:xfrm>
            <a:off x="4519440" y="3270240"/>
            <a:ext cx="3542040" cy="2297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78" name="Text Box 8"/>
          <p:cNvSpPr/>
          <p:nvPr/>
        </p:nvSpPr>
        <p:spPr>
          <a:xfrm>
            <a:off x="4645080" y="5572080"/>
            <a:ext cx="3471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1095480"/>
                <a:tab algn="l" pos="2190600"/>
                <a:tab algn="l" pos="3286080"/>
                <a:tab algn="l" pos="4381560"/>
                <a:tab algn="l" pos="5477040"/>
                <a:tab algn="l" pos="6572160"/>
                <a:tab algn="l" pos="7667640"/>
                <a:tab algn="l" pos="8763120"/>
                <a:tab algn="l" pos="9858240"/>
                <a:tab algn="l" pos="1095372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Linear approximation of unimodal response on long gradien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e5c00"/>
                </a:solidFill>
                <a:latin typeface="Arial"/>
              </a:rPr>
              <a:t>Correspondence analysis</a:t>
            </a:r>
            <a:endParaRPr b="0" lang="en-US" sz="2800" spc="-1" strike="noStrike">
              <a:solidFill>
                <a:srgbClr val="2e5c00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28760" y="1096560"/>
            <a:ext cx="8029440" cy="7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Correspondence analysis – a tool for analysis of relationships among rows and collumns of contingency table =&gt; two categorical variab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AutoShape 10"/>
          <p:cNvSpPr/>
          <p:nvPr/>
        </p:nvSpPr>
        <p:spPr>
          <a:xfrm rot="5400000">
            <a:off x="2566800" y="3157200"/>
            <a:ext cx="360360" cy="519120"/>
          </a:xfrm>
          <a:prstGeom prst="upArrow">
            <a:avLst>
              <a:gd name="adj1" fmla="val 50000"/>
              <a:gd name="adj2" fmla="val 3601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5"/>
          <p:cNvSpPr/>
          <p:nvPr/>
        </p:nvSpPr>
        <p:spPr>
          <a:xfrm>
            <a:off x="758880" y="3036960"/>
            <a:ext cx="1746360" cy="58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Categories of the first vari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6"/>
          <p:cNvSpPr/>
          <p:nvPr/>
        </p:nvSpPr>
        <p:spPr>
          <a:xfrm>
            <a:off x="5883120" y="2246400"/>
            <a:ext cx="1860840" cy="58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Categories of the second vari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AutoShape 10"/>
          <p:cNvSpPr/>
          <p:nvPr/>
        </p:nvSpPr>
        <p:spPr>
          <a:xfrm rot="17018400">
            <a:off x="5208480" y="1850400"/>
            <a:ext cx="360360" cy="719280"/>
          </a:xfrm>
          <a:prstGeom prst="upArrow">
            <a:avLst>
              <a:gd name="adj1" fmla="val 50000"/>
              <a:gd name="adj2" fmla="val 499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8"/>
          <p:cNvSpPr/>
          <p:nvPr/>
        </p:nvSpPr>
        <p:spPr>
          <a:xfrm>
            <a:off x="3809880" y="2708280"/>
            <a:ext cx="1295640" cy="1440000"/>
          </a:xfrm>
          <a:prstGeom prst="rect">
            <a:avLst/>
          </a:prstGeom>
          <a:solidFill>
            <a:srgbClr val="99ccff"/>
          </a:solidFill>
          <a:ln w="0">
            <a:noFill/>
          </a:ln>
          <a:effectLst>
            <a:outerShdw dist="17819" dir="2700000" blurRad="0" rotWithShape="0">
              <a:srgbClr val="5c7a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9"/>
          <p:cNvSpPr/>
          <p:nvPr/>
        </p:nvSpPr>
        <p:spPr>
          <a:xfrm>
            <a:off x="3335400" y="2698920"/>
            <a:ext cx="57636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Verdana"/>
              </a:rPr>
              <a:t>S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10"/>
          <p:cNvSpPr/>
          <p:nvPr/>
        </p:nvSpPr>
        <p:spPr>
          <a:xfrm>
            <a:off x="3335400" y="2940120"/>
            <a:ext cx="57636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Verdana"/>
              </a:rPr>
              <a:t>S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11"/>
          <p:cNvSpPr/>
          <p:nvPr/>
        </p:nvSpPr>
        <p:spPr>
          <a:xfrm>
            <a:off x="3335400" y="3181320"/>
            <a:ext cx="57636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Verdana"/>
              </a:rPr>
              <a:t>S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12"/>
          <p:cNvSpPr/>
          <p:nvPr/>
        </p:nvSpPr>
        <p:spPr>
          <a:xfrm>
            <a:off x="3335400" y="3422520"/>
            <a:ext cx="57636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Verdana"/>
              </a:rPr>
              <a:t>S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13"/>
          <p:cNvSpPr/>
          <p:nvPr/>
        </p:nvSpPr>
        <p:spPr>
          <a:xfrm>
            <a:off x="3335400" y="3664080"/>
            <a:ext cx="57636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Verdana"/>
              </a:rPr>
              <a:t>S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14"/>
          <p:cNvSpPr/>
          <p:nvPr/>
        </p:nvSpPr>
        <p:spPr>
          <a:xfrm>
            <a:off x="3335400" y="3905280"/>
            <a:ext cx="57636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Verdana"/>
              </a:rPr>
              <a:t>S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15"/>
          <p:cNvSpPr/>
          <p:nvPr/>
        </p:nvSpPr>
        <p:spPr>
          <a:xfrm rot="16200000">
            <a:off x="3675240" y="2256840"/>
            <a:ext cx="57636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Verdana"/>
              </a:rPr>
              <a:t>L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16"/>
          <p:cNvSpPr/>
          <p:nvPr/>
        </p:nvSpPr>
        <p:spPr>
          <a:xfrm rot="16200000">
            <a:off x="3922920" y="2256840"/>
            <a:ext cx="57636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Verdana"/>
              </a:rPr>
              <a:t>L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17"/>
          <p:cNvSpPr/>
          <p:nvPr/>
        </p:nvSpPr>
        <p:spPr>
          <a:xfrm rot="16200000">
            <a:off x="4170600" y="2256840"/>
            <a:ext cx="57636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Verdana"/>
              </a:rPr>
              <a:t>L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18"/>
          <p:cNvSpPr/>
          <p:nvPr/>
        </p:nvSpPr>
        <p:spPr>
          <a:xfrm rot="16200000">
            <a:off x="4418280" y="2256840"/>
            <a:ext cx="57636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Verdana"/>
              </a:rPr>
              <a:t>L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19"/>
          <p:cNvSpPr/>
          <p:nvPr/>
        </p:nvSpPr>
        <p:spPr>
          <a:xfrm rot="16200000">
            <a:off x="4665960" y="2256840"/>
            <a:ext cx="57636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Verdana"/>
              </a:rPr>
              <a:t>L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Content Placeholder 2"/>
          <p:cNvSpPr/>
          <p:nvPr/>
        </p:nvSpPr>
        <p:spPr>
          <a:xfrm>
            <a:off x="1436760" y="4676760"/>
            <a:ext cx="6124680" cy="16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Correspondence analysis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and biodiversity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2e5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e5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indirect gradient analy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e5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based on unimodal response – estimates species optimum at underlying theoretical gradi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21"/>
          <p:cNvSpPr/>
          <p:nvPr/>
        </p:nvSpPr>
        <p:spPr>
          <a:xfrm>
            <a:off x="4051440" y="1930320"/>
            <a:ext cx="71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1095480"/>
                <a:tab algn="l" pos="2190600"/>
                <a:tab algn="l" pos="3286080"/>
                <a:tab algn="l" pos="4381560"/>
                <a:tab algn="l" pos="5477040"/>
                <a:tab algn="l" pos="6572160"/>
                <a:tab algn="l" pos="7667640"/>
                <a:tab algn="l" pos="8763120"/>
                <a:tab algn="l" pos="9858240"/>
                <a:tab algn="l" pos="1095372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i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22"/>
          <p:cNvSpPr/>
          <p:nvPr/>
        </p:nvSpPr>
        <p:spPr>
          <a:xfrm rot="16200000">
            <a:off x="2578680" y="326124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1095480"/>
                <a:tab algn="l" pos="2190600"/>
                <a:tab algn="l" pos="3286080"/>
                <a:tab algn="l" pos="4381560"/>
                <a:tab algn="l" pos="5477040"/>
                <a:tab algn="l" pos="6572160"/>
                <a:tab algn="l" pos="7667640"/>
                <a:tab algn="l" pos="8763120"/>
                <a:tab algn="l" pos="9858240"/>
                <a:tab algn="l" pos="1095372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pe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Rectangle 23"/>
          <p:cNvSpPr/>
          <p:nvPr/>
        </p:nvSpPr>
        <p:spPr>
          <a:xfrm>
            <a:off x="1266840" y="4572000"/>
            <a:ext cx="6276960" cy="5144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Title 1"/>
          <p:cNvSpPr/>
          <p:nvPr/>
        </p:nvSpPr>
        <p:spPr>
          <a:xfrm>
            <a:off x="0" y="61920"/>
            <a:ext cx="90756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e5c00"/>
                </a:solidFill>
                <a:latin typeface="Arial"/>
              </a:rPr>
              <a:t>Correspondence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Rectangle 3"/>
          <p:cNvSpPr/>
          <p:nvPr/>
        </p:nvSpPr>
        <p:spPr>
          <a:xfrm>
            <a:off x="6230880" y="1341360"/>
            <a:ext cx="1079640" cy="360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4"/>
          <p:cNvSpPr/>
          <p:nvPr/>
        </p:nvSpPr>
        <p:spPr>
          <a:xfrm>
            <a:off x="5942160" y="2060640"/>
            <a:ext cx="1655640" cy="649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Verdana"/>
              </a:rPr>
              <a:t>Arbitarily assign Site Sco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5"/>
          <p:cNvSpPr/>
          <p:nvPr/>
        </p:nvSpPr>
        <p:spPr>
          <a:xfrm>
            <a:off x="5942160" y="2995560"/>
            <a:ext cx="1655640" cy="649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Verdana"/>
              </a:rPr>
              <a:t>Assign Species Scores as WA of Site Sco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6"/>
          <p:cNvSpPr/>
          <p:nvPr/>
        </p:nvSpPr>
        <p:spPr>
          <a:xfrm>
            <a:off x="5942160" y="4075200"/>
            <a:ext cx="1655640" cy="649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Verdana"/>
              </a:rPr>
              <a:t>Assign new Site Scores as WA of  Species Sco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7"/>
          <p:cNvSpPr/>
          <p:nvPr/>
        </p:nvSpPr>
        <p:spPr>
          <a:xfrm>
            <a:off x="5796000" y="3716280"/>
            <a:ext cx="210816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Verdana"/>
              </a:rPr>
              <a:t>Standardization Sp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8"/>
          <p:cNvSpPr/>
          <p:nvPr/>
        </p:nvSpPr>
        <p:spPr>
          <a:xfrm>
            <a:off x="5796000" y="4809960"/>
            <a:ext cx="194472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Verdana"/>
              </a:rPr>
              <a:t>Standardization S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9"/>
          <p:cNvSpPr/>
          <p:nvPr/>
        </p:nvSpPr>
        <p:spPr>
          <a:xfrm>
            <a:off x="5632560" y="5459400"/>
            <a:ext cx="227952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Verdana"/>
              </a:rPr>
              <a:t>Any change in scor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tangle 10"/>
          <p:cNvSpPr/>
          <p:nvPr/>
        </p:nvSpPr>
        <p:spPr>
          <a:xfrm>
            <a:off x="6230880" y="6078600"/>
            <a:ext cx="1079640" cy="360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10" name="AutoShape 11"/>
          <p:cNvCxnSpPr>
            <a:stCxn id="402" idx="2"/>
            <a:endCxn id="403" idx="0"/>
          </p:cNvCxnSpPr>
          <p:nvPr/>
        </p:nvCxnSpPr>
        <p:spPr>
          <a:xfrm>
            <a:off x="6770160" y="1701360"/>
            <a:ext cx="1080" cy="3596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11" name="AutoShape 12"/>
          <p:cNvCxnSpPr>
            <a:stCxn id="403" idx="2"/>
            <a:endCxn id="404" idx="0"/>
          </p:cNvCxnSpPr>
          <p:nvPr/>
        </p:nvCxnSpPr>
        <p:spPr>
          <a:xfrm>
            <a:off x="6770160" y="2709720"/>
            <a:ext cx="1080" cy="28656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12" name="AutoShape 13"/>
          <p:cNvCxnSpPr>
            <a:stCxn id="404" idx="2"/>
            <a:endCxn id="405" idx="0"/>
          </p:cNvCxnSpPr>
          <p:nvPr/>
        </p:nvCxnSpPr>
        <p:spPr>
          <a:xfrm>
            <a:off x="6770160" y="3644640"/>
            <a:ext cx="1080" cy="43092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13" name="AutoShape 14"/>
          <p:cNvCxnSpPr>
            <a:stCxn id="405" idx="2"/>
            <a:endCxn id="408" idx="0"/>
          </p:cNvCxnSpPr>
          <p:nvPr/>
        </p:nvCxnSpPr>
        <p:spPr>
          <a:xfrm>
            <a:off x="6770160" y="4724280"/>
            <a:ext cx="2520" cy="7358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14" name="AutoShape 15"/>
          <p:cNvCxnSpPr>
            <a:stCxn id="408" idx="2"/>
            <a:endCxn id="409" idx="0"/>
          </p:cNvCxnSpPr>
          <p:nvPr/>
        </p:nvCxnSpPr>
        <p:spPr>
          <a:xfrm flipH="1">
            <a:off x="6769800" y="5733720"/>
            <a:ext cx="2520" cy="3452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15" name="Text Box 16"/>
          <p:cNvSpPr/>
          <p:nvPr/>
        </p:nvSpPr>
        <p:spPr>
          <a:xfrm>
            <a:off x="6229440" y="5694480"/>
            <a:ext cx="64764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Verdana"/>
              </a:rPr>
              <a:t>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17"/>
          <p:cNvSpPr/>
          <p:nvPr/>
        </p:nvSpPr>
        <p:spPr>
          <a:xfrm>
            <a:off x="7381800" y="5186520"/>
            <a:ext cx="71928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Verdana"/>
              </a:rPr>
              <a:t>Y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17" name="AutoShape 18"/>
          <p:cNvCxnSpPr>
            <a:stCxn id="408" idx="3"/>
            <a:endCxn id="404" idx="3"/>
          </p:cNvCxnSpPr>
          <p:nvPr/>
        </p:nvCxnSpPr>
        <p:spPr>
          <a:xfrm flipH="1" flipV="1">
            <a:off x="7597080" y="3320640"/>
            <a:ext cx="315000" cy="2277360"/>
          </a:xfrm>
          <a:prstGeom prst="bentConnector3">
            <a:avLst>
              <a:gd name="adj1" fmla="val -72654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graphicFrame>
        <p:nvGraphicFramePr>
          <p:cNvPr id="418" name=""/>
          <p:cNvGraphicFramePr/>
          <p:nvPr/>
        </p:nvGraphicFramePr>
        <p:xfrm>
          <a:off x="568440" y="1751040"/>
          <a:ext cx="5076720" cy="3579840"/>
        </p:xfrm>
        <a:graphic>
          <a:graphicData uri="http://schemas.openxmlformats.org/drawingml/2006/table">
            <a:tbl>
              <a:tblPr/>
              <a:tblGrid>
                <a:gridCol w="809640"/>
                <a:gridCol w="609480"/>
                <a:gridCol w="609480"/>
                <a:gridCol w="609840"/>
                <a:gridCol w="614160"/>
                <a:gridCol w="604800"/>
                <a:gridCol w="609840"/>
                <a:gridCol w="609480"/>
              </a:tblGrid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ite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ite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ite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A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A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A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A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54000" rIns="54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hitrogen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ae842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ae842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ae842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.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.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.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.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54000" rIns="54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lainit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ae842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ae842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ae842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.6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36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3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54000" rIns="54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eti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ae842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ae842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ae842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2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6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54000" rIns="54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peoru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ae842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ae842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ae842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55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2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2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itial val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A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3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66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.9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A1resc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4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.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A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4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6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.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A2resc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24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.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A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37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55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.82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A3resc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2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.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A4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37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5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.82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A4resc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23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.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9" name="Text Box 142"/>
          <p:cNvSpPr/>
          <p:nvPr/>
        </p:nvSpPr>
        <p:spPr>
          <a:xfrm>
            <a:off x="776160" y="887400"/>
            <a:ext cx="43372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Correspondence analysis (CA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eciprocal averaging or eigen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0" name=""/>
          <p:cNvGraphicFramePr/>
          <p:nvPr/>
        </p:nvGraphicFramePr>
        <p:xfrm>
          <a:off x="996840" y="1978200"/>
          <a:ext cx="3248280" cy="1623960"/>
        </p:xfrm>
        <a:graphic>
          <a:graphicData uri="http://schemas.openxmlformats.org/drawingml/2006/table">
            <a:tbl>
              <a:tblPr/>
              <a:tblGrid>
                <a:gridCol w="809640"/>
                <a:gridCol w="609840"/>
                <a:gridCol w="609480"/>
                <a:gridCol w="609480"/>
                <a:gridCol w="609840"/>
              </a:tblGrid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ite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ite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ite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A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54000" rIns="54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hitrogen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ae842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ae842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ae842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.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54000" rIns="54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lainit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ae842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ae842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ae842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3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54000" rIns="54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eti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ae842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ae842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ae842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54000" rIns="54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peoru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ae842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ae842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ae842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2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A4resc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23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.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1" name="Text Box 43"/>
          <p:cNvSpPr/>
          <p:nvPr/>
        </p:nvSpPr>
        <p:spPr>
          <a:xfrm>
            <a:off x="690480" y="1258920"/>
            <a:ext cx="754236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Correspondence analysis (CA):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eciprocal averaging or eigen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itle 1"/>
          <p:cNvSpPr/>
          <p:nvPr/>
        </p:nvSpPr>
        <p:spPr>
          <a:xfrm>
            <a:off x="0" y="61920"/>
            <a:ext cx="90756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e5c00"/>
                </a:solidFill>
                <a:latin typeface="Arial"/>
              </a:rPr>
              <a:t>Correspondence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Line 45"/>
          <p:cNvSpPr/>
          <p:nvPr/>
        </p:nvSpPr>
        <p:spPr>
          <a:xfrm>
            <a:off x="1039680" y="4910040"/>
            <a:ext cx="6264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Line 46"/>
          <p:cNvSpPr/>
          <p:nvPr/>
        </p:nvSpPr>
        <p:spPr>
          <a:xfrm>
            <a:off x="1039680" y="4836960"/>
            <a:ext cx="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Line 47"/>
          <p:cNvSpPr/>
          <p:nvPr/>
        </p:nvSpPr>
        <p:spPr>
          <a:xfrm>
            <a:off x="7304040" y="4836960"/>
            <a:ext cx="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Line 48"/>
          <p:cNvSpPr/>
          <p:nvPr/>
        </p:nvSpPr>
        <p:spPr>
          <a:xfrm>
            <a:off x="1665360" y="4836960"/>
            <a:ext cx="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Line 49"/>
          <p:cNvSpPr/>
          <p:nvPr/>
        </p:nvSpPr>
        <p:spPr>
          <a:xfrm>
            <a:off x="2292480" y="4836960"/>
            <a:ext cx="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Line 50"/>
          <p:cNvSpPr/>
          <p:nvPr/>
        </p:nvSpPr>
        <p:spPr>
          <a:xfrm>
            <a:off x="2917800" y="4836960"/>
            <a:ext cx="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Line 51"/>
          <p:cNvSpPr/>
          <p:nvPr/>
        </p:nvSpPr>
        <p:spPr>
          <a:xfrm>
            <a:off x="3544920" y="4836960"/>
            <a:ext cx="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Line 52"/>
          <p:cNvSpPr/>
          <p:nvPr/>
        </p:nvSpPr>
        <p:spPr>
          <a:xfrm>
            <a:off x="4172040" y="4836960"/>
            <a:ext cx="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Line 53"/>
          <p:cNvSpPr/>
          <p:nvPr/>
        </p:nvSpPr>
        <p:spPr>
          <a:xfrm>
            <a:off x="4797360" y="4836960"/>
            <a:ext cx="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Line 54"/>
          <p:cNvSpPr/>
          <p:nvPr/>
        </p:nvSpPr>
        <p:spPr>
          <a:xfrm>
            <a:off x="5424480" y="4836960"/>
            <a:ext cx="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Line 55"/>
          <p:cNvSpPr/>
          <p:nvPr/>
        </p:nvSpPr>
        <p:spPr>
          <a:xfrm>
            <a:off x="6049800" y="4836960"/>
            <a:ext cx="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Line 56"/>
          <p:cNvSpPr/>
          <p:nvPr/>
        </p:nvSpPr>
        <p:spPr>
          <a:xfrm>
            <a:off x="6676920" y="4836960"/>
            <a:ext cx="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 Box 57"/>
          <p:cNvSpPr/>
          <p:nvPr/>
        </p:nvSpPr>
        <p:spPr>
          <a:xfrm>
            <a:off x="650880" y="4405320"/>
            <a:ext cx="79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1095480"/>
                <a:tab algn="l" pos="2190600"/>
                <a:tab algn="l" pos="3286080"/>
                <a:tab algn="l" pos="4381560"/>
                <a:tab algn="l" pos="5477040"/>
                <a:tab algn="l" pos="6572160"/>
                <a:tab algn="l" pos="7667640"/>
                <a:tab algn="l" pos="8763120"/>
                <a:tab algn="l" pos="9858240"/>
                <a:tab algn="l" pos="1095372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Sampl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 Box 58"/>
          <p:cNvSpPr/>
          <p:nvPr/>
        </p:nvSpPr>
        <p:spPr>
          <a:xfrm>
            <a:off x="6905520" y="4405320"/>
            <a:ext cx="79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1095480"/>
                <a:tab algn="l" pos="2190600"/>
                <a:tab algn="l" pos="3286080"/>
                <a:tab algn="l" pos="4381560"/>
                <a:tab algn="l" pos="5477040"/>
                <a:tab algn="l" pos="6572160"/>
                <a:tab algn="l" pos="7667640"/>
                <a:tab algn="l" pos="8763120"/>
                <a:tab algn="l" pos="9858240"/>
                <a:tab algn="l" pos="1095372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Sampl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 Box 59"/>
          <p:cNvSpPr/>
          <p:nvPr/>
        </p:nvSpPr>
        <p:spPr>
          <a:xfrm>
            <a:off x="824040" y="4118040"/>
            <a:ext cx="79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1095480"/>
                <a:tab algn="l" pos="2190600"/>
                <a:tab algn="l" pos="3286080"/>
                <a:tab algn="l" pos="4381560"/>
                <a:tab algn="l" pos="5477040"/>
                <a:tab algn="l" pos="6572160"/>
                <a:tab algn="l" pos="7667640"/>
                <a:tab algn="l" pos="8763120"/>
                <a:tab algn="l" pos="9858240"/>
                <a:tab algn="l" pos="1095372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Sampl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60"/>
          <p:cNvSpPr/>
          <p:nvPr/>
        </p:nvSpPr>
        <p:spPr>
          <a:xfrm>
            <a:off x="538200" y="513864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1095480"/>
                <a:tab algn="l" pos="2190600"/>
                <a:tab algn="l" pos="3286080"/>
                <a:tab algn="l" pos="4381560"/>
                <a:tab algn="l" pos="5477040"/>
                <a:tab algn="l" pos="6572160"/>
                <a:tab algn="l" pos="7667640"/>
                <a:tab algn="l" pos="8763120"/>
                <a:tab algn="l" pos="9858240"/>
                <a:tab algn="l" pos="1095372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Epeo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61"/>
          <p:cNvSpPr/>
          <p:nvPr/>
        </p:nvSpPr>
        <p:spPr>
          <a:xfrm>
            <a:off x="712800" y="5427720"/>
            <a:ext cx="79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1095480"/>
                <a:tab algn="l" pos="2190600"/>
                <a:tab algn="l" pos="3286080"/>
                <a:tab algn="l" pos="4381560"/>
                <a:tab algn="l" pos="5477040"/>
                <a:tab algn="l" pos="6572160"/>
                <a:tab algn="l" pos="7667640"/>
                <a:tab algn="l" pos="8763120"/>
                <a:tab algn="l" pos="9858240"/>
                <a:tab algn="l" pos="1095372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Baet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 Box 62"/>
          <p:cNvSpPr/>
          <p:nvPr/>
        </p:nvSpPr>
        <p:spPr>
          <a:xfrm>
            <a:off x="1289160" y="5138640"/>
            <a:ext cx="107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1095480"/>
                <a:tab algn="l" pos="2190600"/>
                <a:tab algn="l" pos="3286080"/>
                <a:tab algn="l" pos="4381560"/>
                <a:tab algn="l" pos="5477040"/>
                <a:tab algn="l" pos="6572160"/>
                <a:tab algn="l" pos="7667640"/>
                <a:tab algn="l" pos="8763120"/>
                <a:tab algn="l" pos="9858240"/>
                <a:tab algn="l" pos="1095372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Alaini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 Box 63"/>
          <p:cNvSpPr/>
          <p:nvPr/>
        </p:nvSpPr>
        <p:spPr>
          <a:xfrm>
            <a:off x="6648480" y="5100480"/>
            <a:ext cx="133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1095480"/>
                <a:tab algn="l" pos="2190600"/>
                <a:tab algn="l" pos="3286080"/>
                <a:tab algn="l" pos="4381560"/>
                <a:tab algn="l" pos="5477040"/>
                <a:tab algn="l" pos="6572160"/>
                <a:tab algn="l" pos="7667640"/>
                <a:tab algn="l" pos="8763120"/>
                <a:tab algn="l" pos="9858240"/>
                <a:tab algn="l" pos="1095372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Rhitroge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Line 64"/>
          <p:cNvSpPr/>
          <p:nvPr/>
        </p:nvSpPr>
        <p:spPr>
          <a:xfrm>
            <a:off x="1044720" y="4659480"/>
            <a:ext cx="0" cy="21564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Line 65"/>
          <p:cNvSpPr/>
          <p:nvPr/>
        </p:nvSpPr>
        <p:spPr>
          <a:xfrm>
            <a:off x="1217520" y="4299120"/>
            <a:ext cx="0" cy="576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Line 66"/>
          <p:cNvSpPr/>
          <p:nvPr/>
        </p:nvSpPr>
        <p:spPr>
          <a:xfrm>
            <a:off x="7299360" y="4659480"/>
            <a:ext cx="0" cy="21564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Oval 67"/>
          <p:cNvSpPr/>
          <p:nvPr/>
        </p:nvSpPr>
        <p:spPr>
          <a:xfrm>
            <a:off x="3176640" y="2390760"/>
            <a:ext cx="287280" cy="225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Oval 68"/>
          <p:cNvSpPr/>
          <p:nvPr/>
        </p:nvSpPr>
        <p:spPr>
          <a:xfrm>
            <a:off x="6670800" y="4265640"/>
            <a:ext cx="1293840" cy="1249200"/>
          </a:xfrm>
          <a:prstGeom prst="ellipse">
            <a:avLst/>
          </a:prstGeom>
          <a:noFill/>
          <a:ln w="25560">
            <a:solidFill>
              <a:srgbClr val="ff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69"/>
          <p:cNvSpPr/>
          <p:nvPr/>
        </p:nvSpPr>
        <p:spPr>
          <a:xfrm>
            <a:off x="6302520" y="3811680"/>
            <a:ext cx="194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1095480"/>
                <a:tab algn="l" pos="2190600"/>
                <a:tab algn="l" pos="3286080"/>
                <a:tab algn="l" pos="4381560"/>
                <a:tab algn="l" pos="5477040"/>
                <a:tab algn="l" pos="6572160"/>
                <a:tab algn="l" pos="7667640"/>
                <a:tab algn="l" pos="8763120"/>
                <a:tab algn="l" pos="9858240"/>
                <a:tab algn="l" pos="10953720"/>
              </a:tabLst>
            </a:pPr>
            <a:r>
              <a:rPr b="1" lang="cs-CZ" sz="1600" spc="-1" strike="noStrike">
                <a:solidFill>
                  <a:srgbClr val="ff0000"/>
                </a:solidFill>
                <a:latin typeface="Arial"/>
              </a:rPr>
              <a:t>outli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Line 70"/>
          <p:cNvSpPr/>
          <p:nvPr/>
        </p:nvSpPr>
        <p:spPr>
          <a:xfrm flipV="1">
            <a:off x="1082520" y="4962600"/>
            <a:ext cx="0" cy="21600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Line 71"/>
          <p:cNvSpPr/>
          <p:nvPr/>
        </p:nvSpPr>
        <p:spPr>
          <a:xfrm flipV="1">
            <a:off x="1865160" y="4962600"/>
            <a:ext cx="0" cy="21600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Line 72"/>
          <p:cNvSpPr/>
          <p:nvPr/>
        </p:nvSpPr>
        <p:spPr>
          <a:xfrm flipV="1">
            <a:off x="7308720" y="4962600"/>
            <a:ext cx="0" cy="21600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Line 73"/>
          <p:cNvSpPr/>
          <p:nvPr/>
        </p:nvSpPr>
        <p:spPr>
          <a:xfrm flipV="1">
            <a:off x="1144440" y="4962600"/>
            <a:ext cx="0" cy="50472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Title 1"/>
          <p:cNvSpPr/>
          <p:nvPr/>
        </p:nvSpPr>
        <p:spPr>
          <a:xfrm>
            <a:off x="506520" y="61920"/>
            <a:ext cx="856908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e5c00"/>
                </a:solidFill>
                <a:latin typeface="Arial"/>
              </a:rPr>
              <a:t>Correspondence analysis: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3"/>
          <p:cNvSpPr/>
          <p:nvPr/>
        </p:nvSpPr>
        <p:spPr>
          <a:xfrm>
            <a:off x="403200" y="927000"/>
            <a:ext cx="806436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1080" indent="-181080">
              <a:buClr>
                <a:srgbClr val="589c5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Ordination diagram: </a:t>
            </a:r>
            <a:r>
              <a:rPr b="0" lang="cs-CZ" sz="18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dination axes are orthogonal (linearly independen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buClr>
                <a:srgbClr val="589c5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pecies and site scores (rows and collum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buClr>
                <a:srgbClr val="589c5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Eigenvalues, eigenvecto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 Box 4"/>
          <p:cNvSpPr/>
          <p:nvPr/>
        </p:nvSpPr>
        <p:spPr>
          <a:xfrm>
            <a:off x="5086440" y="3214800"/>
            <a:ext cx="3311280" cy="91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Eigenvalue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represents the information (variability) explained by defined ax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5"/>
          <p:cNvSpPr/>
          <p:nvPr/>
        </p:nvSpPr>
        <p:spPr>
          <a:xfrm>
            <a:off x="5627520" y="2290680"/>
            <a:ext cx="27068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High score: species with low frequ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6" name="Object 6"/>
          <p:cNvGraphicFramePr/>
          <p:nvPr/>
        </p:nvGraphicFramePr>
        <p:xfrm>
          <a:off x="5132520" y="2390760"/>
          <a:ext cx="495000" cy="447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7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32520" y="2390760"/>
                    <a:ext cx="495000" cy="44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8" name="Picture 8" descr=""/>
          <p:cNvPicPr/>
          <p:nvPr/>
        </p:nvPicPr>
        <p:blipFill>
          <a:blip r:embed="rId3"/>
          <a:stretch/>
        </p:blipFill>
        <p:spPr>
          <a:xfrm>
            <a:off x="198360" y="2247840"/>
            <a:ext cx="4907160" cy="4197240"/>
          </a:xfrm>
          <a:prstGeom prst="rect">
            <a:avLst/>
          </a:prstGeom>
          <a:ln w="0">
            <a:noFill/>
          </a:ln>
        </p:spPr>
      </p:pic>
      <p:sp>
        <p:nvSpPr>
          <p:cNvPr id="459" name="Text Box 9"/>
          <p:cNvSpPr/>
          <p:nvPr/>
        </p:nvSpPr>
        <p:spPr>
          <a:xfrm>
            <a:off x="1438200" y="6099120"/>
            <a:ext cx="650556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Usually we use and interpret only 2-3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ordination axe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e5c00"/>
                </a:solidFill>
                <a:latin typeface="Arial"/>
              </a:rPr>
              <a:t>Correspondence analysis (CA)</a:t>
            </a:r>
            <a:endParaRPr b="0" lang="en-US" sz="2800" spc="-1" strike="noStrike">
              <a:solidFill>
                <a:srgbClr val="2e5c00"/>
              </a:solidFill>
              <a:latin typeface="Arial"/>
            </a:endParaRPr>
          </a:p>
        </p:txBody>
      </p:sp>
      <p:sp>
        <p:nvSpPr>
          <p:cNvPr id="461" name="Text Box 3"/>
          <p:cNvSpPr/>
          <p:nvPr/>
        </p:nvSpPr>
        <p:spPr>
          <a:xfrm>
            <a:off x="569880" y="966960"/>
            <a:ext cx="7302600" cy="11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>
              <a:spcBef>
                <a:spcPts val="400"/>
              </a:spcBef>
              <a:buClr>
                <a:srgbClr val="589c54"/>
              </a:buClr>
              <a:buFont typeface="Arial"/>
              <a:buChar char="•"/>
              <a:tabLst>
                <a:tab algn="l" pos="1095480"/>
                <a:tab algn="l" pos="2190600"/>
                <a:tab algn="l" pos="3286080"/>
                <a:tab algn="l" pos="4381560"/>
                <a:tab algn="l" pos="5477040"/>
                <a:tab algn="l" pos="6572160"/>
                <a:tab algn="l" pos="7667640"/>
                <a:tab algn="l" pos="8763120"/>
                <a:tab algn="l" pos="9858240"/>
                <a:tab algn="l" pos="1095372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CA is related to a unimodal response model; any species occurs in a limited range of values of each of the latent vari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spcBef>
                <a:spcPts val="400"/>
              </a:spcBef>
              <a:buClr>
                <a:srgbClr val="589c54"/>
              </a:buClr>
              <a:buFont typeface="Arial"/>
              <a:buChar char="•"/>
              <a:tabLst>
                <a:tab algn="l" pos="1095480"/>
                <a:tab algn="l" pos="2190600"/>
                <a:tab algn="l" pos="3286080"/>
                <a:tab algn="l" pos="4381560"/>
                <a:tab algn="l" pos="5477040"/>
                <a:tab algn="l" pos="6572160"/>
                <a:tab algn="l" pos="7667640"/>
                <a:tab algn="l" pos="8763120"/>
                <a:tab algn="l" pos="9858240"/>
                <a:tab algn="l" pos="1095372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CA is recommended for reduced-spaced ordination of species data tables containing a good number of zer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2" name="Picture 4" descr=""/>
          <p:cNvPicPr/>
          <p:nvPr/>
        </p:nvPicPr>
        <p:blipFill>
          <a:blip r:embed="rId1"/>
          <a:stretch/>
        </p:blipFill>
        <p:spPr>
          <a:xfrm>
            <a:off x="639720" y="2300400"/>
            <a:ext cx="4907160" cy="4197240"/>
          </a:xfrm>
          <a:prstGeom prst="rect">
            <a:avLst/>
          </a:prstGeom>
          <a:ln w="0">
            <a:noFill/>
          </a:ln>
        </p:spPr>
      </p:pic>
      <p:sp>
        <p:nvSpPr>
          <p:cNvPr id="463" name="Text Box 5"/>
          <p:cNvSpPr/>
          <p:nvPr/>
        </p:nvSpPr>
        <p:spPr>
          <a:xfrm>
            <a:off x="4022640" y="2187720"/>
            <a:ext cx="4254480" cy="1280160"/>
          </a:xfrm>
          <a:prstGeom prst="rect">
            <a:avLst/>
          </a:prstGeom>
          <a:solidFill>
            <a:srgbClr val="ffffff"/>
          </a:solidFill>
          <a:ln w="19080">
            <a:solidFill>
              <a:srgbClr val="6ae8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>
              <a:spcBef>
                <a:spcPts val="876"/>
              </a:spcBef>
              <a:tabLst>
                <a:tab algn="l" pos="0"/>
                <a:tab algn="l" pos="1095480"/>
                <a:tab algn="l" pos="2190600"/>
                <a:tab algn="l" pos="3286080"/>
                <a:tab algn="l" pos="4381560"/>
                <a:tab algn="l" pos="5477040"/>
                <a:tab algn="l" pos="6572160"/>
                <a:tab algn="l" pos="7667640"/>
                <a:tab algn="l" pos="8763120"/>
                <a:tab algn="l" pos="9858240"/>
                <a:tab algn="l" pos="1095372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REAL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spcBef>
                <a:spcPts val="876"/>
              </a:spcBef>
              <a:buClr>
                <a:srgbClr val="6ae842"/>
              </a:buClr>
              <a:buSzPct val="70000"/>
              <a:buFont typeface="Wingdings" charset="2"/>
              <a:buChar char=""/>
              <a:tabLst>
                <a:tab algn="l" pos="1095480"/>
                <a:tab algn="l" pos="2190600"/>
                <a:tab algn="l" pos="3286080"/>
                <a:tab algn="l" pos="4381560"/>
                <a:tab algn="l" pos="5477040"/>
                <a:tab algn="l" pos="6572160"/>
                <a:tab algn="l" pos="7667640"/>
                <a:tab algn="l" pos="8763120"/>
                <a:tab algn="l" pos="9858240"/>
                <a:tab algn="l" pos="1095372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mayfl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spcBef>
                <a:spcPts val="876"/>
              </a:spcBef>
              <a:buClr>
                <a:srgbClr val="6ae842"/>
              </a:buClr>
              <a:buSzPct val="70000"/>
              <a:buFont typeface="Wingdings" charset="2"/>
              <a:buChar char=""/>
              <a:tabLst>
                <a:tab algn="l" pos="1095480"/>
                <a:tab algn="l" pos="2190600"/>
                <a:tab algn="l" pos="3286080"/>
                <a:tab algn="l" pos="4381560"/>
                <a:tab algn="l" pos="5477040"/>
                <a:tab algn="l" pos="6572160"/>
                <a:tab algn="l" pos="7667640"/>
                <a:tab algn="l" pos="8763120"/>
                <a:tab algn="l" pos="9858240"/>
                <a:tab algn="l" pos="1095372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data matrix: 30 sites x 40 mayfly spec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spcBef>
                <a:spcPts val="876"/>
              </a:spcBef>
              <a:tabLst>
                <a:tab algn="l" pos="0"/>
                <a:tab algn="l" pos="1095480"/>
                <a:tab algn="l" pos="2190600"/>
                <a:tab algn="l" pos="3286080"/>
                <a:tab algn="l" pos="4381560"/>
                <a:tab algn="l" pos="5477040"/>
                <a:tab algn="l" pos="6572160"/>
                <a:tab algn="l" pos="7667640"/>
                <a:tab algn="l" pos="8763120"/>
                <a:tab algn="l" pos="9858240"/>
                <a:tab algn="l" pos="1095372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values = logarithmicaly transformed abundan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 Box 6"/>
          <p:cNvSpPr/>
          <p:nvPr/>
        </p:nvSpPr>
        <p:spPr>
          <a:xfrm>
            <a:off x="3362400" y="5052960"/>
            <a:ext cx="4938480" cy="1321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>
              <a:spcBef>
                <a:spcPts val="1001"/>
              </a:spcBef>
              <a:tabLst>
                <a:tab algn="l" pos="0"/>
                <a:tab algn="l" pos="1095480"/>
                <a:tab algn="l" pos="2190600"/>
                <a:tab algn="l" pos="3286080"/>
                <a:tab algn="l" pos="4381560"/>
                <a:tab algn="l" pos="5477040"/>
                <a:tab algn="l" pos="6572160"/>
                <a:tab algn="l" pos="7667640"/>
                <a:tab algn="l" pos="8763120"/>
                <a:tab algn="l" pos="985824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1080">
              <a:spcBef>
                <a:spcPts val="1001"/>
              </a:spcBef>
              <a:tabLst>
                <a:tab algn="l" pos="0"/>
                <a:tab algn="l" pos="1095480"/>
                <a:tab algn="l" pos="2190600"/>
                <a:tab algn="l" pos="3286080"/>
                <a:tab algn="l" pos="4381560"/>
                <a:tab algn="l" pos="5477040"/>
                <a:tab algn="l" pos="6572160"/>
                <a:tab algn="l" pos="7667640"/>
                <a:tab algn="l" pos="8763120"/>
                <a:tab algn="l" pos="9858240"/>
                <a:tab algn="l" pos="1095372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The first two ordination axes of correspondence analysis explaine 24.7% of species varianc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1080">
              <a:spcBef>
                <a:spcPts val="1001"/>
              </a:spcBef>
              <a:tabLst>
                <a:tab algn="l" pos="0"/>
                <a:tab algn="l" pos="1095480"/>
                <a:tab algn="l" pos="2190600"/>
                <a:tab algn="l" pos="3286080"/>
                <a:tab algn="l" pos="4381560"/>
                <a:tab algn="l" pos="5477040"/>
                <a:tab algn="l" pos="6572160"/>
                <a:tab algn="l" pos="7667640"/>
                <a:tab algn="l" pos="8763120"/>
                <a:tab algn="l" pos="9858240"/>
                <a:tab algn="l" pos="1095372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Only species with best fit shown (sites not shown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62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e5c00"/>
                </a:solidFill>
                <a:latin typeface="Arial"/>
              </a:rPr>
              <a:t>Cluster analysis</a:t>
            </a:r>
            <a:endParaRPr b="0" lang="en-US" sz="2800" spc="-1" strike="noStrike">
              <a:solidFill>
                <a:srgbClr val="2e5c00"/>
              </a:solidFill>
              <a:latin typeface="Arial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179280" y="2727360"/>
            <a:ext cx="2089080" cy="703800"/>
          </a:xfrm>
          <a:prstGeom prst="rect">
            <a:avLst/>
          </a:prstGeom>
          <a:solidFill>
            <a:srgbClr val="ffff6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1095480"/>
                <a:tab algn="l" pos="2190600"/>
                <a:tab algn="l" pos="3286080"/>
                <a:tab algn="l" pos="4381560"/>
                <a:tab algn="l" pos="5477040"/>
                <a:tab algn="l" pos="6572160"/>
                <a:tab algn="l" pos="7667640"/>
                <a:tab algn="l" pos="8763120"/>
                <a:tab algn="l" pos="9858240"/>
                <a:tab algn="l" pos="1095372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hierarchical techniq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179280" y="5373720"/>
            <a:ext cx="2089080" cy="703800"/>
          </a:xfrm>
          <a:prstGeom prst="rect">
            <a:avLst/>
          </a:prstGeom>
          <a:solidFill>
            <a:srgbClr val="ffff6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1095480"/>
                <a:tab algn="l" pos="2190600"/>
                <a:tab algn="l" pos="3286080"/>
                <a:tab algn="l" pos="4381560"/>
                <a:tab algn="l" pos="5477040"/>
                <a:tab algn="l" pos="6572160"/>
                <a:tab algn="l" pos="7667640"/>
                <a:tab algn="l" pos="8763120"/>
                <a:tab algn="l" pos="9858240"/>
                <a:tab algn="l" pos="1095372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on-hierarchical techniq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6"/>
          <p:cNvSpPr/>
          <p:nvPr/>
        </p:nvSpPr>
        <p:spPr>
          <a:xfrm>
            <a:off x="2556000" y="1628640"/>
            <a:ext cx="2303280" cy="703800"/>
          </a:xfrm>
          <a:prstGeom prst="rect">
            <a:avLst/>
          </a:prstGeom>
          <a:solidFill>
            <a:srgbClr val="7dff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1095480"/>
                <a:tab algn="l" pos="2190600"/>
                <a:tab algn="l" pos="3286080"/>
                <a:tab algn="l" pos="4381560"/>
                <a:tab algn="l" pos="5477040"/>
                <a:tab algn="l" pos="6572160"/>
                <a:tab algn="l" pos="7667640"/>
                <a:tab algn="l" pos="8763120"/>
                <a:tab algn="l" pos="9858240"/>
                <a:tab algn="l" pos="1095372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gglomerative clust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7"/>
          <p:cNvSpPr/>
          <p:nvPr/>
        </p:nvSpPr>
        <p:spPr>
          <a:xfrm>
            <a:off x="2556000" y="4149720"/>
            <a:ext cx="2303280" cy="398880"/>
          </a:xfrm>
          <a:prstGeom prst="rect">
            <a:avLst/>
          </a:prstGeom>
          <a:solidFill>
            <a:srgbClr val="7dff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1095480"/>
                <a:tab algn="l" pos="2190600"/>
                <a:tab algn="l" pos="3286080"/>
                <a:tab algn="l" pos="4381560"/>
                <a:tab algn="l" pos="5477040"/>
                <a:tab algn="l" pos="6572160"/>
                <a:tab algn="l" pos="7667640"/>
                <a:tab algn="l" pos="8763120"/>
                <a:tab algn="l" pos="9858240"/>
                <a:tab algn="l" pos="1095372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ivisive clust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8"/>
          <p:cNvSpPr/>
          <p:nvPr/>
        </p:nvSpPr>
        <p:spPr>
          <a:xfrm>
            <a:off x="5148360" y="3448080"/>
            <a:ext cx="1511280" cy="703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1095480"/>
                <a:tab algn="l" pos="2190600"/>
                <a:tab algn="l" pos="3286080"/>
                <a:tab algn="l" pos="4381560"/>
                <a:tab algn="l" pos="5477040"/>
                <a:tab algn="l" pos="6572160"/>
                <a:tab algn="l" pos="7667640"/>
                <a:tab algn="l" pos="8763120"/>
                <a:tab algn="l" pos="9858240"/>
                <a:tab algn="l" pos="1095372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onothetic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9"/>
          <p:cNvSpPr/>
          <p:nvPr/>
        </p:nvSpPr>
        <p:spPr>
          <a:xfrm>
            <a:off x="5148360" y="4508640"/>
            <a:ext cx="1511280" cy="703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1095480"/>
                <a:tab algn="l" pos="2190600"/>
                <a:tab algn="l" pos="3286080"/>
                <a:tab algn="l" pos="4381560"/>
                <a:tab algn="l" pos="5477040"/>
                <a:tab algn="l" pos="6572160"/>
                <a:tab algn="l" pos="7667640"/>
                <a:tab algn="l" pos="8763120"/>
                <a:tab algn="l" pos="9858240"/>
                <a:tab algn="l" pos="1095372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lythetic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0"/>
          <p:cNvSpPr/>
          <p:nvPr/>
        </p:nvSpPr>
        <p:spPr>
          <a:xfrm>
            <a:off x="6804000" y="3448080"/>
            <a:ext cx="2232000" cy="7038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1095480"/>
                <a:tab algn="l" pos="2190600"/>
                <a:tab algn="l" pos="3286080"/>
                <a:tab algn="l" pos="4381560"/>
                <a:tab algn="l" pos="5477040"/>
                <a:tab algn="l" pos="6572160"/>
                <a:tab algn="l" pos="7667640"/>
                <a:tab algn="l" pos="8763120"/>
                <a:tab algn="l" pos="9858240"/>
                <a:tab algn="l" pos="1095372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ssociation analy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1"/>
          <p:cNvSpPr/>
          <p:nvPr/>
        </p:nvSpPr>
        <p:spPr>
          <a:xfrm>
            <a:off x="6804000" y="4508640"/>
            <a:ext cx="2232000" cy="7038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1095480"/>
                <a:tab algn="l" pos="2190600"/>
                <a:tab algn="l" pos="3286080"/>
                <a:tab algn="l" pos="4381560"/>
                <a:tab algn="l" pos="5477040"/>
                <a:tab algn="l" pos="6572160"/>
                <a:tab algn="l" pos="7667640"/>
                <a:tab algn="l" pos="8763120"/>
                <a:tab algn="l" pos="9858240"/>
                <a:tab algn="l" pos="1095372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two way indicator species analy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2"/>
          <p:cNvSpPr/>
          <p:nvPr/>
        </p:nvSpPr>
        <p:spPr>
          <a:xfrm>
            <a:off x="2556000" y="5373720"/>
            <a:ext cx="1944720" cy="7038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1095480"/>
                <a:tab algn="l" pos="2190600"/>
                <a:tab algn="l" pos="3286080"/>
                <a:tab algn="l" pos="4381560"/>
                <a:tab algn="l" pos="5477040"/>
                <a:tab algn="l" pos="6572160"/>
                <a:tab algn="l" pos="7667640"/>
                <a:tab algn="l" pos="8763120"/>
                <a:tab algn="l" pos="9858240"/>
                <a:tab algn="l" pos="1095372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-means clust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3"/>
          <p:cNvSpPr/>
          <p:nvPr/>
        </p:nvSpPr>
        <p:spPr>
          <a:xfrm>
            <a:off x="5148360" y="1413000"/>
            <a:ext cx="3887640" cy="17899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1095480"/>
                <a:tab algn="l" pos="2190600"/>
                <a:tab algn="l" pos="3286080"/>
                <a:tab algn="l" pos="4381560"/>
                <a:tab algn="l" pos="5477040"/>
                <a:tab algn="l" pos="6572160"/>
                <a:tab algn="l" pos="7667640"/>
                <a:tab algn="l" pos="8763120"/>
                <a:tab algn="l" pos="9858240"/>
                <a:tab algn="l" pos="1095372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ingle-linkage clust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1095480"/>
                <a:tab algn="l" pos="2190600"/>
                <a:tab algn="l" pos="3286080"/>
                <a:tab algn="l" pos="4381560"/>
                <a:tab algn="l" pos="5477040"/>
                <a:tab algn="l" pos="6572160"/>
                <a:tab algn="l" pos="7667640"/>
                <a:tab algn="l" pos="8763120"/>
                <a:tab algn="l" pos="9858240"/>
                <a:tab algn="l" pos="1095372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verage-linkage clust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1095480"/>
                <a:tab algn="l" pos="2190600"/>
                <a:tab algn="l" pos="3286080"/>
                <a:tab algn="l" pos="4381560"/>
                <a:tab algn="l" pos="5477040"/>
                <a:tab algn="l" pos="6572160"/>
                <a:tab algn="l" pos="7667640"/>
                <a:tab algn="l" pos="8763120"/>
                <a:tab algn="l" pos="9858240"/>
                <a:tab algn="l" pos="1095372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complete-linkage clust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1095480"/>
                <a:tab algn="l" pos="2190600"/>
                <a:tab algn="l" pos="3286080"/>
                <a:tab algn="l" pos="4381560"/>
                <a:tab algn="l" pos="5477040"/>
                <a:tab algn="l" pos="6572160"/>
                <a:tab algn="l" pos="7667640"/>
                <a:tab algn="l" pos="8763120"/>
                <a:tab algn="l" pos="9858240"/>
                <a:tab algn="l" pos="1095372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1" name="AutoShape 14"/>
          <p:cNvCxnSpPr>
            <a:stCxn id="101" idx="3"/>
            <a:endCxn id="103" idx="1"/>
          </p:cNvCxnSpPr>
          <p:nvPr/>
        </p:nvCxnSpPr>
        <p:spPr>
          <a:xfrm flipV="1">
            <a:off x="2268000" y="1983960"/>
            <a:ext cx="288360" cy="1099440"/>
          </a:xfrm>
          <a:prstGeom prst="bentConnector3">
            <a:avLst>
              <a:gd name="adj1" fmla="val 49625"/>
            </a:avLst>
          </a:prstGeom>
          <a:ln w="15840">
            <a:solidFill>
              <a:srgbClr val="000000"/>
            </a:solidFill>
            <a:miter/>
          </a:ln>
        </p:spPr>
      </p:cxnSp>
      <p:cxnSp>
        <p:nvCxnSpPr>
          <p:cNvPr id="112" name="AutoShape 15"/>
          <p:cNvCxnSpPr>
            <a:stCxn id="101" idx="3"/>
            <a:endCxn id="104" idx="1"/>
          </p:cNvCxnSpPr>
          <p:nvPr/>
        </p:nvCxnSpPr>
        <p:spPr>
          <a:xfrm>
            <a:off x="2268000" y="3082680"/>
            <a:ext cx="288360" cy="1270440"/>
          </a:xfrm>
          <a:prstGeom prst="bentConnector3">
            <a:avLst>
              <a:gd name="adj1" fmla="val 49625"/>
            </a:avLst>
          </a:prstGeom>
          <a:ln w="15840">
            <a:solidFill>
              <a:srgbClr val="000000"/>
            </a:solidFill>
            <a:miter/>
          </a:ln>
        </p:spPr>
      </p:cxnSp>
      <p:cxnSp>
        <p:nvCxnSpPr>
          <p:cNvPr id="113" name="AutoShape 16"/>
          <p:cNvCxnSpPr>
            <a:stCxn id="103" idx="3"/>
            <a:endCxn id="110" idx="1"/>
          </p:cNvCxnSpPr>
          <p:nvPr/>
        </p:nvCxnSpPr>
        <p:spPr>
          <a:xfrm>
            <a:off x="4858920" y="1984320"/>
            <a:ext cx="289440" cy="317880"/>
          </a:xfrm>
          <a:prstGeom prst="bentConnector3">
            <a:avLst>
              <a:gd name="adj1" fmla="val 49937"/>
            </a:avLst>
          </a:prstGeom>
          <a:ln w="15840">
            <a:solidFill>
              <a:srgbClr val="000000"/>
            </a:solidFill>
            <a:miter/>
          </a:ln>
        </p:spPr>
      </p:cxnSp>
      <p:cxnSp>
        <p:nvCxnSpPr>
          <p:cNvPr id="114" name="AutoShape 17"/>
          <p:cNvCxnSpPr>
            <a:stCxn id="104" idx="3"/>
            <a:endCxn id="105" idx="1"/>
          </p:cNvCxnSpPr>
          <p:nvPr/>
        </p:nvCxnSpPr>
        <p:spPr>
          <a:xfrm flipV="1">
            <a:off x="4858920" y="3803040"/>
            <a:ext cx="289440" cy="549720"/>
          </a:xfrm>
          <a:prstGeom prst="bentConnector3">
            <a:avLst>
              <a:gd name="adj1" fmla="val 49937"/>
            </a:avLst>
          </a:prstGeom>
          <a:ln w="15840">
            <a:solidFill>
              <a:srgbClr val="000000"/>
            </a:solidFill>
            <a:miter/>
          </a:ln>
        </p:spPr>
      </p:cxnSp>
      <p:cxnSp>
        <p:nvCxnSpPr>
          <p:cNvPr id="115" name="AutoShape 18"/>
          <p:cNvCxnSpPr>
            <a:stCxn id="104" idx="3"/>
            <a:endCxn id="106" idx="1"/>
          </p:cNvCxnSpPr>
          <p:nvPr/>
        </p:nvCxnSpPr>
        <p:spPr>
          <a:xfrm>
            <a:off x="4858920" y="4352760"/>
            <a:ext cx="289440" cy="511920"/>
          </a:xfrm>
          <a:prstGeom prst="bentConnector3">
            <a:avLst>
              <a:gd name="adj1" fmla="val 49937"/>
            </a:avLst>
          </a:prstGeom>
          <a:ln w="15840">
            <a:solidFill>
              <a:srgbClr val="000000"/>
            </a:solidFill>
            <a:miter/>
          </a:ln>
        </p:spPr>
      </p:cxnSp>
      <p:cxnSp>
        <p:nvCxnSpPr>
          <p:cNvPr id="116" name="AutoShape 19"/>
          <p:cNvCxnSpPr>
            <a:stCxn id="105" idx="3"/>
            <a:endCxn id="107" idx="1"/>
          </p:cNvCxnSpPr>
          <p:nvPr/>
        </p:nvCxnSpPr>
        <p:spPr>
          <a:xfrm>
            <a:off x="6659280" y="3803400"/>
            <a:ext cx="144720" cy="108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cxnSp>
        <p:nvCxnSpPr>
          <p:cNvPr id="117" name="AutoShape 20"/>
          <p:cNvCxnSpPr>
            <a:stCxn id="106" idx="3"/>
            <a:endCxn id="108" idx="1"/>
          </p:cNvCxnSpPr>
          <p:nvPr/>
        </p:nvCxnSpPr>
        <p:spPr>
          <a:xfrm>
            <a:off x="6659280" y="4863600"/>
            <a:ext cx="144720" cy="108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cxnSp>
        <p:nvCxnSpPr>
          <p:cNvPr id="118" name="AutoShape 21"/>
          <p:cNvCxnSpPr>
            <a:stCxn id="102" idx="3"/>
            <a:endCxn id="109" idx="1"/>
          </p:cNvCxnSpPr>
          <p:nvPr/>
        </p:nvCxnSpPr>
        <p:spPr>
          <a:xfrm>
            <a:off x="2268000" y="5729040"/>
            <a:ext cx="288360" cy="108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5" name="Picture 2" descr=""/>
          <p:cNvPicPr/>
          <p:nvPr/>
        </p:nvPicPr>
        <p:blipFill>
          <a:blip r:embed="rId1"/>
          <a:stretch/>
        </p:blipFill>
        <p:spPr>
          <a:xfrm>
            <a:off x="3265560" y="2190600"/>
            <a:ext cx="5027400" cy="5027760"/>
          </a:xfrm>
          <a:prstGeom prst="rect">
            <a:avLst/>
          </a:prstGeom>
          <a:ln w="0">
            <a:noFill/>
          </a:ln>
        </p:spPr>
      </p:pic>
      <p:sp>
        <p:nvSpPr>
          <p:cNvPr id="466" name="Text Box 3"/>
          <p:cNvSpPr/>
          <p:nvPr/>
        </p:nvSpPr>
        <p:spPr>
          <a:xfrm>
            <a:off x="646200" y="919080"/>
            <a:ext cx="750888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>
              <a:spcBef>
                <a:spcPts val="400"/>
              </a:spcBef>
              <a:buClr>
                <a:srgbClr val="589c54"/>
              </a:buClr>
              <a:buFont typeface="Arial"/>
              <a:buChar char="•"/>
              <a:tabLst>
                <a:tab algn="l" pos="1095480"/>
                <a:tab algn="l" pos="2190600"/>
                <a:tab algn="l" pos="3286080"/>
                <a:tab algn="l" pos="4381560"/>
                <a:tab algn="l" pos="5477040"/>
                <a:tab algn="l" pos="6572160"/>
                <a:tab algn="l" pos="7667640"/>
                <a:tab algn="l" pos="8763120"/>
                <a:tab algn="l" pos="9858240"/>
                <a:tab algn="l" pos="1095372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CA is based on unimodal response mod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spcBef>
                <a:spcPts val="400"/>
              </a:spcBef>
              <a:buClr>
                <a:srgbClr val="589c54"/>
              </a:buClr>
              <a:buFont typeface="Arial"/>
              <a:buChar char="•"/>
              <a:tabLst>
                <a:tab algn="l" pos="1095480"/>
                <a:tab algn="l" pos="2190600"/>
                <a:tab algn="l" pos="3286080"/>
                <a:tab algn="l" pos="4381560"/>
                <a:tab algn="l" pos="5477040"/>
                <a:tab algn="l" pos="6572160"/>
                <a:tab algn="l" pos="7667640"/>
                <a:tab algn="l" pos="8763120"/>
                <a:tab algn="l" pos="9858240"/>
                <a:tab algn="l" pos="1095372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trong unimodal response can lead to „arch effect“ in ordination diagr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spcBef>
                <a:spcPts val="400"/>
              </a:spcBef>
              <a:buClr>
                <a:srgbClr val="589c54"/>
              </a:buClr>
              <a:buFont typeface="Arial"/>
              <a:buChar char="•"/>
              <a:tabLst>
                <a:tab algn="l" pos="1095480"/>
                <a:tab algn="l" pos="2190600"/>
                <a:tab algn="l" pos="3286080"/>
                <a:tab algn="l" pos="4381560"/>
                <a:tab algn="l" pos="5477040"/>
                <a:tab algn="l" pos="6572160"/>
                <a:tab algn="l" pos="7667640"/>
                <a:tab algn="l" pos="8763120"/>
                <a:tab algn="l" pos="9858240"/>
                <a:tab algn="l" pos="1095372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Detrended form of CA copes with „arch effect“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itle 1"/>
          <p:cNvSpPr/>
          <p:nvPr/>
        </p:nvSpPr>
        <p:spPr>
          <a:xfrm>
            <a:off x="506520" y="61920"/>
            <a:ext cx="856908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e5c00"/>
                </a:solidFill>
                <a:latin typeface="Arial"/>
              </a:rPr>
              <a:t>Correspondence analysis: „arch effect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5"/>
          <p:cNvSpPr/>
          <p:nvPr/>
        </p:nvSpPr>
        <p:spPr>
          <a:xfrm>
            <a:off x="658800" y="2206800"/>
            <a:ext cx="2771640" cy="1493280"/>
          </a:xfrm>
          <a:prstGeom prst="rect">
            <a:avLst/>
          </a:prstGeom>
          <a:noFill/>
          <a:ln w="19080">
            <a:solidFill>
              <a:srgbClr val="6ae8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>
              <a:spcBef>
                <a:spcPts val="876"/>
              </a:spcBef>
              <a:tabLst>
                <a:tab algn="l" pos="0"/>
                <a:tab algn="l" pos="1095480"/>
                <a:tab algn="l" pos="2190600"/>
                <a:tab algn="l" pos="3286080"/>
                <a:tab algn="l" pos="4381560"/>
                <a:tab algn="l" pos="5477040"/>
                <a:tab algn="l" pos="6572160"/>
                <a:tab algn="l" pos="7667640"/>
                <a:tab algn="l" pos="8763120"/>
                <a:tab algn="l" pos="9858240"/>
                <a:tab algn="l" pos="1095372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REAL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spcBef>
                <a:spcPts val="876"/>
              </a:spcBef>
              <a:buClr>
                <a:srgbClr val="6ae842"/>
              </a:buClr>
              <a:buSzPct val="70000"/>
              <a:buFont typeface="Wingdings" charset="2"/>
              <a:buChar char=""/>
              <a:tabLst>
                <a:tab algn="l" pos="1095480"/>
                <a:tab algn="l" pos="2190600"/>
                <a:tab algn="l" pos="3286080"/>
                <a:tab algn="l" pos="4381560"/>
                <a:tab algn="l" pos="5477040"/>
                <a:tab algn="l" pos="6572160"/>
                <a:tab algn="l" pos="7667640"/>
                <a:tab algn="l" pos="8763120"/>
                <a:tab algn="l" pos="9858240"/>
                <a:tab algn="l" pos="1095372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terrestrial snai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spcBef>
                <a:spcPts val="876"/>
              </a:spcBef>
              <a:buClr>
                <a:srgbClr val="6ae842"/>
              </a:buClr>
              <a:buSzPct val="70000"/>
              <a:buFont typeface="Wingdings" charset="2"/>
              <a:buChar char=""/>
              <a:tabLst>
                <a:tab algn="l" pos="1095480"/>
                <a:tab algn="l" pos="2190600"/>
                <a:tab algn="l" pos="3286080"/>
                <a:tab algn="l" pos="4381560"/>
                <a:tab algn="l" pos="5477040"/>
                <a:tab algn="l" pos="6572160"/>
                <a:tab algn="l" pos="7667640"/>
                <a:tab algn="l" pos="8763120"/>
                <a:tab algn="l" pos="9858240"/>
                <a:tab algn="l" pos="1095372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data matrix: 42 sites x 33 molluscan spec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spcBef>
                <a:spcPts val="876"/>
              </a:spcBef>
              <a:tabLst>
                <a:tab algn="l" pos="0"/>
                <a:tab algn="l" pos="1095480"/>
                <a:tab algn="l" pos="2190600"/>
                <a:tab algn="l" pos="3286080"/>
                <a:tab algn="l" pos="4381560"/>
                <a:tab algn="l" pos="5477040"/>
                <a:tab algn="l" pos="6572160"/>
                <a:tab algn="l" pos="7667640"/>
                <a:tab algn="l" pos="8763120"/>
                <a:tab algn="l" pos="9858240"/>
                <a:tab algn="l" pos="10953720"/>
              </a:tabLst>
            </a:pPr>
            <a:r>
              <a:rPr b="0" lang="cs-CZ" sz="1400" spc="-1" strike="noStrike">
                <a:solidFill>
                  <a:srgbClr val="bbe0e3"/>
                </a:solidFill>
                <a:latin typeface="Arial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values = dominance sca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Title 1"/>
          <p:cNvSpPr/>
          <p:nvPr/>
        </p:nvSpPr>
        <p:spPr>
          <a:xfrm>
            <a:off x="506520" y="61920"/>
            <a:ext cx="856908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e5c00"/>
                </a:solidFill>
                <a:latin typeface="Arial"/>
              </a:rPr>
              <a:t>Correspondence analysis: „arch effect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0" name="Picture 3" descr=""/>
          <p:cNvPicPr/>
          <p:nvPr/>
        </p:nvPicPr>
        <p:blipFill>
          <a:blip r:embed="rId1"/>
          <a:stretch/>
        </p:blipFill>
        <p:spPr>
          <a:xfrm>
            <a:off x="392040" y="1430280"/>
            <a:ext cx="5184720" cy="5184720"/>
          </a:xfrm>
          <a:prstGeom prst="rect">
            <a:avLst/>
          </a:prstGeom>
          <a:ln w="0">
            <a:noFill/>
          </a:ln>
        </p:spPr>
      </p:pic>
      <p:sp>
        <p:nvSpPr>
          <p:cNvPr id="471" name="Rectangle 4"/>
          <p:cNvSpPr/>
          <p:nvPr/>
        </p:nvSpPr>
        <p:spPr>
          <a:xfrm>
            <a:off x="6224760" y="981000"/>
            <a:ext cx="1079280" cy="360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D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Rectangle 5"/>
          <p:cNvSpPr/>
          <p:nvPr/>
        </p:nvSpPr>
        <p:spPr>
          <a:xfrm>
            <a:off x="5935680" y="1700280"/>
            <a:ext cx="1655640" cy="649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Verdana"/>
              </a:rPr>
              <a:t>Arbitrarily assign Site Sco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Rectangle 6"/>
          <p:cNvSpPr/>
          <p:nvPr/>
        </p:nvSpPr>
        <p:spPr>
          <a:xfrm>
            <a:off x="5935680" y="2635200"/>
            <a:ext cx="1655640" cy="649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Verdana"/>
              </a:rPr>
              <a:t>Assign Species Scores as WA of Site Sco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Rectangle 7"/>
          <p:cNvSpPr/>
          <p:nvPr/>
        </p:nvSpPr>
        <p:spPr>
          <a:xfrm>
            <a:off x="5935680" y="3714840"/>
            <a:ext cx="1655640" cy="649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Verdana"/>
              </a:rPr>
              <a:t>Assign new Site Scores as WA of Species Sco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 Box 8"/>
          <p:cNvSpPr/>
          <p:nvPr/>
        </p:nvSpPr>
        <p:spPr>
          <a:xfrm>
            <a:off x="5581800" y="5459400"/>
            <a:ext cx="237780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Verdana"/>
              </a:rPr>
              <a:t>Any change in scor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Rectangle 9"/>
          <p:cNvSpPr/>
          <p:nvPr/>
        </p:nvSpPr>
        <p:spPr>
          <a:xfrm>
            <a:off x="6224760" y="6068880"/>
            <a:ext cx="1079280" cy="360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7" name="AutoShape 10"/>
          <p:cNvCxnSpPr>
            <a:stCxn id="471" idx="2"/>
            <a:endCxn id="472" idx="0"/>
          </p:cNvCxnSpPr>
          <p:nvPr/>
        </p:nvCxnSpPr>
        <p:spPr>
          <a:xfrm>
            <a:off x="6764040" y="1341000"/>
            <a:ext cx="1080" cy="3596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8" name="AutoShape 11"/>
          <p:cNvCxnSpPr>
            <a:stCxn id="472" idx="2"/>
            <a:endCxn id="473" idx="0"/>
          </p:cNvCxnSpPr>
          <p:nvPr/>
        </p:nvCxnSpPr>
        <p:spPr>
          <a:xfrm>
            <a:off x="6764040" y="2349360"/>
            <a:ext cx="1080" cy="28656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9" name="AutoShape 12"/>
          <p:cNvCxnSpPr>
            <a:stCxn id="473" idx="2"/>
            <a:endCxn id="474" idx="0"/>
          </p:cNvCxnSpPr>
          <p:nvPr/>
        </p:nvCxnSpPr>
        <p:spPr>
          <a:xfrm>
            <a:off x="6764040" y="3284280"/>
            <a:ext cx="1080" cy="43092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0" name="AutoShape 13"/>
          <p:cNvCxnSpPr>
            <a:stCxn id="474" idx="2"/>
            <a:endCxn id="481" idx="0"/>
          </p:cNvCxnSpPr>
          <p:nvPr/>
        </p:nvCxnSpPr>
        <p:spPr>
          <a:xfrm flipH="1">
            <a:off x="6761880" y="4363920"/>
            <a:ext cx="2520" cy="36252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2" name="AutoShape 14"/>
          <p:cNvCxnSpPr>
            <a:stCxn id="475" idx="2"/>
            <a:endCxn id="476" idx="0"/>
          </p:cNvCxnSpPr>
          <p:nvPr/>
        </p:nvCxnSpPr>
        <p:spPr>
          <a:xfrm flipH="1">
            <a:off x="6763680" y="5734080"/>
            <a:ext cx="6840" cy="33552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3" name="Text Box 15"/>
          <p:cNvSpPr/>
          <p:nvPr/>
        </p:nvSpPr>
        <p:spPr>
          <a:xfrm>
            <a:off x="6256440" y="5694480"/>
            <a:ext cx="64764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Verdana"/>
              </a:rPr>
              <a:t>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 Box 16"/>
          <p:cNvSpPr/>
          <p:nvPr/>
        </p:nvSpPr>
        <p:spPr>
          <a:xfrm>
            <a:off x="7375680" y="5281560"/>
            <a:ext cx="71892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Verdana"/>
              </a:rPr>
              <a:t>Y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5" name="AutoShape 17"/>
          <p:cNvCxnSpPr>
            <a:stCxn id="475" idx="3"/>
            <a:endCxn id="473" idx="3"/>
          </p:cNvCxnSpPr>
          <p:nvPr/>
        </p:nvCxnSpPr>
        <p:spPr>
          <a:xfrm flipH="1" flipV="1">
            <a:off x="7590600" y="2959920"/>
            <a:ext cx="369000" cy="2637720"/>
          </a:xfrm>
          <a:prstGeom prst="bentConnector3">
            <a:avLst>
              <a:gd name="adj1" fmla="val -62011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1" name="Rectangle 18"/>
          <p:cNvSpPr/>
          <p:nvPr/>
        </p:nvSpPr>
        <p:spPr>
          <a:xfrm>
            <a:off x="5934240" y="4726080"/>
            <a:ext cx="1655640" cy="50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Verdana"/>
              </a:rPr>
              <a:t>Detrend Site Sco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6" name="AutoShape 19"/>
          <p:cNvCxnSpPr>
            <a:stCxn id="481" idx="2"/>
            <a:endCxn id="475" idx="0"/>
          </p:cNvCxnSpPr>
          <p:nvPr/>
        </p:nvCxnSpPr>
        <p:spPr>
          <a:xfrm>
            <a:off x="6762600" y="5230440"/>
            <a:ext cx="8640" cy="22932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7" name="Text Box 20"/>
          <p:cNvSpPr/>
          <p:nvPr/>
        </p:nvSpPr>
        <p:spPr>
          <a:xfrm>
            <a:off x="611280" y="974880"/>
            <a:ext cx="511164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a50021"/>
                </a:solidFill>
                <a:latin typeface="Arial"/>
              </a:rPr>
              <a:t>„</a:t>
            </a:r>
            <a:r>
              <a:rPr b="1" lang="sk-SK" sz="1800" spc="-1" strike="noStrike">
                <a:solidFill>
                  <a:srgbClr val="a50021"/>
                </a:solidFill>
                <a:latin typeface="Arial"/>
              </a:rPr>
              <a:t>arch effect“, „horse shoe effect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e5c00"/>
                </a:solidFill>
                <a:latin typeface="Arial"/>
              </a:rPr>
              <a:t>Detrended correspondence analysis (DCA)</a:t>
            </a:r>
            <a:endParaRPr b="0" lang="en-US" sz="2800" spc="-1" strike="noStrike">
              <a:solidFill>
                <a:srgbClr val="2e5c00"/>
              </a:solidFill>
              <a:latin typeface="Arial"/>
            </a:endParaRPr>
          </a:p>
        </p:txBody>
      </p:sp>
      <p:pic>
        <p:nvPicPr>
          <p:cNvPr id="489" name="Picture 3" descr=""/>
          <p:cNvPicPr/>
          <p:nvPr/>
        </p:nvPicPr>
        <p:blipFill>
          <a:blip r:embed="rId1"/>
          <a:stretch/>
        </p:blipFill>
        <p:spPr>
          <a:xfrm>
            <a:off x="2583000" y="2135160"/>
            <a:ext cx="5653080" cy="5067360"/>
          </a:xfrm>
          <a:prstGeom prst="rect">
            <a:avLst/>
          </a:prstGeom>
          <a:ln w="0">
            <a:noFill/>
          </a:ln>
        </p:spPr>
      </p:pic>
      <p:sp>
        <p:nvSpPr>
          <p:cNvPr id="490" name="Text Box 4"/>
          <p:cNvSpPr/>
          <p:nvPr/>
        </p:nvSpPr>
        <p:spPr>
          <a:xfrm>
            <a:off x="714240" y="996840"/>
            <a:ext cx="61182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>
              <a:spcBef>
                <a:spcPts val="400"/>
              </a:spcBef>
              <a:buClr>
                <a:srgbClr val="589c54"/>
              </a:buClr>
              <a:buFont typeface="Arial"/>
              <a:buChar char="•"/>
              <a:tabLst>
                <a:tab algn="l" pos="1095480"/>
                <a:tab algn="l" pos="2190600"/>
                <a:tab algn="l" pos="3286080"/>
                <a:tab algn="l" pos="4381560"/>
                <a:tab algn="l" pos="5477040"/>
                <a:tab algn="l" pos="6572160"/>
                <a:tab algn="l" pos="7667640"/>
                <a:tab algn="l" pos="8763120"/>
                <a:tab algn="l" pos="9858240"/>
                <a:tab algn="l" pos="1095372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DCA is related to a unimodal response mod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spcBef>
                <a:spcPts val="400"/>
              </a:spcBef>
              <a:buClr>
                <a:srgbClr val="589c54"/>
              </a:buClr>
              <a:buFont typeface="Arial"/>
              <a:buChar char="•"/>
              <a:tabLst>
                <a:tab algn="l" pos="1095480"/>
                <a:tab algn="l" pos="2190600"/>
                <a:tab algn="l" pos="3286080"/>
                <a:tab algn="l" pos="4381560"/>
                <a:tab algn="l" pos="5477040"/>
                <a:tab algn="l" pos="6572160"/>
                <a:tab algn="l" pos="7667640"/>
                <a:tab algn="l" pos="8763120"/>
                <a:tab algn="l" pos="9858240"/>
                <a:tab algn="l" pos="1095372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DCA removes the „arch effect“ by various metho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6"/>
          <p:cNvSpPr/>
          <p:nvPr/>
        </p:nvSpPr>
        <p:spPr>
          <a:xfrm>
            <a:off x="757080" y="1881360"/>
            <a:ext cx="2772000" cy="1493280"/>
          </a:xfrm>
          <a:prstGeom prst="rect">
            <a:avLst/>
          </a:prstGeom>
          <a:solidFill>
            <a:srgbClr val="ffffff"/>
          </a:solidFill>
          <a:ln w="19080">
            <a:solidFill>
              <a:srgbClr val="6ae8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>
              <a:spcBef>
                <a:spcPts val="876"/>
              </a:spcBef>
              <a:tabLst>
                <a:tab algn="l" pos="0"/>
                <a:tab algn="l" pos="1095480"/>
                <a:tab algn="l" pos="2190600"/>
                <a:tab algn="l" pos="3286080"/>
                <a:tab algn="l" pos="4381560"/>
                <a:tab algn="l" pos="5477040"/>
                <a:tab algn="l" pos="6572160"/>
                <a:tab algn="l" pos="7667640"/>
                <a:tab algn="l" pos="8763120"/>
                <a:tab algn="l" pos="9858240"/>
                <a:tab algn="l" pos="1095372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REAL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spcBef>
                <a:spcPts val="876"/>
              </a:spcBef>
              <a:buClr>
                <a:srgbClr val="6ae842"/>
              </a:buClr>
              <a:buSzPct val="70000"/>
              <a:buFont typeface="Wingdings" charset="2"/>
              <a:buChar char=""/>
              <a:tabLst>
                <a:tab algn="l" pos="1095480"/>
                <a:tab algn="l" pos="2190600"/>
                <a:tab algn="l" pos="3286080"/>
                <a:tab algn="l" pos="4381560"/>
                <a:tab algn="l" pos="5477040"/>
                <a:tab algn="l" pos="6572160"/>
                <a:tab algn="l" pos="7667640"/>
                <a:tab algn="l" pos="8763120"/>
                <a:tab algn="l" pos="9858240"/>
                <a:tab algn="l" pos="1095372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terrestrial snai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spcBef>
                <a:spcPts val="876"/>
              </a:spcBef>
              <a:buClr>
                <a:srgbClr val="6ae842"/>
              </a:buClr>
              <a:buSzPct val="70000"/>
              <a:buFont typeface="Wingdings" charset="2"/>
              <a:buChar char=""/>
              <a:tabLst>
                <a:tab algn="l" pos="1095480"/>
                <a:tab algn="l" pos="2190600"/>
                <a:tab algn="l" pos="3286080"/>
                <a:tab algn="l" pos="4381560"/>
                <a:tab algn="l" pos="5477040"/>
                <a:tab algn="l" pos="6572160"/>
                <a:tab algn="l" pos="7667640"/>
                <a:tab algn="l" pos="8763120"/>
                <a:tab algn="l" pos="9858240"/>
                <a:tab algn="l" pos="1095372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data matrix: 42 sites x 33 molluscan spec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spcBef>
                <a:spcPts val="876"/>
              </a:spcBef>
              <a:tabLst>
                <a:tab algn="l" pos="0"/>
                <a:tab algn="l" pos="1095480"/>
                <a:tab algn="l" pos="2190600"/>
                <a:tab algn="l" pos="3286080"/>
                <a:tab algn="l" pos="4381560"/>
                <a:tab algn="l" pos="5477040"/>
                <a:tab algn="l" pos="6572160"/>
                <a:tab algn="l" pos="7667640"/>
                <a:tab algn="l" pos="8763120"/>
                <a:tab algn="l" pos="9858240"/>
                <a:tab algn="l" pos="10953720"/>
              </a:tabLst>
            </a:pPr>
            <a:r>
              <a:rPr b="0" lang="cs-CZ" sz="1400" spc="-1" strike="noStrike">
                <a:solidFill>
                  <a:srgbClr val="bbe0e3"/>
                </a:solidFill>
                <a:latin typeface="Arial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values = dominance sca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62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e5c00"/>
                </a:solidFill>
                <a:latin typeface="Arial"/>
              </a:rPr>
              <a:t>Software</a:t>
            </a:r>
            <a:endParaRPr b="0" lang="en-US" sz="2800" spc="-1" strike="noStrike">
              <a:solidFill>
                <a:srgbClr val="2e5c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037880"/>
            <a:ext cx="7848720" cy="50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589c5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Canoco for Windows (ter Braak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&amp;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 Šmilauer 2004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589c5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YN-TAX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2000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(Podani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997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589c5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atistica (StatSoft, Inc. 2005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589c5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AST (Hammer, Harper, Ryan 2001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4" name="Picture 4" descr="Canoco"/>
          <p:cNvPicPr/>
          <p:nvPr/>
        </p:nvPicPr>
        <p:blipFill>
          <a:blip r:embed="rId1"/>
          <a:stretch/>
        </p:blipFill>
        <p:spPr>
          <a:xfrm>
            <a:off x="1663560" y="3241800"/>
            <a:ext cx="1460520" cy="1460520"/>
          </a:xfrm>
          <a:prstGeom prst="rect">
            <a:avLst/>
          </a:prstGeom>
          <a:ln w="0">
            <a:noFill/>
          </a:ln>
        </p:spPr>
      </p:pic>
      <p:sp>
        <p:nvSpPr>
          <p:cNvPr id="495" name="Rectangle 5"/>
          <p:cNvSpPr/>
          <p:nvPr/>
        </p:nvSpPr>
        <p:spPr>
          <a:xfrm>
            <a:off x="0" y="2882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6" name="Picture 6" descr=""/>
          <p:cNvPicPr/>
          <p:nvPr/>
        </p:nvPicPr>
        <p:blipFill>
          <a:blip r:embed="rId2"/>
          <a:stretch/>
        </p:blipFill>
        <p:spPr>
          <a:xfrm>
            <a:off x="3386160" y="5803920"/>
            <a:ext cx="2274840" cy="546120"/>
          </a:xfrm>
          <a:prstGeom prst="rect">
            <a:avLst/>
          </a:prstGeom>
          <a:ln w="0">
            <a:noFill/>
          </a:ln>
        </p:spPr>
      </p:pic>
      <p:pic>
        <p:nvPicPr>
          <p:cNvPr id="497" name="Picture 7" descr=""/>
          <p:cNvPicPr/>
          <p:nvPr/>
        </p:nvPicPr>
        <p:blipFill>
          <a:blip r:embed="rId3"/>
          <a:stretch/>
        </p:blipFill>
        <p:spPr>
          <a:xfrm>
            <a:off x="2500200" y="5318280"/>
            <a:ext cx="3840120" cy="428400"/>
          </a:xfrm>
          <a:prstGeom prst="rect">
            <a:avLst/>
          </a:prstGeom>
          <a:ln w="0">
            <a:noFill/>
          </a:ln>
        </p:spPr>
      </p:pic>
      <p:pic>
        <p:nvPicPr>
          <p:cNvPr id="498" name="Picture 8" descr=""/>
          <p:cNvPicPr/>
          <p:nvPr/>
        </p:nvPicPr>
        <p:blipFill>
          <a:blip r:embed="rId4"/>
          <a:stretch/>
        </p:blipFill>
        <p:spPr>
          <a:xfrm>
            <a:off x="4646520" y="3740040"/>
            <a:ext cx="490680" cy="490680"/>
          </a:xfrm>
          <a:prstGeom prst="rect">
            <a:avLst/>
          </a:prstGeom>
          <a:ln w="0">
            <a:noFill/>
          </a:ln>
        </p:spPr>
      </p:pic>
      <p:pic>
        <p:nvPicPr>
          <p:cNvPr id="499" name="Picture 9" descr=""/>
          <p:cNvPicPr/>
          <p:nvPr/>
        </p:nvPicPr>
        <p:blipFill>
          <a:blip r:embed="rId5"/>
          <a:stretch/>
        </p:blipFill>
        <p:spPr>
          <a:xfrm>
            <a:off x="5316480" y="3740040"/>
            <a:ext cx="490680" cy="490680"/>
          </a:xfrm>
          <a:prstGeom prst="rect">
            <a:avLst/>
          </a:prstGeom>
          <a:ln w="0">
            <a:noFill/>
          </a:ln>
        </p:spPr>
      </p:pic>
      <p:pic>
        <p:nvPicPr>
          <p:cNvPr id="500" name="Picture 10" descr=""/>
          <p:cNvPicPr/>
          <p:nvPr/>
        </p:nvPicPr>
        <p:blipFill>
          <a:blip r:embed="rId6"/>
          <a:stretch/>
        </p:blipFill>
        <p:spPr>
          <a:xfrm>
            <a:off x="5987880" y="3740040"/>
            <a:ext cx="490680" cy="490680"/>
          </a:xfrm>
          <a:prstGeom prst="rect">
            <a:avLst/>
          </a:prstGeom>
          <a:ln w="0">
            <a:noFill/>
          </a:ln>
        </p:spPr>
      </p:pic>
      <p:sp>
        <p:nvSpPr>
          <p:cNvPr id="501" name="Text Box 11"/>
          <p:cNvSpPr/>
          <p:nvPr/>
        </p:nvSpPr>
        <p:spPr>
          <a:xfrm>
            <a:off x="4281480" y="3276720"/>
            <a:ext cx="299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YN-TAX 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25"/>
          <p:cNvSpPr/>
          <p:nvPr/>
        </p:nvSpPr>
        <p:spPr>
          <a:xfrm>
            <a:off x="1359000" y="6597720"/>
            <a:ext cx="703584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9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 International Summer School on Computational Biology, August 13 – 15, 2007, Mikulov, Czech Re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2"/>
          <p:cNvSpPr/>
          <p:nvPr/>
        </p:nvSpPr>
        <p:spPr>
          <a:xfrm>
            <a:off x="254160" y="3051000"/>
            <a:ext cx="8038800" cy="11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e5c00"/>
                </a:solidFill>
                <a:latin typeface="Arial"/>
              </a:rPr>
              <a:t>THANK YOU FOR </a:t>
            </a:r>
            <a:br>
              <a:rPr sz="3500"/>
            </a:br>
            <a:r>
              <a:rPr b="0" lang="en-US" sz="3500" spc="-1" strike="noStrike">
                <a:solidFill>
                  <a:srgbClr val="2e5c00"/>
                </a:solidFill>
                <a:latin typeface="Arial"/>
              </a:rPr>
              <a:t>YOUR ATTENTION !!!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4" name="Picture 3" descr=""/>
          <p:cNvPicPr/>
          <p:nvPr/>
        </p:nvPicPr>
        <p:blipFill>
          <a:blip r:embed="rId1"/>
          <a:stretch/>
        </p:blipFill>
        <p:spPr>
          <a:xfrm>
            <a:off x="2754360" y="266760"/>
            <a:ext cx="2892240" cy="2482920"/>
          </a:xfrm>
          <a:prstGeom prst="rect">
            <a:avLst/>
          </a:prstGeom>
          <a:ln w="0">
            <a:noFill/>
          </a:ln>
        </p:spPr>
      </p:pic>
      <p:pic>
        <p:nvPicPr>
          <p:cNvPr id="505" name="Picture 4" descr=""/>
          <p:cNvPicPr/>
          <p:nvPr/>
        </p:nvPicPr>
        <p:blipFill>
          <a:blip r:embed="rId2"/>
          <a:stretch/>
        </p:blipFill>
        <p:spPr>
          <a:xfrm>
            <a:off x="3473280" y="4327560"/>
            <a:ext cx="1644840" cy="21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62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e5c00"/>
                </a:solidFill>
                <a:latin typeface="Arial"/>
              </a:rPr>
              <a:t>Hierarchical agglomerative clustering</a:t>
            </a:r>
            <a:endParaRPr b="0" lang="en-US" sz="2800" spc="-1" strike="noStrike">
              <a:solidFill>
                <a:srgbClr val="2e5c00"/>
              </a:solidFill>
              <a:latin typeface="Arial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179280" y="1628640"/>
            <a:ext cx="1584360" cy="703800"/>
          </a:xfrm>
          <a:prstGeom prst="rect">
            <a:avLst/>
          </a:prstGeom>
          <a:solidFill>
            <a:srgbClr val="ffff6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1095480"/>
                <a:tab algn="l" pos="2190600"/>
                <a:tab algn="l" pos="3286080"/>
                <a:tab algn="l" pos="4381560"/>
                <a:tab algn="l" pos="5477040"/>
                <a:tab algn="l" pos="6572160"/>
                <a:tab algn="l" pos="7667640"/>
                <a:tab algn="l" pos="8763120"/>
                <a:tab algn="l" pos="9858240"/>
                <a:tab algn="l" pos="1095372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hierarchical techniq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2050920" y="1628640"/>
            <a:ext cx="1871640" cy="703800"/>
          </a:xfrm>
          <a:prstGeom prst="rect">
            <a:avLst/>
          </a:prstGeom>
          <a:solidFill>
            <a:srgbClr val="7dff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1095480"/>
                <a:tab algn="l" pos="2190600"/>
                <a:tab algn="l" pos="3286080"/>
                <a:tab algn="l" pos="4381560"/>
                <a:tab algn="l" pos="5477040"/>
                <a:tab algn="l" pos="6572160"/>
                <a:tab algn="l" pos="7667640"/>
                <a:tab algn="l" pos="8763120"/>
                <a:tab algn="l" pos="9858240"/>
                <a:tab algn="l" pos="1095372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gglomerative clust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2" name="AutoShape 6"/>
          <p:cNvCxnSpPr>
            <a:stCxn id="120" idx="3"/>
            <a:endCxn id="121" idx="1"/>
          </p:cNvCxnSpPr>
          <p:nvPr/>
        </p:nvCxnSpPr>
        <p:spPr>
          <a:xfrm>
            <a:off x="1763640" y="1983960"/>
            <a:ext cx="288000" cy="108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graphicFrame>
        <p:nvGraphicFramePr>
          <p:cNvPr id="123" name="Object 7"/>
          <p:cNvGraphicFramePr/>
          <p:nvPr/>
        </p:nvGraphicFramePr>
        <p:xfrm>
          <a:off x="395280" y="3860640"/>
          <a:ext cx="3960720" cy="234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3860640"/>
                    <a:ext cx="3960720" cy="23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8"/>
          <p:cNvSpPr/>
          <p:nvPr/>
        </p:nvSpPr>
        <p:spPr>
          <a:xfrm>
            <a:off x="3995640" y="1616040"/>
            <a:ext cx="4967280" cy="213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>
              <a:spcBef>
                <a:spcPts val="876"/>
              </a:spcBef>
              <a:buClr>
                <a:srgbClr val="000099"/>
              </a:buClr>
              <a:buSzPct val="70000"/>
              <a:buFont typeface="Wingdings" charset="2"/>
              <a:buChar char=""/>
              <a:tabLst>
                <a:tab algn="l" pos="1095480"/>
                <a:tab algn="l" pos="2190600"/>
                <a:tab algn="l" pos="3286080"/>
                <a:tab algn="l" pos="4381560"/>
                <a:tab algn="l" pos="5477040"/>
                <a:tab algn="l" pos="6572160"/>
                <a:tab algn="l" pos="7667640"/>
                <a:tab algn="l" pos="8763120"/>
                <a:tab algn="l" pos="9858240"/>
                <a:tab algn="l" pos="1095372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starts from single objects, which are agglomerated into larger clust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spcBef>
                <a:spcPts val="876"/>
              </a:spcBef>
              <a:buClr>
                <a:srgbClr val="000099"/>
              </a:buClr>
              <a:buSzPct val="70000"/>
              <a:buFont typeface="Wingdings" charset="2"/>
              <a:buChar char=""/>
              <a:tabLst>
                <a:tab algn="l" pos="1095480"/>
                <a:tab algn="l" pos="2190600"/>
                <a:tab algn="l" pos="3286080"/>
                <a:tab algn="l" pos="4381560"/>
                <a:tab algn="l" pos="5477040"/>
                <a:tab algn="l" pos="6572160"/>
                <a:tab algn="l" pos="7667640"/>
                <a:tab algn="l" pos="8763120"/>
                <a:tab algn="l" pos="9858240"/>
                <a:tab algn="l" pos="1095372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require a similarity or dissimilarity matrix (site by site) to start fr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spcBef>
                <a:spcPts val="876"/>
              </a:spcBef>
              <a:buClr>
                <a:srgbClr val="000099"/>
              </a:buClr>
              <a:buSzPct val="70000"/>
              <a:buFont typeface="Wingdings" charset="2"/>
              <a:buChar char=""/>
              <a:tabLst>
                <a:tab algn="l" pos="1095480"/>
                <a:tab algn="l" pos="2190600"/>
                <a:tab algn="l" pos="3286080"/>
                <a:tab algn="l" pos="4381560"/>
                <a:tab algn="l" pos="5477040"/>
                <a:tab algn="l" pos="6572160"/>
                <a:tab algn="l" pos="7667640"/>
                <a:tab algn="l" pos="8763120"/>
                <a:tab algn="l" pos="9858240"/>
                <a:tab algn="l" pos="1095372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for presence/absence data as well as for quantitative data many similarity indices are avail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spcBef>
                <a:spcPts val="876"/>
              </a:spcBef>
              <a:buClr>
                <a:srgbClr val="000099"/>
              </a:buClr>
              <a:buSzPct val="70000"/>
              <a:buFont typeface="Wingdings" charset="2"/>
              <a:buChar char=""/>
              <a:tabLst>
                <a:tab algn="l" pos="1095480"/>
                <a:tab algn="l" pos="2190600"/>
                <a:tab algn="l" pos="3286080"/>
                <a:tab algn="l" pos="4381560"/>
                <a:tab algn="l" pos="5477040"/>
                <a:tab algn="l" pos="6572160"/>
                <a:tab algn="l" pos="7667640"/>
                <a:tab algn="l" pos="8763120"/>
                <a:tab algn="l" pos="9858240"/>
                <a:tab algn="l" pos="1095372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all agglomerative methods are based on fusion of single entities (sites) or clusters into larger grou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Group 9"/>
          <p:cNvGrpSpPr/>
          <p:nvPr/>
        </p:nvGrpSpPr>
        <p:grpSpPr>
          <a:xfrm>
            <a:off x="394920" y="5807160"/>
            <a:ext cx="250920" cy="214200"/>
            <a:chOff x="394920" y="5807160"/>
            <a:chExt cx="250920" cy="214200"/>
          </a:xfrm>
        </p:grpSpPr>
        <p:sp>
          <p:nvSpPr>
            <p:cNvPr id="127" name="Line 10"/>
            <p:cNvSpPr/>
            <p:nvPr/>
          </p:nvSpPr>
          <p:spPr>
            <a:xfrm>
              <a:off x="519840" y="5807160"/>
              <a:ext cx="0" cy="214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Line 11"/>
            <p:cNvSpPr/>
            <p:nvPr/>
          </p:nvSpPr>
          <p:spPr>
            <a:xfrm flipH="1">
              <a:off x="394920" y="5914800"/>
              <a:ext cx="250920" cy="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Text Box 12"/>
          <p:cNvSpPr/>
          <p:nvPr/>
        </p:nvSpPr>
        <p:spPr>
          <a:xfrm>
            <a:off x="646200" y="5734080"/>
            <a:ext cx="14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centr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3"/>
          <p:cNvSpPr/>
          <p:nvPr/>
        </p:nvSpPr>
        <p:spPr>
          <a:xfrm>
            <a:off x="5219640" y="4594320"/>
            <a:ext cx="34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istance in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ingle link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istance in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complete link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14"/>
          <p:cNvSpPr/>
          <p:nvPr/>
        </p:nvSpPr>
        <p:spPr>
          <a:xfrm>
            <a:off x="4608360" y="4726080"/>
            <a:ext cx="540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15"/>
          <p:cNvSpPr/>
          <p:nvPr/>
        </p:nvSpPr>
        <p:spPr>
          <a:xfrm>
            <a:off x="4608360" y="5013360"/>
            <a:ext cx="54000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6"/>
          <p:cNvSpPr/>
          <p:nvPr/>
        </p:nvSpPr>
        <p:spPr>
          <a:xfrm>
            <a:off x="4427640" y="5262480"/>
            <a:ext cx="453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between cluster distance in other method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istance between the centroi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verage di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62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e5c00"/>
                </a:solidFill>
                <a:latin typeface="Arial"/>
              </a:rPr>
              <a:t>Hierarchical agglomerative clustering</a:t>
            </a:r>
            <a:endParaRPr b="0" lang="en-US" sz="2800" spc="-1" strike="noStrike">
              <a:solidFill>
                <a:srgbClr val="2e5c00"/>
              </a:solidFill>
              <a:latin typeface="Arial"/>
            </a:endParaRPr>
          </a:p>
        </p:txBody>
      </p:sp>
      <p:sp>
        <p:nvSpPr>
          <p:cNvPr id="135" name="Text Box 4"/>
          <p:cNvSpPr/>
          <p:nvPr/>
        </p:nvSpPr>
        <p:spPr>
          <a:xfrm>
            <a:off x="179280" y="1628640"/>
            <a:ext cx="1584360" cy="703800"/>
          </a:xfrm>
          <a:prstGeom prst="rect">
            <a:avLst/>
          </a:prstGeom>
          <a:solidFill>
            <a:srgbClr val="ffff6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1095480"/>
                <a:tab algn="l" pos="2190600"/>
                <a:tab algn="l" pos="3286080"/>
                <a:tab algn="l" pos="4381560"/>
                <a:tab algn="l" pos="5477040"/>
                <a:tab algn="l" pos="6572160"/>
                <a:tab algn="l" pos="7667640"/>
                <a:tab algn="l" pos="8763120"/>
                <a:tab algn="l" pos="9858240"/>
                <a:tab algn="l" pos="1095372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hierarchical techniq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5"/>
          <p:cNvSpPr/>
          <p:nvPr/>
        </p:nvSpPr>
        <p:spPr>
          <a:xfrm>
            <a:off x="2050920" y="1628640"/>
            <a:ext cx="1871640" cy="703800"/>
          </a:xfrm>
          <a:prstGeom prst="rect">
            <a:avLst/>
          </a:prstGeom>
          <a:solidFill>
            <a:srgbClr val="7dff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1095480"/>
                <a:tab algn="l" pos="2190600"/>
                <a:tab algn="l" pos="3286080"/>
                <a:tab algn="l" pos="4381560"/>
                <a:tab algn="l" pos="5477040"/>
                <a:tab algn="l" pos="6572160"/>
                <a:tab algn="l" pos="7667640"/>
                <a:tab algn="l" pos="8763120"/>
                <a:tab algn="l" pos="9858240"/>
                <a:tab algn="l" pos="1095372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gglomerative clust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AutoShape 6"/>
          <p:cNvCxnSpPr>
            <a:stCxn id="135" idx="3"/>
            <a:endCxn id="136" idx="1"/>
          </p:cNvCxnSpPr>
          <p:nvPr/>
        </p:nvCxnSpPr>
        <p:spPr>
          <a:xfrm>
            <a:off x="1763640" y="1983960"/>
            <a:ext cx="288000" cy="108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graphicFrame>
        <p:nvGraphicFramePr>
          <p:cNvPr id="138" name="Object 7"/>
          <p:cNvGraphicFramePr/>
          <p:nvPr/>
        </p:nvGraphicFramePr>
        <p:xfrm>
          <a:off x="108000" y="3252960"/>
          <a:ext cx="2925720" cy="274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000" y="3252960"/>
                    <a:ext cx="2925720" cy="27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0" name="Object 8"/>
          <p:cNvGraphicFramePr/>
          <p:nvPr/>
        </p:nvGraphicFramePr>
        <p:xfrm>
          <a:off x="6183360" y="3252960"/>
          <a:ext cx="2925720" cy="2743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83360" y="3252960"/>
                    <a:ext cx="2925720" cy="27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2" name="Object 9"/>
          <p:cNvGraphicFramePr/>
          <p:nvPr/>
        </p:nvGraphicFramePr>
        <p:xfrm>
          <a:off x="3132000" y="3259080"/>
          <a:ext cx="2926080" cy="2743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3" name="Object 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132000" y="3259080"/>
                    <a:ext cx="2926080" cy="27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Text Box 10"/>
          <p:cNvSpPr/>
          <p:nvPr/>
        </p:nvSpPr>
        <p:spPr>
          <a:xfrm>
            <a:off x="4068720" y="1461960"/>
            <a:ext cx="4967280" cy="1168920"/>
          </a:xfrm>
          <a:prstGeom prst="rect">
            <a:avLst/>
          </a:prstGeom>
          <a:noFill/>
          <a:ln w="19080">
            <a:solidFill>
              <a:srgbClr val="6ae8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>
              <a:spcBef>
                <a:spcPts val="876"/>
              </a:spcBef>
              <a:tabLst>
                <a:tab algn="l" pos="0"/>
                <a:tab algn="l" pos="1095480"/>
                <a:tab algn="l" pos="2190600"/>
                <a:tab algn="l" pos="3286080"/>
                <a:tab algn="l" pos="4381560"/>
                <a:tab algn="l" pos="5477040"/>
                <a:tab algn="l" pos="6572160"/>
                <a:tab algn="l" pos="7667640"/>
                <a:tab algn="l" pos="8763120"/>
                <a:tab algn="l" pos="9858240"/>
                <a:tab algn="l" pos="1095372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REAL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spcBef>
                <a:spcPts val="876"/>
              </a:spcBef>
              <a:buClr>
                <a:srgbClr val="6ae842"/>
              </a:buClr>
              <a:buSzPct val="70000"/>
              <a:buFont typeface="Wingdings" charset="2"/>
              <a:buChar char=""/>
              <a:tabLst>
                <a:tab algn="l" pos="1095480"/>
                <a:tab algn="l" pos="2190600"/>
                <a:tab algn="l" pos="3286080"/>
                <a:tab algn="l" pos="4381560"/>
                <a:tab algn="l" pos="5477040"/>
                <a:tab algn="l" pos="6572160"/>
                <a:tab algn="l" pos="7667640"/>
                <a:tab algn="l" pos="8763120"/>
                <a:tab algn="l" pos="9858240"/>
                <a:tab algn="l" pos="1095372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from 6 localities, each locality monitored in 3 peri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spcBef>
                <a:spcPts val="876"/>
              </a:spcBef>
              <a:buClr>
                <a:srgbClr val="6ae842"/>
              </a:buClr>
              <a:buSzPct val="70000"/>
              <a:buFont typeface="Wingdings" charset="2"/>
              <a:buChar char=""/>
              <a:tabLst>
                <a:tab algn="l" pos="1095480"/>
                <a:tab algn="l" pos="2190600"/>
                <a:tab algn="l" pos="3286080"/>
                <a:tab algn="l" pos="4381560"/>
                <a:tab algn="l" pos="5477040"/>
                <a:tab algn="l" pos="6572160"/>
                <a:tab algn="l" pos="7667640"/>
                <a:tab algn="l" pos="8763120"/>
                <a:tab algn="l" pos="9858240"/>
                <a:tab algn="l" pos="1095372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data matrix: 18 sites x 63 planktonic species; values = dominance sca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1"/>
          <p:cNvSpPr/>
          <p:nvPr/>
        </p:nvSpPr>
        <p:spPr>
          <a:xfrm>
            <a:off x="108000" y="2781360"/>
            <a:ext cx="2879640" cy="398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1095480"/>
                <a:tab algn="l" pos="2190600"/>
                <a:tab algn="l" pos="3286080"/>
                <a:tab algn="l" pos="4381560"/>
                <a:tab algn="l" pos="5477040"/>
                <a:tab algn="l" pos="6572160"/>
                <a:tab algn="l" pos="7667640"/>
                <a:tab algn="l" pos="8763120"/>
                <a:tab algn="l" pos="9858240"/>
                <a:tab algn="l" pos="1095372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ingle-lin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12"/>
          <p:cNvSpPr/>
          <p:nvPr/>
        </p:nvSpPr>
        <p:spPr>
          <a:xfrm>
            <a:off x="3059280" y="3187800"/>
            <a:ext cx="0" cy="2735280"/>
          </a:xfrm>
          <a:prstGeom prst="line">
            <a:avLst/>
          </a:prstGeom>
          <a:ln w="25560">
            <a:solidFill>
              <a:srgbClr val="cc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3"/>
          <p:cNvSpPr/>
          <p:nvPr/>
        </p:nvSpPr>
        <p:spPr>
          <a:xfrm>
            <a:off x="6156360" y="2781360"/>
            <a:ext cx="2879640" cy="398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1095480"/>
                <a:tab algn="l" pos="2190600"/>
                <a:tab algn="l" pos="3286080"/>
                <a:tab algn="l" pos="4381560"/>
                <a:tab algn="l" pos="5477040"/>
                <a:tab algn="l" pos="6572160"/>
                <a:tab algn="l" pos="7667640"/>
                <a:tab algn="l" pos="8763120"/>
                <a:tab algn="l" pos="9858240"/>
                <a:tab algn="l" pos="1095372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complete-lin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14"/>
          <p:cNvSpPr/>
          <p:nvPr/>
        </p:nvSpPr>
        <p:spPr>
          <a:xfrm>
            <a:off x="6103800" y="3187800"/>
            <a:ext cx="0" cy="2735280"/>
          </a:xfrm>
          <a:prstGeom prst="line">
            <a:avLst/>
          </a:prstGeom>
          <a:ln w="25560">
            <a:solidFill>
              <a:srgbClr val="cc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5"/>
          <p:cNvSpPr/>
          <p:nvPr/>
        </p:nvSpPr>
        <p:spPr>
          <a:xfrm>
            <a:off x="3132000" y="2781360"/>
            <a:ext cx="2880000" cy="398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1095480"/>
                <a:tab algn="l" pos="2190600"/>
                <a:tab algn="l" pos="3286080"/>
                <a:tab algn="l" pos="4381560"/>
                <a:tab algn="l" pos="5477040"/>
                <a:tab algn="l" pos="6572160"/>
                <a:tab algn="l" pos="7667640"/>
                <a:tab algn="l" pos="8763120"/>
                <a:tab algn="l" pos="9858240"/>
                <a:tab algn="l" pos="1095372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verage-lin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6"/>
          <p:cNvSpPr/>
          <p:nvPr/>
        </p:nvSpPr>
        <p:spPr>
          <a:xfrm>
            <a:off x="216000" y="6002280"/>
            <a:ext cx="8820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Dendrograms 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representative of single-linkage, average, and complete-linkage clusterin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The single-linkage example shows chainin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62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e5c00"/>
                </a:solidFill>
                <a:latin typeface="Arial"/>
              </a:rPr>
              <a:t>Hierarchical divisive clustering</a:t>
            </a:r>
            <a:endParaRPr b="0" lang="en-US" sz="2800" spc="-1" strike="noStrike">
              <a:solidFill>
                <a:srgbClr val="2e5c00"/>
              </a:solidFill>
              <a:latin typeface="Arial"/>
            </a:endParaRPr>
          </a:p>
        </p:txBody>
      </p:sp>
      <p:sp>
        <p:nvSpPr>
          <p:cNvPr id="152" name="Text Box 4"/>
          <p:cNvSpPr/>
          <p:nvPr/>
        </p:nvSpPr>
        <p:spPr>
          <a:xfrm>
            <a:off x="179280" y="1438200"/>
            <a:ext cx="2808360" cy="398880"/>
          </a:xfrm>
          <a:prstGeom prst="rect">
            <a:avLst/>
          </a:prstGeom>
          <a:solidFill>
            <a:srgbClr val="ffff6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1095480"/>
                <a:tab algn="l" pos="2190600"/>
                <a:tab algn="l" pos="3286080"/>
                <a:tab algn="l" pos="4381560"/>
                <a:tab algn="l" pos="5477040"/>
                <a:tab algn="l" pos="6572160"/>
                <a:tab algn="l" pos="7667640"/>
                <a:tab algn="l" pos="8763120"/>
                <a:tab algn="l" pos="9858240"/>
                <a:tab algn="l" pos="1095372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hierarchical techniq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5"/>
          <p:cNvSpPr/>
          <p:nvPr/>
        </p:nvSpPr>
        <p:spPr>
          <a:xfrm>
            <a:off x="3346560" y="1438200"/>
            <a:ext cx="2233440" cy="398880"/>
          </a:xfrm>
          <a:prstGeom prst="rect">
            <a:avLst/>
          </a:prstGeom>
          <a:solidFill>
            <a:srgbClr val="7dff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1095480"/>
                <a:tab algn="l" pos="2190600"/>
                <a:tab algn="l" pos="3286080"/>
                <a:tab algn="l" pos="4381560"/>
                <a:tab algn="l" pos="5477040"/>
                <a:tab algn="l" pos="6572160"/>
                <a:tab algn="l" pos="7667640"/>
                <a:tab algn="l" pos="8763120"/>
                <a:tab algn="l" pos="9858240"/>
                <a:tab algn="l" pos="1095372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ivisive clust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AutoShape 6"/>
          <p:cNvCxnSpPr>
            <a:stCxn id="152" idx="3"/>
            <a:endCxn id="153" idx="1"/>
          </p:cNvCxnSpPr>
          <p:nvPr/>
        </p:nvCxnSpPr>
        <p:spPr>
          <a:xfrm>
            <a:off x="2987280" y="1641240"/>
            <a:ext cx="359640" cy="108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sp>
        <p:nvSpPr>
          <p:cNvPr id="155" name="Text Box 7"/>
          <p:cNvSpPr/>
          <p:nvPr/>
        </p:nvSpPr>
        <p:spPr>
          <a:xfrm>
            <a:off x="468360" y="2060640"/>
            <a:ext cx="266364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1095480"/>
                <a:tab algn="l" pos="2190600"/>
                <a:tab algn="l" pos="3286080"/>
                <a:tab algn="l" pos="4381560"/>
                <a:tab algn="l" pos="5477040"/>
                <a:tab algn="l" pos="6572160"/>
                <a:tab algn="l" pos="7667640"/>
                <a:tab algn="l" pos="8763120"/>
                <a:tab algn="l" pos="9858240"/>
                <a:tab algn="l" pos="1095372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onothetic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8"/>
          <p:cNvSpPr/>
          <p:nvPr/>
        </p:nvSpPr>
        <p:spPr>
          <a:xfrm>
            <a:off x="468360" y="2565360"/>
            <a:ext cx="2663640" cy="398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1095480"/>
                <a:tab algn="l" pos="2190600"/>
                <a:tab algn="l" pos="3286080"/>
                <a:tab algn="l" pos="4381560"/>
                <a:tab algn="l" pos="5477040"/>
                <a:tab algn="l" pos="6572160"/>
                <a:tab algn="l" pos="7667640"/>
                <a:tab algn="l" pos="8763120"/>
                <a:tab algn="l" pos="9858240"/>
                <a:tab algn="l" pos="1095372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ssociation analy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7" name="AutoShape 9"/>
          <p:cNvCxnSpPr>
            <a:stCxn id="155" idx="2"/>
            <a:endCxn id="156" idx="0"/>
          </p:cNvCxnSpPr>
          <p:nvPr/>
        </p:nvCxnSpPr>
        <p:spPr>
          <a:xfrm flipH="1">
            <a:off x="1799640" y="2466720"/>
            <a:ext cx="1080" cy="9900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cxnSp>
        <p:nvCxnSpPr>
          <p:cNvPr id="158" name="AutoShape 10"/>
          <p:cNvCxnSpPr>
            <a:stCxn id="153" idx="2"/>
            <a:endCxn id="155" idx="0"/>
          </p:cNvCxnSpPr>
          <p:nvPr/>
        </p:nvCxnSpPr>
        <p:spPr>
          <a:xfrm rot="5400000">
            <a:off x="3023280" y="620640"/>
            <a:ext cx="216720" cy="2664360"/>
          </a:xfrm>
          <a:prstGeom prst="bentConnector3">
            <a:avLst>
              <a:gd name="adj1" fmla="val 49916"/>
            </a:avLst>
          </a:prstGeom>
          <a:ln w="15840">
            <a:solidFill>
              <a:srgbClr val="000000"/>
            </a:solidFill>
            <a:miter/>
          </a:ln>
        </p:spPr>
      </p:cxnSp>
      <p:sp>
        <p:nvSpPr>
          <p:cNvPr id="159" name="Text Box 11"/>
          <p:cNvSpPr/>
          <p:nvPr/>
        </p:nvSpPr>
        <p:spPr>
          <a:xfrm>
            <a:off x="34920" y="6165720"/>
            <a:ext cx="4897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1095480"/>
                <a:tab algn="l" pos="2190600"/>
                <a:tab algn="l" pos="3286080"/>
                <a:tab algn="l" pos="4381560"/>
                <a:tab algn="l" pos="5477040"/>
                <a:tab algn="l" pos="6572160"/>
                <a:tab algn="l" pos="7667640"/>
                <a:tab algn="l" pos="8763120"/>
                <a:tab algn="l" pos="9858240"/>
                <a:tab algn="l" pos="1095372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 binary key for identifying types of salt-marsh habitat (Ivemey-Cook, Proctor 1966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Group 12"/>
          <p:cNvGrpSpPr/>
          <p:nvPr/>
        </p:nvGrpSpPr>
        <p:grpSpPr>
          <a:xfrm>
            <a:off x="108000" y="3227400"/>
            <a:ext cx="4464000" cy="2793960"/>
            <a:chOff x="108000" y="3227400"/>
            <a:chExt cx="4464000" cy="2793960"/>
          </a:xfrm>
        </p:grpSpPr>
        <p:sp>
          <p:nvSpPr>
            <p:cNvPr id="161" name="Line 13"/>
            <p:cNvSpPr/>
            <p:nvPr/>
          </p:nvSpPr>
          <p:spPr>
            <a:xfrm>
              <a:off x="692280" y="3573360"/>
              <a:ext cx="1885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Line 14"/>
            <p:cNvSpPr/>
            <p:nvPr/>
          </p:nvSpPr>
          <p:spPr>
            <a:xfrm>
              <a:off x="2577960" y="3573360"/>
              <a:ext cx="0" cy="1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Line 15"/>
            <p:cNvSpPr/>
            <p:nvPr/>
          </p:nvSpPr>
          <p:spPr>
            <a:xfrm>
              <a:off x="3228840" y="3860640"/>
              <a:ext cx="0" cy="265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Line 16"/>
            <p:cNvSpPr/>
            <p:nvPr/>
          </p:nvSpPr>
          <p:spPr>
            <a:xfrm>
              <a:off x="692280" y="3573360"/>
              <a:ext cx="0" cy="1298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 Box 17"/>
            <p:cNvSpPr/>
            <p:nvPr/>
          </p:nvSpPr>
          <p:spPr>
            <a:xfrm>
              <a:off x="237960" y="4870440"/>
              <a:ext cx="91152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89"/>
                </a:spcBef>
                <a:tabLst>
                  <a:tab algn="l" pos="0"/>
                  <a:tab algn="l" pos="1095480"/>
                  <a:tab algn="l" pos="2190600"/>
                  <a:tab algn="l" pos="3286080"/>
                  <a:tab algn="l" pos="4381560"/>
                  <a:tab algn="l" pos="5477040"/>
                  <a:tab algn="l" pos="6572160"/>
                  <a:tab algn="l" pos="7667640"/>
                  <a:tab algn="l" pos="8763120"/>
                  <a:tab algn="l" pos="9858240"/>
                  <a:tab algn="l" pos="10953720"/>
                </a:tabLst>
              </a:pPr>
              <a:r>
                <a:rPr b="0" lang="cs-CZ" sz="1100" spc="-1" strike="noStrike">
                  <a:solidFill>
                    <a:srgbClr val="000000"/>
                  </a:solidFill>
                  <a:latin typeface="Arial"/>
                </a:rPr>
                <a:t>Sper.  med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Text Box 18"/>
            <p:cNvSpPr/>
            <p:nvPr/>
          </p:nvSpPr>
          <p:spPr>
            <a:xfrm>
              <a:off x="1469880" y="4863960"/>
              <a:ext cx="91152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89"/>
                </a:spcBef>
                <a:tabLst>
                  <a:tab algn="l" pos="0"/>
                  <a:tab algn="l" pos="1095480"/>
                  <a:tab algn="l" pos="2190600"/>
                  <a:tab algn="l" pos="3286080"/>
                  <a:tab algn="l" pos="4381560"/>
                  <a:tab algn="l" pos="5477040"/>
                  <a:tab algn="l" pos="6572160"/>
                  <a:tab algn="l" pos="7667640"/>
                  <a:tab algn="l" pos="8763120"/>
                  <a:tab algn="l" pos="9858240"/>
                  <a:tab algn="l" pos="10953720"/>
                </a:tabLst>
              </a:pPr>
              <a:r>
                <a:rPr b="0" lang="cs-CZ" sz="1100" spc="-1" strike="noStrike">
                  <a:solidFill>
                    <a:srgbClr val="000000"/>
                  </a:solidFill>
                  <a:latin typeface="Arial"/>
                </a:rPr>
                <a:t>Glau. mar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19"/>
            <p:cNvSpPr/>
            <p:nvPr/>
          </p:nvSpPr>
          <p:spPr>
            <a:xfrm>
              <a:off x="3097080" y="4863960"/>
              <a:ext cx="91152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89"/>
                </a:spcBef>
                <a:tabLst>
                  <a:tab algn="l" pos="0"/>
                  <a:tab algn="l" pos="1095480"/>
                  <a:tab algn="l" pos="2190600"/>
                  <a:tab algn="l" pos="3286080"/>
                  <a:tab algn="l" pos="4381560"/>
                  <a:tab algn="l" pos="5477040"/>
                  <a:tab algn="l" pos="6572160"/>
                  <a:tab algn="l" pos="7667640"/>
                  <a:tab algn="l" pos="8763120"/>
                  <a:tab algn="l" pos="9858240"/>
                  <a:tab algn="l" pos="10953720"/>
                </a:tabLst>
              </a:pPr>
              <a:r>
                <a:rPr b="0" lang="cs-CZ" sz="1100" spc="-1" strike="noStrike">
                  <a:solidFill>
                    <a:srgbClr val="000000"/>
                  </a:solidFill>
                  <a:latin typeface="Arial"/>
                </a:rPr>
                <a:t>Coch. dan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20"/>
            <p:cNvSpPr/>
            <p:nvPr/>
          </p:nvSpPr>
          <p:spPr>
            <a:xfrm>
              <a:off x="3554280" y="4443480"/>
              <a:ext cx="90648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89"/>
                </a:spcBef>
                <a:tabLst>
                  <a:tab algn="l" pos="0"/>
                  <a:tab algn="l" pos="1095480"/>
                  <a:tab algn="l" pos="2190600"/>
                  <a:tab algn="l" pos="3286080"/>
                  <a:tab algn="l" pos="4381560"/>
                  <a:tab algn="l" pos="5477040"/>
                  <a:tab algn="l" pos="6572160"/>
                  <a:tab algn="l" pos="7667640"/>
                  <a:tab algn="l" pos="8763120"/>
                  <a:tab algn="l" pos="9858240"/>
                  <a:tab algn="l" pos="10953720"/>
                </a:tabLst>
              </a:pPr>
              <a:r>
                <a:rPr b="0" lang="cs-CZ" sz="1100" spc="-1" strike="noStrike">
                  <a:solidFill>
                    <a:srgbClr val="000000"/>
                  </a:solidFill>
                  <a:latin typeface="Arial"/>
                </a:rPr>
                <a:t>Cera. atr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 Box 21"/>
            <p:cNvSpPr/>
            <p:nvPr/>
          </p:nvSpPr>
          <p:spPr>
            <a:xfrm>
              <a:off x="2905200" y="4116240"/>
              <a:ext cx="90792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89"/>
                </a:spcBef>
                <a:tabLst>
                  <a:tab algn="l" pos="0"/>
                  <a:tab algn="l" pos="1095480"/>
                  <a:tab algn="l" pos="2190600"/>
                  <a:tab algn="l" pos="3286080"/>
                  <a:tab algn="l" pos="4381560"/>
                  <a:tab algn="l" pos="5477040"/>
                  <a:tab algn="l" pos="6572160"/>
                  <a:tab algn="l" pos="7667640"/>
                  <a:tab algn="l" pos="8763120"/>
                  <a:tab algn="l" pos="9858240"/>
                  <a:tab algn="l" pos="10953720"/>
                </a:tabLst>
              </a:pPr>
              <a:r>
                <a:rPr b="0" lang="cs-CZ" sz="1100" spc="-1" strike="noStrike">
                  <a:solidFill>
                    <a:srgbClr val="000000"/>
                  </a:solidFill>
                  <a:latin typeface="Arial"/>
                </a:rPr>
                <a:t>Psor. lur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Text Box 22"/>
            <p:cNvSpPr/>
            <p:nvPr/>
          </p:nvSpPr>
          <p:spPr>
            <a:xfrm>
              <a:off x="2163600" y="3665520"/>
              <a:ext cx="90828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89"/>
                </a:spcBef>
                <a:tabLst>
                  <a:tab algn="l" pos="0"/>
                  <a:tab algn="l" pos="1095480"/>
                  <a:tab algn="l" pos="2190600"/>
                  <a:tab algn="l" pos="3286080"/>
                  <a:tab algn="l" pos="4381560"/>
                  <a:tab algn="l" pos="5477040"/>
                  <a:tab algn="l" pos="6572160"/>
                  <a:tab algn="l" pos="7667640"/>
                  <a:tab algn="l" pos="8763120"/>
                  <a:tab algn="l" pos="9858240"/>
                  <a:tab algn="l" pos="10953720"/>
                </a:tabLst>
              </a:pPr>
              <a:r>
                <a:rPr b="0" lang="cs-CZ" sz="1100" spc="-1" strike="noStrike">
                  <a:solidFill>
                    <a:srgbClr val="000000"/>
                  </a:solidFill>
                  <a:latin typeface="Arial"/>
                </a:rPr>
                <a:t>Agro. sto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Text Box 23"/>
            <p:cNvSpPr/>
            <p:nvPr/>
          </p:nvSpPr>
          <p:spPr>
            <a:xfrm>
              <a:off x="1214280" y="3354480"/>
              <a:ext cx="90972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89"/>
                </a:spcBef>
                <a:tabLst>
                  <a:tab algn="l" pos="0"/>
                  <a:tab algn="l" pos="1095480"/>
                  <a:tab algn="l" pos="2190600"/>
                  <a:tab algn="l" pos="3286080"/>
                  <a:tab algn="l" pos="4381560"/>
                  <a:tab algn="l" pos="5477040"/>
                  <a:tab algn="l" pos="6572160"/>
                  <a:tab algn="l" pos="7667640"/>
                  <a:tab algn="l" pos="8763120"/>
                  <a:tab algn="l" pos="9858240"/>
                  <a:tab algn="l" pos="10953720"/>
                </a:tabLst>
              </a:pPr>
              <a:r>
                <a:rPr b="0" lang="cs-CZ" sz="1100" spc="-1" strike="noStrike">
                  <a:solidFill>
                    <a:srgbClr val="000000"/>
                  </a:solidFill>
                  <a:latin typeface="Arial"/>
                </a:rPr>
                <a:t>Puc. mar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Line 24"/>
            <p:cNvSpPr/>
            <p:nvPr/>
          </p:nvSpPr>
          <p:spPr>
            <a:xfrm>
              <a:off x="1536840" y="3227400"/>
              <a:ext cx="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Line 25"/>
            <p:cNvSpPr/>
            <p:nvPr/>
          </p:nvSpPr>
          <p:spPr>
            <a:xfrm>
              <a:off x="1862280" y="3860640"/>
              <a:ext cx="1365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Line 26"/>
            <p:cNvSpPr/>
            <p:nvPr/>
          </p:nvSpPr>
          <p:spPr>
            <a:xfrm>
              <a:off x="1862280" y="3860640"/>
              <a:ext cx="0" cy="102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Line 27"/>
            <p:cNvSpPr/>
            <p:nvPr/>
          </p:nvSpPr>
          <p:spPr>
            <a:xfrm>
              <a:off x="2700360" y="4316400"/>
              <a:ext cx="1177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Line 28"/>
            <p:cNvSpPr/>
            <p:nvPr/>
          </p:nvSpPr>
          <p:spPr>
            <a:xfrm>
              <a:off x="3878280" y="4316400"/>
              <a:ext cx="0" cy="189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Line 29"/>
            <p:cNvSpPr/>
            <p:nvPr/>
          </p:nvSpPr>
          <p:spPr>
            <a:xfrm>
              <a:off x="2700360" y="4316400"/>
              <a:ext cx="0" cy="1325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e 30"/>
            <p:cNvSpPr/>
            <p:nvPr/>
          </p:nvSpPr>
          <p:spPr>
            <a:xfrm>
              <a:off x="3422520" y="4630680"/>
              <a:ext cx="9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Line 31"/>
            <p:cNvSpPr/>
            <p:nvPr/>
          </p:nvSpPr>
          <p:spPr>
            <a:xfrm>
              <a:off x="3422520" y="4630680"/>
              <a:ext cx="0" cy="254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32"/>
            <p:cNvSpPr/>
            <p:nvPr/>
          </p:nvSpPr>
          <p:spPr>
            <a:xfrm>
              <a:off x="4398840" y="4630680"/>
              <a:ext cx="0" cy="101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33"/>
            <p:cNvSpPr/>
            <p:nvPr/>
          </p:nvSpPr>
          <p:spPr>
            <a:xfrm>
              <a:off x="3162240" y="5073480"/>
              <a:ext cx="716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34"/>
            <p:cNvSpPr/>
            <p:nvPr/>
          </p:nvSpPr>
          <p:spPr>
            <a:xfrm>
              <a:off x="2187720" y="5073480"/>
              <a:ext cx="0" cy="56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Line 35"/>
            <p:cNvSpPr/>
            <p:nvPr/>
          </p:nvSpPr>
          <p:spPr>
            <a:xfrm>
              <a:off x="3162240" y="5073480"/>
              <a:ext cx="0" cy="56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ne 36"/>
            <p:cNvSpPr/>
            <p:nvPr/>
          </p:nvSpPr>
          <p:spPr>
            <a:xfrm>
              <a:off x="3878280" y="5073480"/>
              <a:ext cx="0" cy="56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Line 37"/>
            <p:cNvSpPr/>
            <p:nvPr/>
          </p:nvSpPr>
          <p:spPr>
            <a:xfrm>
              <a:off x="1473120" y="5073480"/>
              <a:ext cx="0" cy="56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Line 38"/>
            <p:cNvSpPr/>
            <p:nvPr/>
          </p:nvSpPr>
          <p:spPr>
            <a:xfrm>
              <a:off x="301680" y="5073480"/>
              <a:ext cx="0" cy="56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Line 39"/>
            <p:cNvSpPr/>
            <p:nvPr/>
          </p:nvSpPr>
          <p:spPr>
            <a:xfrm>
              <a:off x="1017720" y="5073480"/>
              <a:ext cx="0" cy="56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Rectangle 40"/>
            <p:cNvSpPr/>
            <p:nvPr/>
          </p:nvSpPr>
          <p:spPr>
            <a:xfrm>
              <a:off x="144360" y="5705640"/>
              <a:ext cx="325440" cy="315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095480"/>
                  <a:tab algn="l" pos="2190600"/>
                  <a:tab algn="l" pos="3286080"/>
                  <a:tab algn="l" pos="4381560"/>
                  <a:tab algn="l" pos="5477040"/>
                  <a:tab algn="l" pos="6572160"/>
                  <a:tab algn="l" pos="7667640"/>
                  <a:tab algn="l" pos="8763120"/>
                  <a:tab algn="l" pos="9858240"/>
                  <a:tab algn="l" pos="10953720"/>
                </a:tabLst>
              </a:pPr>
              <a:r>
                <a:rPr b="0" lang="cs-CZ" sz="2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Rectangle 41"/>
            <p:cNvSpPr/>
            <p:nvPr/>
          </p:nvSpPr>
          <p:spPr>
            <a:xfrm>
              <a:off x="839880" y="5705640"/>
              <a:ext cx="325440" cy="315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095480"/>
                  <a:tab algn="l" pos="2190600"/>
                  <a:tab algn="l" pos="3286080"/>
                  <a:tab algn="l" pos="4381560"/>
                  <a:tab algn="l" pos="5477040"/>
                  <a:tab algn="l" pos="6572160"/>
                  <a:tab algn="l" pos="7667640"/>
                  <a:tab algn="l" pos="8763120"/>
                  <a:tab algn="l" pos="9858240"/>
                  <a:tab algn="l" pos="10953720"/>
                </a:tabLst>
              </a:pPr>
              <a:r>
                <a:rPr b="0" lang="cs-CZ" sz="2000" spc="-1" strike="noStrike">
                  <a:solidFill>
                    <a:srgbClr val="000000"/>
                  </a:solidFill>
                  <a:latin typeface="Arial"/>
                </a:rPr>
                <a:t>II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Rectangle 42"/>
            <p:cNvSpPr/>
            <p:nvPr/>
          </p:nvSpPr>
          <p:spPr>
            <a:xfrm>
              <a:off x="1298520" y="5705640"/>
              <a:ext cx="325440" cy="315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095480"/>
                  <a:tab algn="l" pos="2190600"/>
                  <a:tab algn="l" pos="3286080"/>
                  <a:tab algn="l" pos="4381560"/>
                  <a:tab algn="l" pos="5477040"/>
                  <a:tab algn="l" pos="6572160"/>
                  <a:tab algn="l" pos="7667640"/>
                  <a:tab algn="l" pos="8763120"/>
                  <a:tab algn="l" pos="9858240"/>
                  <a:tab algn="l" pos="10953720"/>
                </a:tabLst>
              </a:pPr>
              <a:r>
                <a:rPr b="0" lang="cs-CZ" sz="2000" spc="-1" strike="noStrike">
                  <a:solidFill>
                    <a:srgbClr val="000000"/>
                  </a:solidFill>
                  <a:latin typeface="Arial"/>
                </a:rPr>
                <a:t>III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Rectangle 43"/>
            <p:cNvSpPr/>
            <p:nvPr/>
          </p:nvSpPr>
          <p:spPr>
            <a:xfrm>
              <a:off x="2014560" y="5705640"/>
              <a:ext cx="325440" cy="315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095480"/>
                  <a:tab algn="l" pos="2190600"/>
                  <a:tab algn="l" pos="3286080"/>
                  <a:tab algn="l" pos="4381560"/>
                  <a:tab algn="l" pos="5477040"/>
                  <a:tab algn="l" pos="6572160"/>
                  <a:tab algn="l" pos="7667640"/>
                  <a:tab algn="l" pos="8763120"/>
                  <a:tab algn="l" pos="9858240"/>
                  <a:tab algn="l" pos="10953720"/>
                </a:tabLst>
              </a:pPr>
              <a:r>
                <a:rPr b="0" lang="cs-CZ" sz="2000" spc="-1" strike="noStrike">
                  <a:solidFill>
                    <a:srgbClr val="000000"/>
                  </a:solidFill>
                  <a:latin typeface="Arial"/>
                </a:rPr>
                <a:t>IV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Rectangle 44"/>
            <p:cNvSpPr/>
            <p:nvPr/>
          </p:nvSpPr>
          <p:spPr>
            <a:xfrm>
              <a:off x="2532240" y="5705640"/>
              <a:ext cx="325440" cy="315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095480"/>
                  <a:tab algn="l" pos="2190600"/>
                  <a:tab algn="l" pos="3286080"/>
                  <a:tab algn="l" pos="4381560"/>
                  <a:tab algn="l" pos="5477040"/>
                  <a:tab algn="l" pos="6572160"/>
                  <a:tab algn="l" pos="7667640"/>
                  <a:tab algn="l" pos="8763120"/>
                  <a:tab algn="l" pos="9858240"/>
                  <a:tab algn="l" pos="10953720"/>
                </a:tabLst>
              </a:pPr>
              <a:r>
                <a:rPr b="0" lang="cs-CZ" sz="20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Rectangle 45"/>
            <p:cNvSpPr/>
            <p:nvPr/>
          </p:nvSpPr>
          <p:spPr>
            <a:xfrm>
              <a:off x="3002040" y="5705640"/>
              <a:ext cx="325440" cy="315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095480"/>
                  <a:tab algn="l" pos="2190600"/>
                  <a:tab algn="l" pos="3286080"/>
                  <a:tab algn="l" pos="4381560"/>
                  <a:tab algn="l" pos="5477040"/>
                  <a:tab algn="l" pos="6572160"/>
                  <a:tab algn="l" pos="7667640"/>
                  <a:tab algn="l" pos="8763120"/>
                  <a:tab algn="l" pos="9858240"/>
                  <a:tab algn="l" pos="10953720"/>
                </a:tabLst>
              </a:pPr>
              <a:r>
                <a:rPr b="0" lang="cs-CZ" sz="2000" spc="-1" strike="noStrike">
                  <a:solidFill>
                    <a:srgbClr val="000000"/>
                  </a:solidFill>
                  <a:latin typeface="Arial"/>
                </a:rPr>
                <a:t>VI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Rectangle 46"/>
            <p:cNvSpPr/>
            <p:nvPr/>
          </p:nvSpPr>
          <p:spPr>
            <a:xfrm>
              <a:off x="3708360" y="5705640"/>
              <a:ext cx="325440" cy="315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095480"/>
                  <a:tab algn="l" pos="2190600"/>
                  <a:tab algn="l" pos="3286080"/>
                  <a:tab algn="l" pos="4381560"/>
                  <a:tab algn="l" pos="5477040"/>
                  <a:tab algn="l" pos="6572160"/>
                  <a:tab algn="l" pos="7667640"/>
                  <a:tab algn="l" pos="8763120"/>
                  <a:tab algn="l" pos="9858240"/>
                  <a:tab algn="l" pos="10953720"/>
                </a:tabLst>
              </a:pPr>
              <a:r>
                <a:rPr b="0" lang="cs-CZ" sz="2000" spc="-1" strike="noStrike">
                  <a:solidFill>
                    <a:srgbClr val="000000"/>
                  </a:solidFill>
                  <a:latin typeface="Arial"/>
                </a:rPr>
                <a:t>VII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Rectangle 47"/>
            <p:cNvSpPr/>
            <p:nvPr/>
          </p:nvSpPr>
          <p:spPr>
            <a:xfrm>
              <a:off x="4203720" y="5705640"/>
              <a:ext cx="368280" cy="315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095480"/>
                  <a:tab algn="l" pos="2190600"/>
                  <a:tab algn="l" pos="3286080"/>
                  <a:tab algn="l" pos="4381560"/>
                  <a:tab algn="l" pos="5477040"/>
                  <a:tab algn="l" pos="6572160"/>
                  <a:tab algn="l" pos="7667640"/>
                  <a:tab algn="l" pos="8763120"/>
                  <a:tab algn="l" pos="9858240"/>
                  <a:tab algn="l" pos="10953720"/>
                </a:tabLst>
              </a:pPr>
              <a:r>
                <a:rPr b="0" lang="cs-CZ" sz="2000" spc="-1" strike="noStrike">
                  <a:solidFill>
                    <a:srgbClr val="000000"/>
                  </a:solidFill>
                  <a:latin typeface="Arial"/>
                </a:rPr>
                <a:t>VIII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Line 48"/>
            <p:cNvSpPr/>
            <p:nvPr/>
          </p:nvSpPr>
          <p:spPr>
            <a:xfrm>
              <a:off x="1473120" y="5073480"/>
              <a:ext cx="714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Line 49"/>
            <p:cNvSpPr/>
            <p:nvPr/>
          </p:nvSpPr>
          <p:spPr>
            <a:xfrm>
              <a:off x="301680" y="5073480"/>
              <a:ext cx="716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Text Box 50"/>
            <p:cNvSpPr/>
            <p:nvPr/>
          </p:nvSpPr>
          <p:spPr>
            <a:xfrm>
              <a:off x="635040" y="3370320"/>
              <a:ext cx="260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1095480"/>
                  <a:tab algn="l" pos="2190600"/>
                  <a:tab algn="l" pos="3286080"/>
                  <a:tab algn="l" pos="4381560"/>
                  <a:tab algn="l" pos="5477040"/>
                  <a:tab algn="l" pos="6572160"/>
                  <a:tab algn="l" pos="7667640"/>
                  <a:tab algn="l" pos="8763120"/>
                  <a:tab algn="l" pos="9858240"/>
                  <a:tab algn="l" pos="1095372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Text Box 51"/>
            <p:cNvSpPr/>
            <p:nvPr/>
          </p:nvSpPr>
          <p:spPr>
            <a:xfrm>
              <a:off x="2397240" y="3351240"/>
              <a:ext cx="260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1095480"/>
                  <a:tab algn="l" pos="2190600"/>
                  <a:tab algn="l" pos="3286080"/>
                  <a:tab algn="l" pos="4381560"/>
                  <a:tab algn="l" pos="5477040"/>
                  <a:tab algn="l" pos="6572160"/>
                  <a:tab algn="l" pos="7667640"/>
                  <a:tab algn="l" pos="8763120"/>
                  <a:tab algn="l" pos="9858240"/>
                  <a:tab algn="l" pos="10953720"/>
                </a:tabLst>
              </a:pPr>
              <a:r>
                <a:rPr b="0" lang="cs-CZ" sz="12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Text Box 52"/>
            <p:cNvSpPr/>
            <p:nvPr/>
          </p:nvSpPr>
          <p:spPr>
            <a:xfrm>
              <a:off x="3006720" y="3648240"/>
              <a:ext cx="260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1095480"/>
                  <a:tab algn="l" pos="2190600"/>
                  <a:tab algn="l" pos="3286080"/>
                  <a:tab algn="l" pos="4381560"/>
                  <a:tab algn="l" pos="5477040"/>
                  <a:tab algn="l" pos="6572160"/>
                  <a:tab algn="l" pos="7667640"/>
                  <a:tab algn="l" pos="8763120"/>
                  <a:tab algn="l" pos="9858240"/>
                  <a:tab algn="l" pos="10953720"/>
                </a:tabLst>
              </a:pPr>
              <a:r>
                <a:rPr b="0" lang="cs-CZ" sz="12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Text Box 53"/>
            <p:cNvSpPr/>
            <p:nvPr/>
          </p:nvSpPr>
          <p:spPr>
            <a:xfrm>
              <a:off x="3714840" y="406080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1095480"/>
                  <a:tab algn="l" pos="2190600"/>
                  <a:tab algn="l" pos="3286080"/>
                  <a:tab algn="l" pos="4381560"/>
                  <a:tab algn="l" pos="5477040"/>
                  <a:tab algn="l" pos="6572160"/>
                  <a:tab algn="l" pos="7667640"/>
                  <a:tab algn="l" pos="8763120"/>
                  <a:tab algn="l" pos="9858240"/>
                  <a:tab algn="l" pos="10953720"/>
                </a:tabLst>
              </a:pPr>
              <a:r>
                <a:rPr b="0" lang="cs-CZ" sz="12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Text Box 54"/>
            <p:cNvSpPr/>
            <p:nvPr/>
          </p:nvSpPr>
          <p:spPr>
            <a:xfrm>
              <a:off x="4219560" y="4387680"/>
              <a:ext cx="262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1095480"/>
                  <a:tab algn="l" pos="2190600"/>
                  <a:tab algn="l" pos="3286080"/>
                  <a:tab algn="l" pos="4381560"/>
                  <a:tab algn="l" pos="5477040"/>
                  <a:tab algn="l" pos="6572160"/>
                  <a:tab algn="l" pos="7667640"/>
                  <a:tab algn="l" pos="8763120"/>
                  <a:tab algn="l" pos="9858240"/>
                  <a:tab algn="l" pos="10953720"/>
                </a:tabLst>
              </a:pPr>
              <a:r>
                <a:rPr b="0" lang="cs-CZ" sz="12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Text Box 55"/>
            <p:cNvSpPr/>
            <p:nvPr/>
          </p:nvSpPr>
          <p:spPr>
            <a:xfrm>
              <a:off x="3813120" y="4818240"/>
              <a:ext cx="260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1095480"/>
                  <a:tab algn="l" pos="2190600"/>
                  <a:tab algn="l" pos="3286080"/>
                  <a:tab algn="l" pos="4381560"/>
                  <a:tab algn="l" pos="5477040"/>
                  <a:tab algn="l" pos="6572160"/>
                  <a:tab algn="l" pos="7667640"/>
                  <a:tab algn="l" pos="8763120"/>
                  <a:tab algn="l" pos="9858240"/>
                  <a:tab algn="l" pos="10953720"/>
                </a:tabLst>
              </a:pPr>
              <a:r>
                <a:rPr b="0" lang="cs-CZ" sz="12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Text Box 56"/>
            <p:cNvSpPr/>
            <p:nvPr/>
          </p:nvSpPr>
          <p:spPr>
            <a:xfrm>
              <a:off x="2187720" y="4830840"/>
              <a:ext cx="258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1095480"/>
                  <a:tab algn="l" pos="2190600"/>
                  <a:tab algn="l" pos="3286080"/>
                  <a:tab algn="l" pos="4381560"/>
                  <a:tab algn="l" pos="5477040"/>
                  <a:tab algn="l" pos="6572160"/>
                  <a:tab algn="l" pos="7667640"/>
                  <a:tab algn="l" pos="8763120"/>
                  <a:tab algn="l" pos="9858240"/>
                  <a:tab algn="l" pos="10953720"/>
                </a:tabLst>
              </a:pPr>
              <a:r>
                <a:rPr b="0" lang="cs-CZ" sz="12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Text Box 57"/>
            <p:cNvSpPr/>
            <p:nvPr/>
          </p:nvSpPr>
          <p:spPr>
            <a:xfrm>
              <a:off x="1020600" y="4818240"/>
              <a:ext cx="255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1095480"/>
                  <a:tab algn="l" pos="2190600"/>
                  <a:tab algn="l" pos="3286080"/>
                  <a:tab algn="l" pos="4381560"/>
                  <a:tab algn="l" pos="5477040"/>
                  <a:tab algn="l" pos="6572160"/>
                  <a:tab algn="l" pos="7667640"/>
                  <a:tab algn="l" pos="8763120"/>
                  <a:tab algn="l" pos="9858240"/>
                  <a:tab algn="l" pos="10953720"/>
                </a:tabLst>
              </a:pPr>
              <a:r>
                <a:rPr b="0" lang="cs-CZ" sz="12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Text Box 58"/>
            <p:cNvSpPr/>
            <p:nvPr/>
          </p:nvSpPr>
          <p:spPr>
            <a:xfrm>
              <a:off x="108000" y="4835520"/>
              <a:ext cx="260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1095480"/>
                  <a:tab algn="l" pos="2190600"/>
                  <a:tab algn="l" pos="3286080"/>
                  <a:tab algn="l" pos="4381560"/>
                  <a:tab algn="l" pos="5477040"/>
                  <a:tab algn="l" pos="6572160"/>
                  <a:tab algn="l" pos="7667640"/>
                  <a:tab algn="l" pos="8763120"/>
                  <a:tab algn="l" pos="9858240"/>
                  <a:tab algn="l" pos="1095372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Text Box 59"/>
            <p:cNvSpPr/>
            <p:nvPr/>
          </p:nvSpPr>
          <p:spPr>
            <a:xfrm>
              <a:off x="1341360" y="4853160"/>
              <a:ext cx="258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1095480"/>
                  <a:tab algn="l" pos="2190600"/>
                  <a:tab algn="l" pos="3286080"/>
                  <a:tab algn="l" pos="4381560"/>
                  <a:tab algn="l" pos="5477040"/>
                  <a:tab algn="l" pos="6572160"/>
                  <a:tab algn="l" pos="7667640"/>
                  <a:tab algn="l" pos="8763120"/>
                  <a:tab algn="l" pos="9858240"/>
                  <a:tab algn="l" pos="1095372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Text Box 60"/>
            <p:cNvSpPr/>
            <p:nvPr/>
          </p:nvSpPr>
          <p:spPr>
            <a:xfrm>
              <a:off x="2968560" y="4830840"/>
              <a:ext cx="255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1095480"/>
                  <a:tab algn="l" pos="2190600"/>
                  <a:tab algn="l" pos="3286080"/>
                  <a:tab algn="l" pos="4381560"/>
                  <a:tab algn="l" pos="5477040"/>
                  <a:tab algn="l" pos="6572160"/>
                  <a:tab algn="l" pos="7667640"/>
                  <a:tab algn="l" pos="8763120"/>
                  <a:tab algn="l" pos="9858240"/>
                  <a:tab algn="l" pos="1095372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Text Box 61"/>
            <p:cNvSpPr/>
            <p:nvPr/>
          </p:nvSpPr>
          <p:spPr>
            <a:xfrm>
              <a:off x="2511360" y="4079880"/>
              <a:ext cx="260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1095480"/>
                  <a:tab algn="l" pos="2190600"/>
                  <a:tab algn="l" pos="3286080"/>
                  <a:tab algn="l" pos="4381560"/>
                  <a:tab algn="l" pos="5477040"/>
                  <a:tab algn="l" pos="6572160"/>
                  <a:tab algn="l" pos="7667640"/>
                  <a:tab algn="l" pos="8763120"/>
                  <a:tab algn="l" pos="9858240"/>
                  <a:tab algn="l" pos="1095372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Text Box 62"/>
            <p:cNvSpPr/>
            <p:nvPr/>
          </p:nvSpPr>
          <p:spPr>
            <a:xfrm>
              <a:off x="1814400" y="3668760"/>
              <a:ext cx="258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1095480"/>
                  <a:tab algn="l" pos="2190600"/>
                  <a:tab algn="l" pos="3286080"/>
                  <a:tab algn="l" pos="4381560"/>
                  <a:tab algn="l" pos="5477040"/>
                  <a:tab algn="l" pos="6572160"/>
                  <a:tab algn="l" pos="7667640"/>
                  <a:tab algn="l" pos="8763120"/>
                  <a:tab algn="l" pos="9858240"/>
                  <a:tab algn="l" pos="1095372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Text Box 63"/>
          <p:cNvSpPr/>
          <p:nvPr/>
        </p:nvSpPr>
        <p:spPr>
          <a:xfrm>
            <a:off x="3132000" y="2095560"/>
            <a:ext cx="4105440" cy="14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>
              <a:spcBef>
                <a:spcPts val="876"/>
              </a:spcBef>
              <a:buClr>
                <a:srgbClr val="000099"/>
              </a:buClr>
              <a:buSzPct val="70000"/>
              <a:buFont typeface="Wingdings" charset="2"/>
              <a:buChar char=""/>
              <a:tabLst>
                <a:tab algn="l" pos="1095480"/>
                <a:tab algn="l" pos="2190600"/>
                <a:tab algn="l" pos="3286080"/>
                <a:tab algn="l" pos="4381560"/>
                <a:tab algn="l" pos="5477040"/>
                <a:tab algn="l" pos="6572160"/>
                <a:tab algn="l" pos="7667640"/>
                <a:tab algn="l" pos="8763120"/>
                <a:tab algn="l" pos="9858240"/>
                <a:tab algn="l" pos="1095372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divisions are made on the basis of one attribu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spcBef>
                <a:spcPts val="876"/>
              </a:spcBef>
              <a:buClr>
                <a:srgbClr val="000099"/>
              </a:buClr>
              <a:buSzPct val="70000"/>
              <a:buFont typeface="Wingdings" charset="2"/>
              <a:buChar char=""/>
              <a:tabLst>
                <a:tab algn="l" pos="1095480"/>
                <a:tab algn="l" pos="2190600"/>
                <a:tab algn="l" pos="3286080"/>
                <a:tab algn="l" pos="4381560"/>
                <a:tab algn="l" pos="5477040"/>
                <a:tab algn="l" pos="6572160"/>
                <a:tab algn="l" pos="7667640"/>
                <a:tab algn="l" pos="8763120"/>
                <a:tab algn="l" pos="9858240"/>
                <a:tab algn="l" pos="109537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irst of all, the species that is maximally associated to the other species is selected; the groups are divided according to presenc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/absence of this spec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64"/>
          <p:cNvSpPr/>
          <p:nvPr/>
        </p:nvSpPr>
        <p:spPr>
          <a:xfrm>
            <a:off x="5940360" y="3573360"/>
            <a:ext cx="302436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1095480"/>
                <a:tab algn="l" pos="2190600"/>
                <a:tab algn="l" pos="3286080"/>
                <a:tab algn="l" pos="4381560"/>
                <a:tab algn="l" pos="5477040"/>
                <a:tab algn="l" pos="6572160"/>
                <a:tab algn="l" pos="7667640"/>
                <a:tab algn="l" pos="8763120"/>
                <a:tab algn="l" pos="9858240"/>
                <a:tab algn="l" pos="1095372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lythetic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3" name="AutoShape 65"/>
          <p:cNvCxnSpPr>
            <a:stCxn id="153" idx="3"/>
            <a:endCxn id="212" idx="0"/>
          </p:cNvCxnSpPr>
          <p:nvPr/>
        </p:nvCxnSpPr>
        <p:spPr>
          <a:xfrm>
            <a:off x="5580000" y="1641600"/>
            <a:ext cx="1874160" cy="1932480"/>
          </a:xfrm>
          <a:prstGeom prst="bentConnector2">
            <a:avLst/>
          </a:prstGeom>
          <a:ln w="15840">
            <a:solidFill>
              <a:srgbClr val="000000"/>
            </a:solidFill>
            <a:miter/>
          </a:ln>
        </p:spPr>
      </p:cxnSp>
      <p:sp>
        <p:nvSpPr>
          <p:cNvPr id="214" name="Text Box 66"/>
          <p:cNvSpPr/>
          <p:nvPr/>
        </p:nvSpPr>
        <p:spPr>
          <a:xfrm>
            <a:off x="5435640" y="5013360"/>
            <a:ext cx="3600360" cy="13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>
              <a:spcBef>
                <a:spcPts val="876"/>
              </a:spcBef>
              <a:buClr>
                <a:srgbClr val="000099"/>
              </a:buClr>
              <a:buSzPct val="70000"/>
              <a:buFont typeface="Wingdings" charset="2"/>
              <a:buChar char=""/>
              <a:tabLst>
                <a:tab algn="l" pos="1095480"/>
                <a:tab algn="l" pos="2190600"/>
                <a:tab algn="l" pos="3286080"/>
                <a:tab algn="l" pos="4381560"/>
                <a:tab algn="l" pos="5477040"/>
                <a:tab algn="l" pos="6572160"/>
                <a:tab algn="l" pos="7667640"/>
                <a:tab algn="l" pos="8763120"/>
                <a:tab algn="l" pos="9858240"/>
                <a:tab algn="l" pos="1095372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group divisions are based on all spec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spcBef>
                <a:spcPts val="876"/>
              </a:spcBef>
              <a:buClr>
                <a:srgbClr val="000099"/>
              </a:buClr>
              <a:buSzPct val="70000"/>
              <a:buFont typeface="Wingdings" charset="2"/>
              <a:buChar char=""/>
              <a:tabLst>
                <a:tab algn="l" pos="1095480"/>
                <a:tab algn="l" pos="2190600"/>
                <a:tab algn="l" pos="3286080"/>
                <a:tab algn="l" pos="4381560"/>
                <a:tab algn="l" pos="5477040"/>
                <a:tab algn="l" pos="6572160"/>
                <a:tab algn="l" pos="7667640"/>
                <a:tab algn="l" pos="8763120"/>
                <a:tab algn="l" pos="9858240"/>
                <a:tab algn="l" pos="109537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orks also with abundance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spcBef>
                <a:spcPts val="876"/>
              </a:spcBef>
              <a:buClr>
                <a:srgbClr val="000099"/>
              </a:buClr>
              <a:buSzPct val="70000"/>
              <a:buFont typeface="Wingdings" charset="2"/>
              <a:buChar char=""/>
              <a:tabLst>
                <a:tab algn="l" pos="1095480"/>
                <a:tab algn="l" pos="2190600"/>
                <a:tab algn="l" pos="3286080"/>
                <a:tab algn="l" pos="4381560"/>
                <a:tab algn="l" pos="5477040"/>
                <a:tab algn="l" pos="6572160"/>
                <a:tab algn="l" pos="7667640"/>
                <a:tab algn="l" pos="8763120"/>
                <a:tab algn="l" pos="9858240"/>
                <a:tab algn="l" pos="1095372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 is developed a qualitative equivalent of species abundance, the so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-called pseudo-spec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67"/>
          <p:cNvSpPr/>
          <p:nvPr/>
        </p:nvSpPr>
        <p:spPr>
          <a:xfrm>
            <a:off x="5940360" y="4149720"/>
            <a:ext cx="3024360" cy="7038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1095480"/>
                <a:tab algn="l" pos="2190600"/>
                <a:tab algn="l" pos="3286080"/>
                <a:tab algn="l" pos="4381560"/>
                <a:tab algn="l" pos="5477040"/>
                <a:tab algn="l" pos="6572160"/>
                <a:tab algn="l" pos="7667640"/>
                <a:tab algn="l" pos="8763120"/>
                <a:tab algn="l" pos="9858240"/>
                <a:tab algn="l" pos="1095372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two way indicator species analy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6" name="AutoShape 68"/>
          <p:cNvCxnSpPr>
            <a:stCxn id="212" idx="2"/>
            <a:endCxn id="215" idx="0"/>
          </p:cNvCxnSpPr>
          <p:nvPr/>
        </p:nvCxnSpPr>
        <p:spPr>
          <a:xfrm flipH="1">
            <a:off x="7452720" y="3979800"/>
            <a:ext cx="1080" cy="17064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62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e5c00"/>
                </a:solidFill>
                <a:latin typeface="Arial"/>
              </a:rPr>
              <a:t>Hierarchical divisive clustering</a:t>
            </a:r>
            <a:endParaRPr b="0" lang="en-US" sz="2800" spc="-1" strike="noStrike">
              <a:solidFill>
                <a:srgbClr val="2e5c00"/>
              </a:solidFill>
              <a:latin typeface="Arial"/>
            </a:endParaRPr>
          </a:p>
        </p:txBody>
      </p:sp>
      <p:sp>
        <p:nvSpPr>
          <p:cNvPr id="218" name="Text Box 4"/>
          <p:cNvSpPr/>
          <p:nvPr/>
        </p:nvSpPr>
        <p:spPr>
          <a:xfrm>
            <a:off x="179280" y="1628640"/>
            <a:ext cx="1584360" cy="703800"/>
          </a:xfrm>
          <a:prstGeom prst="rect">
            <a:avLst/>
          </a:prstGeom>
          <a:solidFill>
            <a:srgbClr val="ffff6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1095480"/>
                <a:tab algn="l" pos="2190600"/>
                <a:tab algn="l" pos="3286080"/>
                <a:tab algn="l" pos="4381560"/>
                <a:tab algn="l" pos="5477040"/>
                <a:tab algn="l" pos="6572160"/>
                <a:tab algn="l" pos="7667640"/>
                <a:tab algn="l" pos="8763120"/>
                <a:tab algn="l" pos="9858240"/>
                <a:tab algn="l" pos="1095372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hierarchical techniq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5"/>
          <p:cNvSpPr/>
          <p:nvPr/>
        </p:nvSpPr>
        <p:spPr>
          <a:xfrm>
            <a:off x="2050920" y="1628640"/>
            <a:ext cx="1441440" cy="703800"/>
          </a:xfrm>
          <a:prstGeom prst="rect">
            <a:avLst/>
          </a:prstGeom>
          <a:solidFill>
            <a:srgbClr val="7dff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1095480"/>
                <a:tab algn="l" pos="2190600"/>
                <a:tab algn="l" pos="3286080"/>
                <a:tab algn="l" pos="4381560"/>
                <a:tab algn="l" pos="5477040"/>
                <a:tab algn="l" pos="6572160"/>
                <a:tab algn="l" pos="7667640"/>
                <a:tab algn="l" pos="8763120"/>
                <a:tab algn="l" pos="9858240"/>
                <a:tab algn="l" pos="1095372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ivisive clust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0" name="AutoShape 6"/>
          <p:cNvCxnSpPr>
            <a:stCxn id="218" idx="3"/>
            <a:endCxn id="219" idx="1"/>
          </p:cNvCxnSpPr>
          <p:nvPr/>
        </p:nvCxnSpPr>
        <p:spPr>
          <a:xfrm>
            <a:off x="1763640" y="1983960"/>
            <a:ext cx="288000" cy="108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sp>
        <p:nvSpPr>
          <p:cNvPr id="221" name="Text Box 7"/>
          <p:cNvSpPr/>
          <p:nvPr/>
        </p:nvSpPr>
        <p:spPr>
          <a:xfrm>
            <a:off x="3995640" y="1616040"/>
            <a:ext cx="49672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>
              <a:spcBef>
                <a:spcPts val="876"/>
              </a:spcBef>
              <a:buClr>
                <a:srgbClr val="000099"/>
              </a:buClr>
              <a:buSzPct val="70000"/>
              <a:buFont typeface="Wingdings" charset="2"/>
              <a:buChar char=""/>
              <a:tabLst>
                <a:tab algn="l" pos="1095480"/>
                <a:tab algn="l" pos="2190600"/>
                <a:tab algn="l" pos="3286080"/>
                <a:tab algn="l" pos="4381560"/>
                <a:tab algn="l" pos="5477040"/>
                <a:tab algn="l" pos="6572160"/>
                <a:tab algn="l" pos="7667640"/>
                <a:tab algn="l" pos="8763120"/>
                <a:tab algn="l" pos="9858240"/>
                <a:tab algn="l" pos="1095372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starts with all objects as a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spcBef>
                <a:spcPts val="876"/>
              </a:spcBef>
              <a:buClr>
                <a:srgbClr val="000099"/>
              </a:buClr>
              <a:buSzPct val="70000"/>
              <a:buFont typeface="Wingdings" charset="2"/>
              <a:buChar char=""/>
              <a:tabLst>
                <a:tab algn="l" pos="1095480"/>
                <a:tab algn="l" pos="2190600"/>
                <a:tab algn="l" pos="3286080"/>
                <a:tab algn="l" pos="4381560"/>
                <a:tab algn="l" pos="5477040"/>
                <a:tab algn="l" pos="6572160"/>
                <a:tab algn="l" pos="7667640"/>
                <a:tab algn="l" pos="8763120"/>
                <a:tab algn="l" pos="9858240"/>
                <a:tab algn="l" pos="1095372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the group is divided into two smaller groups,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8"/>
          <p:cNvSpPr/>
          <p:nvPr/>
        </p:nvSpPr>
        <p:spPr>
          <a:xfrm>
            <a:off x="179280" y="2637000"/>
            <a:ext cx="4176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1095480"/>
                <a:tab algn="l" pos="2190600"/>
                <a:tab algn="l" pos="3286080"/>
                <a:tab algn="l" pos="4381560"/>
                <a:tab algn="l" pos="5477040"/>
                <a:tab algn="l" pos="6572160"/>
                <a:tab algn="l" pos="7667640"/>
                <a:tab algn="l" pos="8763120"/>
                <a:tab algn="l" pos="9858240"/>
                <a:tab algn="l" pos="1095372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onothetic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9"/>
          <p:cNvSpPr/>
          <p:nvPr/>
        </p:nvSpPr>
        <p:spPr>
          <a:xfrm>
            <a:off x="4643280" y="2637000"/>
            <a:ext cx="4176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1095480"/>
                <a:tab algn="l" pos="2190600"/>
                <a:tab algn="l" pos="3286080"/>
                <a:tab algn="l" pos="4381560"/>
                <a:tab algn="l" pos="5477040"/>
                <a:tab algn="l" pos="6572160"/>
                <a:tab algn="l" pos="7667640"/>
                <a:tab algn="l" pos="8763120"/>
                <a:tab algn="l" pos="9858240"/>
                <a:tab algn="l" pos="1095372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lythetic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4" name="AutoShape 10"/>
          <p:cNvCxnSpPr>
            <a:stCxn id="219" idx="2"/>
            <a:endCxn id="222" idx="0"/>
          </p:cNvCxnSpPr>
          <p:nvPr/>
        </p:nvCxnSpPr>
        <p:spPr>
          <a:xfrm rot="5400000">
            <a:off x="2370960" y="2236680"/>
            <a:ext cx="297720" cy="504000"/>
          </a:xfrm>
          <a:prstGeom prst="bentConnector3">
            <a:avLst>
              <a:gd name="adj1" fmla="val 49636"/>
            </a:avLst>
          </a:prstGeom>
          <a:ln w="15840">
            <a:solidFill>
              <a:srgbClr val="000000"/>
            </a:solidFill>
            <a:miter/>
          </a:ln>
        </p:spPr>
      </p:cxnSp>
      <p:cxnSp>
        <p:nvCxnSpPr>
          <p:cNvPr id="225" name="AutoShape 11"/>
          <p:cNvCxnSpPr>
            <a:stCxn id="219" idx="2"/>
            <a:endCxn id="223" idx="0"/>
          </p:cNvCxnSpPr>
          <p:nvPr/>
        </p:nvCxnSpPr>
        <p:spPr>
          <a:xfrm flipH="1" rot="16200000">
            <a:off x="4602600" y="507600"/>
            <a:ext cx="297720" cy="3961800"/>
          </a:xfrm>
          <a:prstGeom prst="bentConnector3">
            <a:avLst>
              <a:gd name="adj1" fmla="val 49636"/>
            </a:avLst>
          </a:prstGeom>
          <a:ln w="15840">
            <a:solidFill>
              <a:srgbClr val="000000"/>
            </a:solidFill>
            <a:miter/>
          </a:ln>
        </p:spPr>
      </p:cxnSp>
      <p:sp>
        <p:nvSpPr>
          <p:cNvPr id="226" name="AutoShape 12"/>
          <p:cNvSpPr/>
          <p:nvPr/>
        </p:nvSpPr>
        <p:spPr>
          <a:xfrm>
            <a:off x="108000" y="3860640"/>
            <a:ext cx="287280" cy="289080"/>
          </a:xfrm>
          <a:prstGeom prst="plus">
            <a:avLst>
              <a:gd name="adj" fmla="val 35398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240" bIns="392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13"/>
          <p:cNvSpPr/>
          <p:nvPr/>
        </p:nvSpPr>
        <p:spPr>
          <a:xfrm>
            <a:off x="108000" y="4940280"/>
            <a:ext cx="287280" cy="71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AutoShape 14"/>
          <p:cNvSpPr/>
          <p:nvPr/>
        </p:nvSpPr>
        <p:spPr>
          <a:xfrm>
            <a:off x="4572000" y="3862440"/>
            <a:ext cx="287280" cy="288720"/>
          </a:xfrm>
          <a:prstGeom prst="plus">
            <a:avLst>
              <a:gd name="adj" fmla="val 35398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15"/>
          <p:cNvSpPr/>
          <p:nvPr/>
        </p:nvSpPr>
        <p:spPr>
          <a:xfrm>
            <a:off x="4572000" y="5013360"/>
            <a:ext cx="287280" cy="71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16"/>
          <p:cNvSpPr/>
          <p:nvPr/>
        </p:nvSpPr>
        <p:spPr>
          <a:xfrm>
            <a:off x="466560" y="3859200"/>
            <a:ext cx="3889440" cy="865080"/>
          </a:xfrm>
          <a:prstGeom prst="rect">
            <a:avLst/>
          </a:prstGeom>
          <a:solidFill>
            <a:srgbClr val="b1ffb1"/>
          </a:solidFill>
          <a:ln w="19080">
            <a:solidFill>
              <a:srgbClr val="00c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17"/>
          <p:cNvSpPr/>
          <p:nvPr/>
        </p:nvSpPr>
        <p:spPr>
          <a:xfrm>
            <a:off x="466560" y="4869000"/>
            <a:ext cx="3888000" cy="1584360"/>
          </a:xfrm>
          <a:prstGeom prst="rect">
            <a:avLst/>
          </a:prstGeom>
          <a:solidFill>
            <a:srgbClr val="ffcc99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18"/>
          <p:cNvSpPr/>
          <p:nvPr/>
        </p:nvSpPr>
        <p:spPr>
          <a:xfrm>
            <a:off x="4930920" y="3860640"/>
            <a:ext cx="3889080" cy="863640"/>
          </a:xfrm>
          <a:prstGeom prst="rect">
            <a:avLst/>
          </a:prstGeom>
          <a:solidFill>
            <a:srgbClr val="b1ffb1"/>
          </a:solidFill>
          <a:ln w="19080">
            <a:solidFill>
              <a:srgbClr val="00c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19"/>
          <p:cNvSpPr/>
          <p:nvPr/>
        </p:nvSpPr>
        <p:spPr>
          <a:xfrm>
            <a:off x="4932360" y="4869000"/>
            <a:ext cx="3887640" cy="1584360"/>
          </a:xfrm>
          <a:prstGeom prst="rect">
            <a:avLst/>
          </a:prstGeom>
          <a:solidFill>
            <a:srgbClr val="ffcc99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20"/>
          <p:cNvSpPr/>
          <p:nvPr/>
        </p:nvSpPr>
        <p:spPr>
          <a:xfrm>
            <a:off x="5003640" y="5046840"/>
            <a:ext cx="374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095480"/>
                <a:tab algn="l" pos="2190600"/>
                <a:tab algn="l" pos="3286080"/>
                <a:tab algn="l" pos="4381560"/>
                <a:tab algn="l" pos="5477040"/>
                <a:tab algn="l" pos="6572160"/>
                <a:tab algn="l" pos="7667640"/>
                <a:tab algn="l" pos="8763120"/>
                <a:tab algn="l" pos="9858240"/>
                <a:tab algn="l" pos="1095372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it does not provide a simple key suitable for field application, which would allow new samples to be assigned to their appropriate 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21"/>
          <p:cNvSpPr/>
          <p:nvPr/>
        </p:nvSpPr>
        <p:spPr>
          <a:xfrm>
            <a:off x="179280" y="3284640"/>
            <a:ext cx="4176720" cy="398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1095480"/>
                <a:tab algn="l" pos="2190600"/>
                <a:tab algn="l" pos="3286080"/>
                <a:tab algn="l" pos="4381560"/>
                <a:tab algn="l" pos="5477040"/>
                <a:tab algn="l" pos="6572160"/>
                <a:tab algn="l" pos="7667640"/>
                <a:tab algn="l" pos="8763120"/>
                <a:tab algn="l" pos="9858240"/>
                <a:tab algn="l" pos="1095372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ssociation analy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22"/>
          <p:cNvSpPr/>
          <p:nvPr/>
        </p:nvSpPr>
        <p:spPr>
          <a:xfrm>
            <a:off x="4643280" y="3284640"/>
            <a:ext cx="4176720" cy="398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1095480"/>
                <a:tab algn="l" pos="2190600"/>
                <a:tab algn="l" pos="3286080"/>
                <a:tab algn="l" pos="4381560"/>
                <a:tab algn="l" pos="5477040"/>
                <a:tab algn="l" pos="6572160"/>
                <a:tab algn="l" pos="7667640"/>
                <a:tab algn="l" pos="8763120"/>
                <a:tab algn="l" pos="9858240"/>
                <a:tab algn="l" pos="1095372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two way indicator species analy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23"/>
          <p:cNvSpPr/>
          <p:nvPr/>
        </p:nvSpPr>
        <p:spPr>
          <a:xfrm>
            <a:off x="468360" y="3808440"/>
            <a:ext cx="388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095480"/>
                <a:tab algn="l" pos="2190600"/>
                <a:tab algn="l" pos="3286080"/>
                <a:tab algn="l" pos="4381560"/>
                <a:tab algn="l" pos="5477040"/>
                <a:tab algn="l" pos="6572160"/>
                <a:tab algn="l" pos="7667640"/>
                <a:tab algn="l" pos="8763120"/>
                <a:tab algn="l" pos="9858240"/>
                <a:tab algn="l" pos="1095372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ovide a simple binary key which can be used in the field for classifying further sam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24"/>
          <p:cNvSpPr/>
          <p:nvPr/>
        </p:nvSpPr>
        <p:spPr>
          <a:xfrm>
            <a:off x="539640" y="5219640"/>
            <a:ext cx="374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095480"/>
                <a:tab algn="l" pos="2190600"/>
                <a:tab algn="l" pos="3286080"/>
                <a:tab algn="l" pos="4381560"/>
                <a:tab algn="l" pos="5477040"/>
                <a:tab algn="l" pos="6572160"/>
                <a:tab algn="l" pos="7667640"/>
                <a:tab algn="l" pos="8763120"/>
                <a:tab algn="l" pos="9858240"/>
                <a:tab algn="l" pos="1095372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btained groups - less homogenous than groups resulting from polythetic metho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25"/>
          <p:cNvSpPr/>
          <p:nvPr/>
        </p:nvSpPr>
        <p:spPr>
          <a:xfrm>
            <a:off x="4932360" y="3817800"/>
            <a:ext cx="388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095480"/>
                <a:tab algn="l" pos="2190600"/>
                <a:tab algn="l" pos="3286080"/>
                <a:tab algn="l" pos="4381560"/>
                <a:tab algn="l" pos="5477040"/>
                <a:tab algn="l" pos="6572160"/>
                <a:tab algn="l" pos="7667640"/>
                <a:tab algn="l" pos="8763120"/>
                <a:tab algn="l" pos="9858240"/>
                <a:tab algn="l" pos="1095372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btained groups are more homogenous than groups resulting from monothetic metho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26"/>
          <p:cNvSpPr/>
          <p:nvPr/>
        </p:nvSpPr>
        <p:spPr>
          <a:xfrm>
            <a:off x="539640" y="4869000"/>
            <a:ext cx="374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095480"/>
                <a:tab algn="l" pos="2190600"/>
                <a:tab algn="l" pos="3286080"/>
                <a:tab algn="l" pos="4381560"/>
                <a:tab algn="l" pos="5477040"/>
                <a:tab algn="l" pos="6572160"/>
                <a:tab algn="l" pos="7667640"/>
                <a:tab algn="l" pos="8763120"/>
                <a:tab algn="l" pos="9858240"/>
                <a:tab algn="l" pos="1095372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nly for pres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bsence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27"/>
          <p:cNvSpPr/>
          <p:nvPr/>
        </p:nvSpPr>
        <p:spPr>
          <a:xfrm>
            <a:off x="539640" y="6086520"/>
            <a:ext cx="374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095480"/>
                <a:tab algn="l" pos="2190600"/>
                <a:tab algn="l" pos="3286080"/>
                <a:tab algn="l" pos="4381560"/>
                <a:tab algn="l" pos="5477040"/>
                <a:tab algn="l" pos="6572160"/>
                <a:tab algn="l" pos="7667640"/>
                <a:tab algn="l" pos="8763120"/>
                <a:tab algn="l" pos="9858240"/>
                <a:tab algn="l" pos="1095372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final classification - not very robu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2" name="AutoShape 28"/>
          <p:cNvCxnSpPr>
            <a:stCxn id="222" idx="2"/>
            <a:endCxn id="235" idx="0"/>
          </p:cNvCxnSpPr>
          <p:nvPr/>
        </p:nvCxnSpPr>
        <p:spPr>
          <a:xfrm flipH="1">
            <a:off x="2267640" y="3042720"/>
            <a:ext cx="1080" cy="24228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cxnSp>
        <p:nvCxnSpPr>
          <p:cNvPr id="243" name="AutoShape 29"/>
          <p:cNvCxnSpPr>
            <a:stCxn id="223" idx="2"/>
            <a:endCxn id="236" idx="0"/>
          </p:cNvCxnSpPr>
          <p:nvPr/>
        </p:nvCxnSpPr>
        <p:spPr>
          <a:xfrm flipH="1">
            <a:off x="6732000" y="3042720"/>
            <a:ext cx="1080" cy="24228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62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e5c00"/>
                </a:solidFill>
                <a:latin typeface="Arial"/>
              </a:rPr>
              <a:t>Hierarchical clustering</a:t>
            </a:r>
            <a:endParaRPr b="0" lang="en-US" sz="2800" spc="-1" strike="noStrike">
              <a:solidFill>
                <a:srgbClr val="2e5c00"/>
              </a:solidFill>
              <a:latin typeface="Arial"/>
            </a:endParaRPr>
          </a:p>
        </p:txBody>
      </p:sp>
      <p:sp>
        <p:nvSpPr>
          <p:cNvPr id="245" name="Text Box 4"/>
          <p:cNvSpPr/>
          <p:nvPr/>
        </p:nvSpPr>
        <p:spPr>
          <a:xfrm>
            <a:off x="2916360" y="1484280"/>
            <a:ext cx="3384360" cy="398880"/>
          </a:xfrm>
          <a:prstGeom prst="rect">
            <a:avLst/>
          </a:prstGeom>
          <a:solidFill>
            <a:srgbClr val="ffff6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1095480"/>
                <a:tab algn="l" pos="2190600"/>
                <a:tab algn="l" pos="3286080"/>
                <a:tab algn="l" pos="4381560"/>
                <a:tab algn="l" pos="5477040"/>
                <a:tab algn="l" pos="6572160"/>
                <a:tab algn="l" pos="7667640"/>
                <a:tab algn="l" pos="8763120"/>
                <a:tab algn="l" pos="9858240"/>
                <a:tab algn="l" pos="1095372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hierarchical techniq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5"/>
          <p:cNvSpPr/>
          <p:nvPr/>
        </p:nvSpPr>
        <p:spPr>
          <a:xfrm>
            <a:off x="4716360" y="2133720"/>
            <a:ext cx="4319640" cy="398880"/>
          </a:xfrm>
          <a:prstGeom prst="rect">
            <a:avLst/>
          </a:prstGeom>
          <a:solidFill>
            <a:srgbClr val="7dff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1095480"/>
                <a:tab algn="l" pos="2190600"/>
                <a:tab algn="l" pos="3286080"/>
                <a:tab algn="l" pos="4381560"/>
                <a:tab algn="l" pos="5477040"/>
                <a:tab algn="l" pos="6572160"/>
                <a:tab algn="l" pos="7667640"/>
                <a:tab algn="l" pos="8763120"/>
                <a:tab algn="l" pos="9858240"/>
                <a:tab algn="l" pos="1095372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ivisive clust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7" name="AutoShape 6"/>
          <p:cNvCxnSpPr>
            <a:stCxn id="245" idx="2"/>
            <a:endCxn id="246" idx="0"/>
          </p:cNvCxnSpPr>
          <p:nvPr/>
        </p:nvCxnSpPr>
        <p:spPr>
          <a:xfrm flipH="1" rot="16200000">
            <a:off x="5621040" y="877320"/>
            <a:ext cx="243720" cy="2269440"/>
          </a:xfrm>
          <a:prstGeom prst="bentConnector3">
            <a:avLst>
              <a:gd name="adj1" fmla="val 49556"/>
            </a:avLst>
          </a:prstGeom>
          <a:ln w="15840">
            <a:solidFill>
              <a:srgbClr val="000000"/>
            </a:solidFill>
            <a:miter/>
          </a:ln>
        </p:spPr>
      </p:cxnSp>
      <p:sp>
        <p:nvSpPr>
          <p:cNvPr id="248" name="Text Box 7"/>
          <p:cNvSpPr/>
          <p:nvPr/>
        </p:nvSpPr>
        <p:spPr>
          <a:xfrm>
            <a:off x="108000" y="2133720"/>
            <a:ext cx="4319640" cy="398880"/>
          </a:xfrm>
          <a:prstGeom prst="rect">
            <a:avLst/>
          </a:prstGeom>
          <a:solidFill>
            <a:srgbClr val="7dff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1095480"/>
                <a:tab algn="l" pos="2190600"/>
                <a:tab algn="l" pos="3286080"/>
                <a:tab algn="l" pos="4381560"/>
                <a:tab algn="l" pos="5477040"/>
                <a:tab algn="l" pos="6572160"/>
                <a:tab algn="l" pos="7667640"/>
                <a:tab algn="l" pos="8763120"/>
                <a:tab algn="l" pos="9858240"/>
                <a:tab algn="l" pos="1095372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gglomerative clust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9" name="AutoShape 8"/>
          <p:cNvCxnSpPr>
            <a:stCxn id="245" idx="2"/>
            <a:endCxn id="248" idx="0"/>
          </p:cNvCxnSpPr>
          <p:nvPr/>
        </p:nvCxnSpPr>
        <p:spPr>
          <a:xfrm rot="5400000">
            <a:off x="3316680" y="842040"/>
            <a:ext cx="243720" cy="2340360"/>
          </a:xfrm>
          <a:prstGeom prst="bentConnector3">
            <a:avLst>
              <a:gd name="adj1" fmla="val 49556"/>
            </a:avLst>
          </a:prstGeom>
          <a:ln w="15840">
            <a:solidFill>
              <a:srgbClr val="000000"/>
            </a:solidFill>
            <a:miter/>
          </a:ln>
        </p:spPr>
      </p:cxnSp>
      <p:sp>
        <p:nvSpPr>
          <p:cNvPr id="250" name="Rectangle 9"/>
          <p:cNvSpPr/>
          <p:nvPr/>
        </p:nvSpPr>
        <p:spPr>
          <a:xfrm>
            <a:off x="539640" y="2708280"/>
            <a:ext cx="3889440" cy="1297080"/>
          </a:xfrm>
          <a:prstGeom prst="rect">
            <a:avLst/>
          </a:prstGeom>
          <a:solidFill>
            <a:srgbClr val="b1ffb1"/>
          </a:solidFill>
          <a:ln w="19080">
            <a:solidFill>
              <a:srgbClr val="00c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AutoShape 10"/>
          <p:cNvSpPr/>
          <p:nvPr/>
        </p:nvSpPr>
        <p:spPr>
          <a:xfrm>
            <a:off x="108000" y="2851200"/>
            <a:ext cx="287280" cy="288720"/>
          </a:xfrm>
          <a:prstGeom prst="plus">
            <a:avLst>
              <a:gd name="adj" fmla="val 35398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11"/>
          <p:cNvSpPr/>
          <p:nvPr/>
        </p:nvSpPr>
        <p:spPr>
          <a:xfrm>
            <a:off x="539640" y="4149720"/>
            <a:ext cx="3888000" cy="2232000"/>
          </a:xfrm>
          <a:prstGeom prst="rect">
            <a:avLst/>
          </a:prstGeom>
          <a:solidFill>
            <a:srgbClr val="ffcc99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12"/>
          <p:cNvSpPr/>
          <p:nvPr/>
        </p:nvSpPr>
        <p:spPr>
          <a:xfrm>
            <a:off x="108000" y="4222800"/>
            <a:ext cx="287280" cy="71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13"/>
          <p:cNvSpPr/>
          <p:nvPr/>
        </p:nvSpPr>
        <p:spPr>
          <a:xfrm>
            <a:off x="611280" y="4151160"/>
            <a:ext cx="3744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095480"/>
                <a:tab algn="l" pos="2190600"/>
                <a:tab algn="l" pos="3286080"/>
                <a:tab algn="l" pos="4381560"/>
                <a:tab algn="l" pos="5477040"/>
                <a:tab algn="l" pos="6572160"/>
                <a:tab algn="l" pos="7667640"/>
                <a:tab algn="l" pos="8763120"/>
                <a:tab algn="l" pos="9858240"/>
                <a:tab algn="l" pos="1095372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here is no „correct“ joining r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95480"/>
                <a:tab algn="l" pos="2190600"/>
                <a:tab algn="l" pos="3286080"/>
                <a:tab algn="l" pos="4381560"/>
                <a:tab algn="l" pos="5477040"/>
                <a:tab algn="l" pos="6572160"/>
                <a:tab algn="l" pos="7667640"/>
                <a:tab algn="l" pos="8763120"/>
                <a:tab algn="l" pos="9858240"/>
                <a:tab algn="l" pos="1095372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he results change dramatically if one sel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1095480"/>
                <a:tab algn="l" pos="2190600"/>
                <a:tab algn="l" pos="3286080"/>
                <a:tab algn="l" pos="4381560"/>
                <a:tab algn="l" pos="5477040"/>
                <a:tab algn="l" pos="6572160"/>
                <a:tab algn="l" pos="7667640"/>
                <a:tab algn="l" pos="8763120"/>
                <a:tab algn="l" pos="9858240"/>
                <a:tab algn="l" pos="1095372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ifferent joining ru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1095480"/>
                <a:tab algn="l" pos="2190600"/>
                <a:tab algn="l" pos="3286080"/>
                <a:tab algn="l" pos="4381560"/>
                <a:tab algn="l" pos="5477040"/>
                <a:tab algn="l" pos="6572160"/>
                <a:tab algn="l" pos="7667640"/>
                <a:tab algn="l" pos="8763120"/>
                <a:tab algn="l" pos="9858240"/>
                <a:tab algn="l" pos="1095372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ifferent distance measu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14"/>
          <p:cNvSpPr/>
          <p:nvPr/>
        </p:nvSpPr>
        <p:spPr>
          <a:xfrm>
            <a:off x="5118120" y="2708280"/>
            <a:ext cx="3889440" cy="1441440"/>
          </a:xfrm>
          <a:prstGeom prst="rect">
            <a:avLst/>
          </a:prstGeom>
          <a:solidFill>
            <a:srgbClr val="b1ffb1"/>
          </a:solidFill>
          <a:ln w="19080">
            <a:solidFill>
              <a:srgbClr val="00c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AutoShape 15"/>
          <p:cNvSpPr/>
          <p:nvPr/>
        </p:nvSpPr>
        <p:spPr>
          <a:xfrm>
            <a:off x="4686480" y="2851200"/>
            <a:ext cx="287280" cy="288720"/>
          </a:xfrm>
          <a:prstGeom prst="plus">
            <a:avLst>
              <a:gd name="adj" fmla="val 35398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16"/>
          <p:cNvSpPr/>
          <p:nvPr/>
        </p:nvSpPr>
        <p:spPr>
          <a:xfrm>
            <a:off x="5129280" y="4292640"/>
            <a:ext cx="3887640" cy="2089080"/>
          </a:xfrm>
          <a:prstGeom prst="rect">
            <a:avLst/>
          </a:prstGeom>
          <a:solidFill>
            <a:srgbClr val="ffcc99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17"/>
          <p:cNvSpPr/>
          <p:nvPr/>
        </p:nvSpPr>
        <p:spPr>
          <a:xfrm>
            <a:off x="4683240" y="4508640"/>
            <a:ext cx="287280" cy="71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18"/>
          <p:cNvSpPr/>
          <p:nvPr/>
        </p:nvSpPr>
        <p:spPr>
          <a:xfrm>
            <a:off x="5113440" y="4357800"/>
            <a:ext cx="39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1095480"/>
                <a:tab algn="l" pos="2190600"/>
                <a:tab algn="l" pos="3286080"/>
                <a:tab algn="l" pos="4381560"/>
                <a:tab algn="l" pos="5477040"/>
                <a:tab algn="l" pos="6572160"/>
                <a:tab algn="l" pos="7667640"/>
                <a:tab algn="l" pos="8763120"/>
                <a:tab algn="l" pos="9858240"/>
                <a:tab algn="l" pos="1095372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onothetic method is not very robu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19"/>
          <p:cNvSpPr/>
          <p:nvPr/>
        </p:nvSpPr>
        <p:spPr>
          <a:xfrm>
            <a:off x="496800" y="2708280"/>
            <a:ext cx="403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095480"/>
                <a:tab algn="l" pos="2190600"/>
                <a:tab algn="l" pos="3286080"/>
                <a:tab algn="l" pos="4381560"/>
                <a:tab algn="l" pos="5477040"/>
                <a:tab algn="l" pos="6572160"/>
                <a:tab algn="l" pos="7667640"/>
                <a:tab algn="l" pos="8763120"/>
                <a:tab algn="l" pos="9858240"/>
                <a:tab algn="l" pos="1095372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clustering is intuitive and superficially simple =&gt; it is the most popular classification 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20"/>
          <p:cNvSpPr/>
          <p:nvPr/>
        </p:nvSpPr>
        <p:spPr>
          <a:xfrm>
            <a:off x="611280" y="5662440"/>
            <a:ext cx="37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095480"/>
                <a:tab algn="l" pos="2190600"/>
                <a:tab algn="l" pos="3286080"/>
                <a:tab algn="l" pos="4381560"/>
                <a:tab algn="l" pos="5477040"/>
                <a:tab algn="l" pos="6572160"/>
                <a:tab algn="l" pos="7667640"/>
                <a:tab algn="l" pos="8763120"/>
                <a:tab algn="l" pos="9858240"/>
                <a:tab algn="l" pos="1095372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glomerative clustering is inefficient for very large data s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21"/>
          <p:cNvSpPr/>
          <p:nvPr/>
        </p:nvSpPr>
        <p:spPr>
          <a:xfrm>
            <a:off x="5148360" y="3213000"/>
            <a:ext cx="374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095480"/>
                <a:tab algn="l" pos="2190600"/>
                <a:tab algn="l" pos="3286080"/>
                <a:tab algn="l" pos="4381560"/>
                <a:tab algn="l" pos="5477040"/>
                <a:tab algn="l" pos="6572160"/>
                <a:tab algn="l" pos="7667640"/>
                <a:tab algn="l" pos="8763120"/>
                <a:tab algn="l" pos="9858240"/>
                <a:tab algn="l" pos="1095372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ivisive technique is more efficient for very large data sets than agglomerative clust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22"/>
          <p:cNvSpPr/>
          <p:nvPr/>
        </p:nvSpPr>
        <p:spPr>
          <a:xfrm>
            <a:off x="5148360" y="2774880"/>
            <a:ext cx="40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095480"/>
                <a:tab algn="l" pos="2190600"/>
                <a:tab algn="l" pos="3286080"/>
                <a:tab algn="l" pos="4381560"/>
                <a:tab algn="l" pos="5477040"/>
                <a:tab algn="l" pos="6572160"/>
                <a:tab algn="l" pos="7667640"/>
                <a:tab algn="l" pos="8763120"/>
                <a:tab algn="l" pos="9858240"/>
                <a:tab algn="l" pos="1095372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imple interpretation of res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23"/>
          <p:cNvSpPr/>
          <p:nvPr/>
        </p:nvSpPr>
        <p:spPr>
          <a:xfrm>
            <a:off x="511200" y="3645000"/>
            <a:ext cx="40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095480"/>
                <a:tab algn="l" pos="2190600"/>
                <a:tab algn="l" pos="3286080"/>
                <a:tab algn="l" pos="4381560"/>
                <a:tab algn="l" pos="5477040"/>
                <a:tab algn="l" pos="6572160"/>
                <a:tab algn="l" pos="7667640"/>
                <a:tab algn="l" pos="8763120"/>
                <a:tab algn="l" pos="9858240"/>
                <a:tab algn="l" pos="1095372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esult is summarized in dend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24"/>
          <p:cNvSpPr/>
          <p:nvPr/>
        </p:nvSpPr>
        <p:spPr>
          <a:xfrm>
            <a:off x="5148360" y="4843440"/>
            <a:ext cx="3744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095480"/>
                <a:tab algn="l" pos="2190600"/>
                <a:tab algn="l" pos="3286080"/>
                <a:tab algn="l" pos="4381560"/>
                <a:tab algn="l" pos="5477040"/>
                <a:tab algn="l" pos="6572160"/>
                <a:tab algn="l" pos="7667640"/>
                <a:tab algn="l" pos="8763120"/>
                <a:tab algn="l" pos="9858240"/>
                <a:tab algn="l" pos="1095372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lythetic method does not provide a simple key suitable for field application, which would allow new samples to be assigned to their appropriate 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62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e5c00"/>
                </a:solidFill>
                <a:latin typeface="Arial"/>
              </a:rPr>
              <a:t>Non-hierarchical clustering</a:t>
            </a:r>
            <a:endParaRPr b="0" lang="en-US" sz="2800" spc="-1" strike="noStrike">
              <a:solidFill>
                <a:srgbClr val="2e5c00"/>
              </a:solidFill>
              <a:latin typeface="Arial"/>
            </a:endParaRPr>
          </a:p>
        </p:txBody>
      </p:sp>
      <p:sp>
        <p:nvSpPr>
          <p:cNvPr id="267" name="Text Box 4"/>
          <p:cNvSpPr/>
          <p:nvPr/>
        </p:nvSpPr>
        <p:spPr>
          <a:xfrm>
            <a:off x="179280" y="1628640"/>
            <a:ext cx="2089080" cy="703800"/>
          </a:xfrm>
          <a:prstGeom prst="rect">
            <a:avLst/>
          </a:prstGeom>
          <a:solidFill>
            <a:srgbClr val="ffff6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1095480"/>
                <a:tab algn="l" pos="2190600"/>
                <a:tab algn="l" pos="3286080"/>
                <a:tab algn="l" pos="4381560"/>
                <a:tab algn="l" pos="5477040"/>
                <a:tab algn="l" pos="6572160"/>
                <a:tab algn="l" pos="7667640"/>
                <a:tab algn="l" pos="8763120"/>
                <a:tab algn="l" pos="9858240"/>
                <a:tab algn="l" pos="1095372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on-hierarchical techniq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5"/>
          <p:cNvSpPr/>
          <p:nvPr/>
        </p:nvSpPr>
        <p:spPr>
          <a:xfrm>
            <a:off x="2556000" y="1628640"/>
            <a:ext cx="1511280" cy="7038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1095480"/>
                <a:tab algn="l" pos="2190600"/>
                <a:tab algn="l" pos="3286080"/>
                <a:tab algn="l" pos="4381560"/>
                <a:tab algn="l" pos="5477040"/>
                <a:tab algn="l" pos="6572160"/>
                <a:tab algn="l" pos="7667640"/>
                <a:tab algn="l" pos="8763120"/>
                <a:tab algn="l" pos="9858240"/>
                <a:tab algn="l" pos="1095372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-means clust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9" name="AutoShape 6"/>
          <p:cNvCxnSpPr>
            <a:stCxn id="267" idx="3"/>
            <a:endCxn id="268" idx="1"/>
          </p:cNvCxnSpPr>
          <p:nvPr/>
        </p:nvCxnSpPr>
        <p:spPr>
          <a:xfrm>
            <a:off x="2268000" y="1983960"/>
            <a:ext cx="288360" cy="108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sp>
        <p:nvSpPr>
          <p:cNvPr id="270" name="Text Box 7"/>
          <p:cNvSpPr/>
          <p:nvPr/>
        </p:nvSpPr>
        <p:spPr>
          <a:xfrm>
            <a:off x="4213080" y="1503360"/>
            <a:ext cx="4751640" cy="11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>
              <a:spcBef>
                <a:spcPts val="876"/>
              </a:spcBef>
              <a:buClr>
                <a:srgbClr val="000099"/>
              </a:buClr>
              <a:buSzPct val="70000"/>
              <a:buFont typeface="Wingdings" charset="2"/>
              <a:buChar char=""/>
              <a:tabLst>
                <a:tab algn="l" pos="1095480"/>
                <a:tab algn="l" pos="2190600"/>
                <a:tab algn="l" pos="3286080"/>
                <a:tab algn="l" pos="4381560"/>
                <a:tab algn="l" pos="5477040"/>
                <a:tab algn="l" pos="6572160"/>
                <a:tab algn="l" pos="7667640"/>
                <a:tab algn="l" pos="8763120"/>
                <a:tab algn="l" pos="9858240"/>
                <a:tab algn="l" pos="1095372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the groups are not contained by larger groups, nor do they contain smaller group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spcBef>
                <a:spcPts val="876"/>
              </a:spcBef>
              <a:buClr>
                <a:srgbClr val="000099"/>
              </a:buClr>
              <a:buSzPct val="70000"/>
              <a:buFont typeface="Wingdings" charset="2"/>
              <a:buChar char=""/>
              <a:tabLst>
                <a:tab algn="l" pos="1095480"/>
                <a:tab algn="l" pos="2190600"/>
                <a:tab algn="l" pos="3286080"/>
                <a:tab algn="l" pos="4381560"/>
                <a:tab algn="l" pos="5477040"/>
                <a:tab algn="l" pos="6572160"/>
                <a:tab algn="l" pos="7667640"/>
                <a:tab algn="l" pos="8763120"/>
                <a:tab algn="l" pos="9858240"/>
                <a:tab algn="l" pos="1095372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divide objects into specified number of grou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spcBef>
                <a:spcPts val="876"/>
              </a:spcBef>
              <a:buClr>
                <a:srgbClr val="000099"/>
              </a:buClr>
              <a:buSzPct val="70000"/>
              <a:buFont typeface="Wingdings" charset="2"/>
              <a:buChar char=""/>
              <a:tabLst>
                <a:tab algn="l" pos="1095480"/>
                <a:tab algn="l" pos="2190600"/>
                <a:tab algn="l" pos="3286080"/>
                <a:tab algn="l" pos="4381560"/>
                <a:tab algn="l" pos="5477040"/>
                <a:tab algn="l" pos="6572160"/>
                <a:tab algn="l" pos="7667640"/>
                <a:tab algn="l" pos="8763120"/>
                <a:tab algn="l" pos="9858240"/>
                <a:tab algn="l" pos="10953720"/>
              </a:tabLst>
            </a:pPr>
            <a:r>
              <a:rPr b="0" i="1" lang="cs-CZ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-means clustering works with Euclidean distan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8"/>
          <p:cNvSpPr/>
          <p:nvPr/>
        </p:nvSpPr>
        <p:spPr>
          <a:xfrm>
            <a:off x="826920" y="2781360"/>
            <a:ext cx="7777440" cy="1297080"/>
          </a:xfrm>
          <a:prstGeom prst="rect">
            <a:avLst/>
          </a:prstGeom>
          <a:solidFill>
            <a:srgbClr val="b1ffb1"/>
          </a:solidFill>
          <a:ln w="19080">
            <a:solidFill>
              <a:srgbClr val="00c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AutoShape 9"/>
          <p:cNvSpPr/>
          <p:nvPr/>
        </p:nvSpPr>
        <p:spPr>
          <a:xfrm>
            <a:off x="395280" y="3017880"/>
            <a:ext cx="287280" cy="288720"/>
          </a:xfrm>
          <a:prstGeom prst="plus">
            <a:avLst>
              <a:gd name="adj" fmla="val 35398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10"/>
          <p:cNvSpPr/>
          <p:nvPr/>
        </p:nvSpPr>
        <p:spPr>
          <a:xfrm>
            <a:off x="971640" y="2944800"/>
            <a:ext cx="756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>
              <a:tabLst>
                <a:tab algn="l" pos="0"/>
                <a:tab algn="l" pos="1095480"/>
                <a:tab algn="l" pos="2190600"/>
                <a:tab algn="l" pos="3286080"/>
                <a:tab algn="l" pos="4381560"/>
                <a:tab algn="l" pos="5477040"/>
                <a:tab algn="l" pos="6572160"/>
                <a:tab algn="l" pos="7667640"/>
                <a:tab algn="l" pos="8763120"/>
                <a:tab algn="l" pos="9858240"/>
                <a:tab algn="l" pos="1095372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onhierarchical methods might be more appropriate than cluster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buClr>
                <a:srgbClr val="000000"/>
              </a:buClr>
              <a:buFont typeface="Arial"/>
              <a:buChar char="•"/>
              <a:tabLst>
                <a:tab algn="l" pos="1095480"/>
                <a:tab algn="l" pos="2190600"/>
                <a:tab algn="l" pos="3286080"/>
                <a:tab algn="l" pos="4381560"/>
                <a:tab algn="l" pos="5477040"/>
                <a:tab algn="l" pos="6572160"/>
                <a:tab algn="l" pos="7667640"/>
                <a:tab algn="l" pos="8763120"/>
                <a:tab algn="l" pos="9858240"/>
                <a:tab algn="l" pos="1095372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in cases with huge datas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buClr>
                <a:srgbClr val="000000"/>
              </a:buClr>
              <a:buFont typeface="Arial"/>
              <a:buChar char="•"/>
              <a:tabLst>
                <a:tab algn="l" pos="1095480"/>
                <a:tab algn="l" pos="2190600"/>
                <a:tab algn="l" pos="3286080"/>
                <a:tab algn="l" pos="4381560"/>
                <a:tab algn="l" pos="5477040"/>
                <a:tab algn="l" pos="6572160"/>
                <a:tab algn="l" pos="7667640"/>
                <a:tab algn="l" pos="8763120"/>
                <a:tab algn="l" pos="9858240"/>
                <a:tab algn="l" pos="1095372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in cases with no hierarchical structure in the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11"/>
          <p:cNvSpPr/>
          <p:nvPr/>
        </p:nvSpPr>
        <p:spPr>
          <a:xfrm>
            <a:off x="826920" y="4508640"/>
            <a:ext cx="7777440" cy="1584360"/>
          </a:xfrm>
          <a:prstGeom prst="rect">
            <a:avLst/>
          </a:prstGeom>
          <a:solidFill>
            <a:srgbClr val="ffcc99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12"/>
          <p:cNvSpPr/>
          <p:nvPr/>
        </p:nvSpPr>
        <p:spPr>
          <a:xfrm>
            <a:off x="395280" y="4726080"/>
            <a:ext cx="287280" cy="71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13"/>
          <p:cNvSpPr/>
          <p:nvPr/>
        </p:nvSpPr>
        <p:spPr>
          <a:xfrm>
            <a:off x="971640" y="5235480"/>
            <a:ext cx="75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1095480"/>
                <a:tab algn="l" pos="2190600"/>
                <a:tab algn="l" pos="3286080"/>
                <a:tab algn="l" pos="4381560"/>
                <a:tab algn="l" pos="5477040"/>
                <a:tab algn="l" pos="6572160"/>
                <a:tab algn="l" pos="7667640"/>
                <a:tab algn="l" pos="8763120"/>
                <a:tab algn="l" pos="9858240"/>
                <a:tab algn="l" pos="1095372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-means clustering works with Euclidean distances =&gt; problems when Euclidean distance is not „the best“ metr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14"/>
          <p:cNvSpPr/>
          <p:nvPr/>
        </p:nvSpPr>
        <p:spPr>
          <a:xfrm>
            <a:off x="971640" y="458136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1095480"/>
                <a:tab algn="l" pos="2190600"/>
                <a:tab algn="l" pos="3286080"/>
                <a:tab algn="l" pos="4381560"/>
                <a:tab algn="l" pos="5477040"/>
                <a:tab algn="l" pos="6572160"/>
                <a:tab algn="l" pos="7667640"/>
                <a:tab algn="l" pos="8763120"/>
                <a:tab algn="l" pos="9858240"/>
                <a:tab algn="l" pos="1095372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he number of groups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must be specified in advance by the u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25"/>
          <p:cNvSpPr/>
          <p:nvPr/>
        </p:nvSpPr>
        <p:spPr>
          <a:xfrm>
            <a:off x="1359000" y="6597720"/>
            <a:ext cx="703584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9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 International Summer School on Computational Biology, August 13 – 15, 2007, Mikulov, Czech Re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2"/>
          <p:cNvSpPr/>
          <p:nvPr/>
        </p:nvSpPr>
        <p:spPr>
          <a:xfrm>
            <a:off x="254160" y="3051000"/>
            <a:ext cx="8038800" cy="11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e5c00"/>
                </a:solidFill>
                <a:latin typeface="Arial"/>
              </a:rPr>
              <a:t>XI. Ordination of Biodiversity Data and Definition of Environmental Gradient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2T07:43:12Z</dcterms:created>
  <dc:creator>Mgr. Vratislav Kubík</dc:creator>
  <dc:description/>
  <dc:language>en-US</dc:language>
  <cp:lastModifiedBy>Jarkovsky</cp:lastModifiedBy>
  <dcterms:modified xsi:type="dcterms:W3CDTF">2010-10-19T13:07:25Z</dcterms:modified>
  <cp:revision>104</cp:revision>
  <dc:subject/>
  <dc:title>Snímek 1</dc:title>
</cp:coreProperties>
</file>