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4AE0-59C5-450B-BEA0-87F0D5E959B1}"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8E71-6CD9-4DCE-A20B-C2710E161E3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F512-4F68-419F-9D7B-450579BD6A8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FBDF-B486-423A-B8C9-16A604E4DF1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3837-335E-49C0-8D23-81AFE3FA588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99DC-7C93-4060-A8E6-D8597636746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246D-732B-4449-BC9A-CA2A9B1B679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5B6B-FAA6-4889-AACC-E815EEF3086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E526-B057-47F6-8C7B-B3D77830CD3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1C7A-9601-4FAE-8437-3D51B6B442B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DDAD-A3E1-4D97-B955-607A1126D34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5B2F-66C1-4BB7-80AA-9B23EC7CE3A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7668-AE0B-4B45-B265-CFEBCDF6F28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D1CD-1DEF-49CD-BB00-E7D3E5CABB6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26975-1435-4718-9917-7D6B5FA3CD4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4D97-8D8F-4CB5-8C40-5D023754A52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D7AC-76F2-477E-8900-162B3B716FC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1340-F546-474F-BF1A-C928A841D1B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5EB0-ED12-49FF-A701-89B94998558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DD9F-63F7-407E-8D36-185D1EF6F29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B2D4-8A3B-40C8-8DFA-3A4F8146BD5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684E-5B52-4D5A-AFE2-608334C72EE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4FD2-5F5E-4AE5-AA9B-E65D1A2EAED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D24C-EE1F-40BF-862E-6CA7A439D17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691E-357F-4CD9-B56A-F3312D0AF6F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9BD0-09FF-4D42-8DC5-E3DA403CA4F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5504-37C7-45BB-A0EE-EC2DCA83083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31D9-4EDB-4C76-900B-F50F3A069A9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C1C4-868A-45DA-B8F5-83D81752B17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A5F4-0FB6-41A2-AAE0-332D7848344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F7AD-A9F3-4E6F-BF4A-19223140C80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F2CF-118B-44F2-BA91-11453E0D075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1CAC-E169-4ACF-8FFD-188397CEA59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78F9-919F-4C8D-B6FA-475CA6FB97C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0AFD-E660-4700-AC9A-8B70122A863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9D72-03B1-47A6-ACB5-B74F2C74785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CED9-CF5D-4931-91EC-C74FCE391DC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3F8F-25B1-42FD-AC29-9C003C5238A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59F2-8962-4911-BB1C-4069C9F7B20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CADA-7F40-44DB-A37E-A475E9A0990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EFBB-DACF-4555-9BE3-840CCBDD9F3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793A-9C6F-4316-9B28-5C8EEC57983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33FA-8F8C-4FD1-861C-3D14E9F5494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6AF5-0717-4E43-B9B2-581B7BB64A9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1D71-BEEA-4DAD-8833-A2EE2DB496E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5E9F-0C30-428D-ABAB-D6B3E56CBDC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A6BD-C256-4025-B8DF-0D2ED8387C3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CE23-1FBB-4C2A-A43F-5E246CB6D5F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DA1936-95DA-402D-89D5-8DC0123303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23FC498B-5615-4E0A-93AC-6B15300B4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13FC49DD-CFF2-4323-8C34-5D30BBDE7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78114532-958E-44C1-957F-B150976472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13D426-74D5-433B-8FD4-FBA00009A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B9A53E-EBC4-42A3-BAF9-F5477E6A4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215D30-3824-488F-B9C4-CC047A002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62FFD3-BC41-4344-B697-108B8AC43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C46034-6B98-4860-B268-9F85C7CA3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217425-2117-44E3-B07E-3E0002209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9AAC6D-060D-4779-AECE-2F6903D79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FAFE3437-90BC-4C96-9CE3-7628C5989E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54A351-FCD5-4647-A13C-4D7024783E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904830-5C72-4315-B8F2-93D9D970F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B16F5A-1680-4C05-B686-251FD32AE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AA613D-4332-436D-9E15-2678D03178B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47B1245-6067-41C6-81CB-5B0E23837ED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29B6030D-D353-4AF5-989F-532683C8F7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0CECA1C7-2F9B-466E-8018-C169F32F08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2B3C2624-343C-4141-A98B-C72512EF72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4A63CE31-1F05-4766-A4E2-973F472234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14C6351A-2500-4A28-B9EF-2652069605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EE54ECB4-0899-4FE2-A2A3-36DA7D3DB0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BEDC741D-309E-449A-AF6A-133276D674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F0A7-D0F1-41B3-9255-8C6DF10B090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A0FB-89C9-4E9F-AD53-25DE2C765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6725-6807-4ADF-911E-086CC7757825}"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111F-D500-4C49-AA1F-0EDFEEAD2F3D}"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342D-E921-4142-BD6A-BF53E9A1395D}"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1D0C-2D74-4860-A0D0-BD751DE4A49D}"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FF8A-396C-4D20-80C5-F6F1D29BE64E}"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8E9B-85A8-4913-96BC-38A535FCD52E}"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8166-99BA-4534-ABAD-556DEC06F2F2}"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EFD0-CAF0-4E92-A86B-68D739B6775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Čím se liší od analýzy hlavních komponent?</a:t>
            </a:r>
            <a:endParaRPr b="1" lang="en-US" sz="18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Jediným rozdílem je rotace proměnných tak aby se vytvořené faktorové osy daly dobře interpretovat</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Výhodou je </a:t>
            </a:r>
            <a:r>
              <a:rPr b="1" lang="cs-CZ" sz="1600" spc="-1" strike="noStrike" u="sng">
                <a:solidFill>
                  <a:srgbClr val="292929"/>
                </a:solidFill>
                <a:uFillTx/>
                <a:latin typeface="Verdana"/>
              </a:rPr>
              <a:t>lepší interpretace</a:t>
            </a:r>
            <a:r>
              <a:rPr b="1" lang="cs-CZ" sz="1600" spc="-1" strike="noStrike">
                <a:solidFill>
                  <a:srgbClr val="292929"/>
                </a:solidFill>
                <a:latin typeface="Verdana"/>
              </a:rPr>
              <a:t> vztahu původních proměnných</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evýhodou je </a:t>
            </a:r>
            <a:r>
              <a:rPr b="1" lang="cs-CZ" sz="1600" spc="-1" strike="noStrike" u="sng">
                <a:solidFill>
                  <a:srgbClr val="292929"/>
                </a:solidFill>
                <a:uFillTx/>
                <a:latin typeface="Verdana"/>
              </a:rPr>
              <a:t>prostor pro subjektivní</a:t>
            </a:r>
            <a:r>
              <a:rPr b="1" lang="cs-CZ" sz="1600" spc="-1" strike="noStrike">
                <a:solidFill>
                  <a:srgbClr val="292929"/>
                </a:solidFill>
                <a:latin typeface="Verdana"/>
              </a:rPr>
              <a:t> názor analytika</a:t>
            </a:r>
            <a:endParaRPr b="1" lang="en-US" sz="1600" spc="-1" strike="noStrike">
              <a:solidFill>
                <a:srgbClr val="29292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6" name="Object 2"/>
          <p:cNvGraphicFramePr/>
          <p:nvPr/>
        </p:nvGraphicFramePr>
        <p:xfrm>
          <a:off x="341964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1964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859680" y="2349360"/>
            <a:ext cx="749160" cy="3070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Realita</a:t>
            </a:r>
            <a:endParaRPr b="0" lang="en-US" sz="1400" spc="-1" strike="noStrike">
              <a:solidFill>
                <a:srgbClr val="292929"/>
              </a:solidFill>
              <a:latin typeface="Verdana"/>
            </a:endParaRPr>
          </a:p>
        </p:txBody>
      </p:sp>
      <p:sp>
        <p:nvSpPr>
          <p:cNvPr id="1714" name="Text Box 10"/>
          <p:cNvSpPr/>
          <p:nvPr/>
        </p:nvSpPr>
        <p:spPr>
          <a:xfrm>
            <a:off x="7667640" y="1989000"/>
            <a:ext cx="1427040" cy="52020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Teoretická vyrovnanos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706920" y="112536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stupní datová tabulka</a:t>
            </a:r>
            <a:endParaRPr b="0" lang="en-US" sz="16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668760" y="184464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Matice vzdáleností</a:t>
            </a:r>
            <a:endParaRPr b="0" lang="en-US" sz="16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78560" y="2492280"/>
            <a:ext cx="194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endrogram – schéma podobnosti respondentů nebo parametrů</a:t>
            </a:r>
            <a:endParaRPr b="0" lang="en-US" sz="16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66600" y="4005360"/>
            <a:ext cx="2449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ýběr vhodné metriky vzdáleností je klíčový pro výsledek shlukové analýzy – různé typy proměnných vyžadují různé metriky vzdáleností</a:t>
            </a:r>
            <a:endParaRPr b="0" lang="en-US" sz="16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589120" y="5084640"/>
            <a:ext cx="2449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Shlukovací pravidlo je dalším velmi důležitým krokem při shlukové analýze a může změnit její výsledky</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508464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espondenti jsou na základě zadaného počtu shluků rozděleni podle kritéria maximální homogenity shluků</a:t>
            </a:r>
            <a:endParaRPr b="0" lang="en-US" sz="2000" spc="-1" strike="noStrike">
              <a:solidFill>
                <a:srgbClr val="292929"/>
              </a:solidFill>
              <a:latin typeface="Verdana"/>
            </a:endParaRPr>
          </a:p>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izika analýzy</a:t>
            </a:r>
            <a:endParaRPr b="0" lang="en-US" sz="20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ři špatném odhadu počtu shluků dává metoda chybné výsledky</a:t>
            </a:r>
            <a:endParaRPr b="0" lang="en-US" sz="18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počet je možný pouze na Euklidovských vzdálenostech se všemi jejich omezeními</a:t>
            </a:r>
            <a:endParaRPr b="0" lang="en-US" sz="18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stupní data:</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Tabulka spojitých dat popisujících respondenty </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espondenti jsou rozděleni do předem daných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stup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eznam parametrů významně rozlišujících různé skupiny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obrazení pozice respondentů v diskriminačním prostoru</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del pro zařazení nových respondentů do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ritické problém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dlehlé hodnoty a asymetrické rozložení uvnitř skupin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ilná korelace mezi prediktory</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utná expertní znalost významu parametr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tvorbu diskriminačních modelů pro praktické použití jsou nezbytností velké vzorky dat</a:t>
            </a:r>
            <a:endParaRPr b="1" lang="en-US" sz="1800" spc="-1" strike="noStrike">
              <a:solidFill>
                <a:srgbClr val="292929"/>
              </a:solidFill>
              <a:latin typeface="Verdan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nachází takovou kombinaci vstupních parametrů, která odděluje od sebe skupiny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12-09T15:27:02Z</dcterms:modified>
  <cp:revision>23</cp:revision>
  <dc:subject/>
  <dc:title>Snímek 1</dc:title>
</cp:coreProperties>
</file>