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85D1-5CC4-4B5F-BB1D-7D123316DB3F}"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E646-2D54-4AD4-B663-BBB099EE1EA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4C05-F339-4A60-9A8F-35893932E94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645A-DD62-46A4-9F57-34E4E7CED0B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11F7-162E-45B3-BE1A-49A312A1CC6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EB4C-404B-47AF-B824-DC02FA26FB8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6F78-DE97-4559-8911-0145B11374C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9DFA-1468-4AE7-A6BA-8C695895AB2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FC32-695C-4920-AF6A-CEED66E3BA4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3601-29CC-4DC3-9A54-F8048F14110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C3F3-16C7-41D7-A345-47A24C66DD9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1918-E43F-48C7-B284-2E05ADA124C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CCE7-7513-4748-89E4-D435754B3F2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E297-F5CE-46C8-A422-778D0614F9F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698F-B851-4624-BD49-8DC32D19979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EB71-E796-4AE3-8F8D-4BFBAAA99E2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55BB-DD86-48B6-8BF9-38258318929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EF91-AF32-4EDA-AEC2-970128CF942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55E7-0C3E-4E99-B72B-A8D5B05D3C5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18BF-9514-47A3-9572-53BD100BDC0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3E19-5861-491C-8C70-EC00B6EA6E3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3284-0C44-4BB6-BFBC-036DBBBF126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9626-6A56-4824-B6A7-537845B0F07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D2A5-C7E6-48E3-904D-B7A12125F1E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4565-92A0-4DD1-8AFF-16B50281C4E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C7C2-2A96-4774-8886-59C269E4A88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59B2-65F3-4B15-8413-654FA61CEB0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039C-4865-488A-B0FB-D6ABB16F0B3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5658-6654-4877-9385-BBEED1D34DC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62FF-CC11-4D25-B0EE-4CB2A9FC6B9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E7E2-C066-4158-BF38-01C28066BD5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D105-05C3-4F4A-8FDA-B406866BBD5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901E-2889-4709-AE42-1ECA113C50F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F8A5-7C46-4660-96F9-EB3B3223D12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DBD1-0D3D-4BA0-8F3C-7034E6DC857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22B8-B500-465F-905D-3F3E5594721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4D61-2658-4F85-899A-5012AEC1CEF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B8BF-6642-49A0-A878-4886D0C67DF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A8B5-FC13-4802-813A-B24F28D2486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AC66-DC31-4868-9E3B-FE4D4ABFBC7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C870-A75B-4C85-A383-B46672A14BF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3F7A-00A9-4F77-8554-63571752AE5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D5B1-A609-4D85-9255-F5A1C39790B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D1F6-FF61-4C27-8255-55F786ACF1D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8B92-DDB9-4850-8D78-CE975B58314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E681-A2E2-416A-9E87-234F039C8CD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021E-FBB4-4AA0-B6B6-30B0C5E30DA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65E5-2F71-4AC1-95F8-333DFE464BC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EB988-ED3D-4C93-A046-53F9409A03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A3F2C65F-19D3-4C4E-BED2-47908B53B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49E1A732-8AF5-4011-84A6-40D6603500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6C8435C0-230C-4AD9-B6D3-289E899432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311A1E-4F9C-484A-837B-BBE08FA174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12D3CB-1DDC-4C95-BCCA-3CB587B71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5D8BBC-29EA-442D-BF3B-D553AC1C6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60697E-804A-4581-A3C3-2C5A14383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1710C8-6CC4-4C76-B12D-A235DDBE1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0C2177-B800-4BDC-B802-B9A2AF387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8DB24D-2AF7-4957-A460-8F0743EDA2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336F39FF-B06A-471D-B0C9-FD88DF2378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182210-4D9C-4C5B-9813-7EF4326262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A577A0-C1ED-4A5E-9111-4C04080E6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57E8AA-E7AD-44CF-8AA1-BE697F984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D23D8A-266C-46DA-A123-409977E9451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19CF553-8C23-4635-91A4-123F99F5C35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0A8749DD-1E76-41F3-B6C4-0A8887CF78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3E9821FC-1068-45AC-B314-2C03483C1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6D49EF05-928E-4830-A873-38EB1408E3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DF45EFCC-7522-4AB8-8518-48475A69CF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EAB15DE2-FF8D-42C8-96A0-18CF993E0F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5FF496E6-4273-4D7E-92D8-A5BC2EBEAC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F92D5D06-F8F7-4679-B372-C52DC730E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B103-6EF7-4AD6-94F3-A074E129FE5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F9C2-9E01-4F0C-9593-27936684C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31A3-CB52-4C02-A1A3-D8B61353034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C7FA-BD8D-412D-8467-E047DC4804AC}"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DE8D-BBDD-45C3-BA7E-302B3C58E060}"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A401-D5DE-4009-8D86-DFF5B68ABFB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9260-DE4B-41DF-A3DA-29466AA7DCF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B450-3D77-43C6-8FBF-BFCA21BBD005}"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2E30-9862-4ECF-8323-DC95A5BD374A}"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A95D-A46B-433D-BD03-DEBA51BA22EA}"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Čím se liší od analýzy hlavních komponent?</a:t>
            </a:r>
            <a:endParaRPr b="1" lang="en-US" sz="18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Jediným rozdílem je rotace proměnných tak aby se vytvořené faktorové osy daly dobře interpretovat</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Výhodou je </a:t>
            </a:r>
            <a:r>
              <a:rPr b="1" lang="cs-CZ" sz="1600" spc="-1" strike="noStrike" u="sng">
                <a:solidFill>
                  <a:srgbClr val="292929"/>
                </a:solidFill>
                <a:uFillTx/>
                <a:latin typeface="Verdana"/>
              </a:rPr>
              <a:t>lepší interpretace</a:t>
            </a:r>
            <a:r>
              <a:rPr b="1" lang="cs-CZ" sz="1600" spc="-1" strike="noStrike">
                <a:solidFill>
                  <a:srgbClr val="292929"/>
                </a:solidFill>
                <a:latin typeface="Verdana"/>
              </a:rPr>
              <a:t> vztahu původních proměnných</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evýhodou je </a:t>
            </a:r>
            <a:r>
              <a:rPr b="1" lang="cs-CZ" sz="1600" spc="-1" strike="noStrike" u="sng">
                <a:solidFill>
                  <a:srgbClr val="292929"/>
                </a:solidFill>
                <a:uFillTx/>
                <a:latin typeface="Verdana"/>
              </a:rPr>
              <a:t>prostor pro subjektivní</a:t>
            </a:r>
            <a:r>
              <a:rPr b="1" lang="cs-CZ" sz="1600" spc="-1" strike="noStrike">
                <a:solidFill>
                  <a:srgbClr val="292929"/>
                </a:solidFill>
                <a:latin typeface="Verdana"/>
              </a:rPr>
              <a:t> názor analytika</a:t>
            </a:r>
            <a:endParaRPr b="1" lang="en-US" sz="1600" spc="-1" strike="noStrike">
              <a:solidFill>
                <a:srgbClr val="29292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6" name="Object 2"/>
          <p:cNvGraphicFramePr/>
          <p:nvPr/>
        </p:nvGraphicFramePr>
        <p:xfrm>
          <a:off x="341964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1964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859680" y="2349360"/>
            <a:ext cx="749160" cy="3070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Realita</a:t>
            </a:r>
            <a:endParaRPr b="0" lang="en-US" sz="1400" spc="-1" strike="noStrike">
              <a:solidFill>
                <a:srgbClr val="292929"/>
              </a:solidFill>
              <a:latin typeface="Verdana"/>
            </a:endParaRPr>
          </a:p>
        </p:txBody>
      </p:sp>
      <p:sp>
        <p:nvSpPr>
          <p:cNvPr id="1714" name="Text Box 10"/>
          <p:cNvSpPr/>
          <p:nvPr/>
        </p:nvSpPr>
        <p:spPr>
          <a:xfrm>
            <a:off x="7667640" y="1989000"/>
            <a:ext cx="1427040" cy="52020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Teoretická vyrovnanos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706920" y="112536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stupní datová tabulka</a:t>
            </a:r>
            <a:endParaRPr b="0" lang="en-US" sz="16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668760" y="184464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Matice vzdáleností</a:t>
            </a:r>
            <a:endParaRPr b="0" lang="en-US" sz="16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78560" y="2492280"/>
            <a:ext cx="194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endrogram – schéma podobnosti respondentů nebo parametrů</a:t>
            </a:r>
            <a:endParaRPr b="0" lang="en-US" sz="16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66600" y="4005360"/>
            <a:ext cx="2449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ýběr vhodné metriky vzdáleností je klíčový pro výsledek shlukové analýzy – různé typy proměnných vyžadují různé metriky vzdáleností</a:t>
            </a:r>
            <a:endParaRPr b="0" lang="en-US" sz="16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589120" y="5084640"/>
            <a:ext cx="2449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Shlukovací pravidlo je dalším velmi důležitým krokem při shlukové analýze a může změnit její výsledky</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508464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espondenti jsou na základě zadaného počtu shluků rozděleni podle kritéria maximální homogenity shluků</a:t>
            </a:r>
            <a:endParaRPr b="0" lang="en-US" sz="2000" spc="-1" strike="noStrike">
              <a:solidFill>
                <a:srgbClr val="292929"/>
              </a:solidFill>
              <a:latin typeface="Verdana"/>
            </a:endParaRPr>
          </a:p>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izika analýzy</a:t>
            </a:r>
            <a:endParaRPr b="0" lang="en-US" sz="20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ři špatném odhadu počtu shluků dává metoda chybné výsledky</a:t>
            </a:r>
            <a:endParaRPr b="0" lang="en-US" sz="18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počet je možný pouze na Euklidovských vzdálenostech se všemi jejich omezeními</a:t>
            </a:r>
            <a:endParaRPr b="0" lang="en-US" sz="18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stupní data:</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Tabulka spojitých dat popisujících respondenty </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espondenti jsou rozděleni do předem daných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stup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eznam parametrů významně rozlišujících různé skupiny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obrazení pozice respondentů v diskriminačním prostoru</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del pro zařazení nových respondentů do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ritické problém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dlehlé hodnoty a asymetrické rozložení uvnitř skupin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ilná korelace mezi prediktory</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utná expertní znalost významu parametr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tvorbu diskriminačních modelů pro praktické použití jsou nezbytností velké vzorky dat</a:t>
            </a:r>
            <a:endParaRPr b="1" lang="en-US" sz="1800" spc="-1" strike="noStrike">
              <a:solidFill>
                <a:srgbClr val="292929"/>
              </a:solidFill>
              <a:latin typeface="Verdan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nachází takovou kombinaci vstupních parametrů, která odděluje od sebe skupiny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12-09T15:27:02Z</dcterms:modified>
  <cp:revision>23</cp:revision>
  <dc:subject/>
  <dc:title>Snímek 1</dc:title>
</cp:coreProperties>
</file>