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28080" y="0"/>
            <a:ext cx="3040200" cy="50328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029120" y="0"/>
            <a:ext cx="3039840" cy="50328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85320" y="762120"/>
            <a:ext cx="5126040" cy="384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28080" y="9731160"/>
            <a:ext cx="3040200" cy="50292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029120" y="9731160"/>
            <a:ext cx="3039840" cy="50292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  <a:defRPr b="0" i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9CBA4B5B-4313-4526-86BE-C17A1CFCFCEA}" type="slidenum">
              <a:rPr b="0" i="1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92705E0E-8BE4-45EE-9C80-4D0B131908E3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06368FB5-3C04-4833-991A-3164DF02FA7B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6752ABFB-D4A4-40E2-8F4B-0BB7F39A3AB5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D6FF1D79-AE03-464B-8592-95E13C4307C2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7E844CAD-D58C-4A87-A69C-DC6C65DB2092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94BDDC22-647B-4405-8BD9-7F80430BAAFD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16C06194-65DF-416D-B03C-A73A066043A7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12" name="Rectangle 3"/>
          <p:cNvSpPr/>
          <p:nvPr/>
        </p:nvSpPr>
        <p:spPr>
          <a:xfrm>
            <a:off x="1068480" y="5024520"/>
            <a:ext cx="5279760" cy="46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solution = the extent to which closely juxtaposed objects can be distinguished as separate entities (determined by wavelength of electromagnetic radiation used)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-factor = expresses the extent of agreement between theoretical calculations and the measured data (R means Residual or Reliability)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1E0F5E7F-E123-4F38-8A33-E0A5B75209C4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E1B99091-1E55-40DC-84AE-F592AF306A0B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EA9BBD5E-05FA-4FC3-9D2B-40B3B82E701B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417CA759-4A08-46B2-9350-BCFD25A687A4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Introduction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- what is it Bioinformatics? why is it important? history: manual sequencing (1 sequence/year), automated (1 sequence/min); sequence/structure deficit ... analysis of sequences to deduce function; secondary and tertiary structure prediction reliabil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Information networks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Internet; WWW; service providers; browsers; software for linking and distributing databases; web addresses on Bioinformatic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Protein information resources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- protein databases; data levels - primary, secondary and tertiary; formats of most common databases (SWISS-PROT, PROSITE); evolution of composite databases and integrated database projec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Genome information resources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- DNA sequence databases (GenBank, EMBL, DDBJ); genome information resources; formats of most common databases 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DNA sequence analysis -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 motivation and concepts; hierarchy of genomic information; expressed sequence tag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Pairwise sequence alignment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algorithms; significance analysis; concept of identity and similarity; concept of local and global similar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Multiple sequence alignment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algorithms;</a:t>
            </a: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arch for gene families; identification of conserved family characteristics and motif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Secondary database searching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 - type of information: regular expressions, profiles, fingerprints, blocks, Hidden Markov Mode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Analysis packages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tand-alone suites; GCG; Staden; Vector NTI; CINEMA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Protein structure modelling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protein structure; structural databases; prediction of secondary and tertiary structure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708F8CC4-7DA1-4674-AFF8-E1ED3AE98223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25" name="Rectangle 3"/>
          <p:cNvSpPr/>
          <p:nvPr/>
        </p:nvSpPr>
        <p:spPr>
          <a:xfrm>
            <a:off x="1068480" y="5024520"/>
            <a:ext cx="5279760" cy="46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ed sequence - scan database - new sequences added - news scan - etc.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9D5C4E5B-60F9-4773-8F23-595CB094827F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8268A964-79E9-4222-A94B-A4DA03EF2EB6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F3831452-AE7D-418C-9C06-3298377B2EAE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72B3311B-37FA-4156-A8C7-A406FBEE6D53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75880" y="4350960"/>
            <a:ext cx="566100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717B3BFB-91EE-417E-8345-A9F285A7FD0D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919BCDF8-F1ED-4374-A7EB-CB3998ED3364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97155C6E-E286-4D93-9A83-7A4D76791C00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F716D64A-5A0E-485B-826D-EB8261AB46DC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C193C386-A98E-4C83-9A8A-7C5B2554FE5D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76320" y="790560"/>
            <a:ext cx="5129280" cy="38466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tructural databases; threading; prediction of secondary, tertiary and quaternary structures; calculation of properties; homology modelling; docking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05EF5C09-9DEB-4482-8382-9D8964913731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C20B3E85-6A43-4828-A1A3-C1FE0D7FE252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8151584C-A97C-4E9A-BA7A-279549201799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5B3DD87B-60DF-4D8B-B40F-91F606E3D062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64DF0A06-7BF8-4E38-836D-070371A578A6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8F735A4C-6354-4AB7-B04D-7D5A2B1E086A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9194-9ED7-480F-9270-21F01C1EE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2DDE-5CD6-4BC7-BF8E-C8FDDCF0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9647-90ED-4D4F-89E9-2328EBB4B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EFA1-B1DB-4619-B9A5-923014E01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25BE-FF87-4B25-B14C-63016A248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3951-1510-4AF9-8487-EC39764E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DF92-DDE8-46EB-8D05-E761591A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1600-7A1B-454C-ADBC-1F51859F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3BF7-D121-4324-85C1-6CCF3D68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17C2-8BDD-4889-B42D-710891FB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8628-2C4D-49CF-8519-F7D30C05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67F5-28B1-401A-BE96-08642980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E4EC-CD20-4BF1-901D-44310E69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7F86-76E1-4733-BD4C-3DB72306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1537-E1D4-4CFC-A770-1F06C055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A79B-B09B-45E3-9BBB-6D2AFAE6B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C706-865D-4561-B50B-82341E337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39AC-1057-427F-8079-4D6E0600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511C-A7F6-4FCD-B55B-63B1E2E6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6448-C532-4AB3-ABAD-D8936D80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41AB-2482-4016-AF13-96E77580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D59F-E9C8-4904-948F-6CFF86C7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999F-D8AB-46D6-8A82-429932E1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7C4C-F105-444A-832C-FEC69446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6480"/>
            <a:ext cx="9144000" cy="6267240"/>
            <a:chOff x="0" y="6480"/>
            <a:chExt cx="9144000" cy="6267240"/>
          </a:xfrm>
        </p:grpSpPr>
        <p:sp>
          <p:nvSpPr>
            <p:cNvPr id="1" name="Rectangle 2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474840" y="1482840"/>
              <a:ext cx="866916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9999ff"/>
                </a:solidFill>
                <a:latin typeface="Times New Roman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C2D2-6707-4A95-B1B1-456808357827}" type="slidenum">
              <a:rPr b="0" lang="cs-CZ" sz="1400" spc="-1" strike="noStrike">
                <a:solidFill>
                  <a:srgbClr val="9999ff"/>
                </a:solidFill>
                <a:latin typeface="Times New Roman C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4"/>
          <p:cNvGrpSpPr/>
          <p:nvPr/>
        </p:nvGrpSpPr>
        <p:grpSpPr>
          <a:xfrm>
            <a:off x="0" y="6480"/>
            <a:ext cx="9142560" cy="6267240"/>
            <a:chOff x="0" y="6480"/>
            <a:chExt cx="9142560" cy="6267240"/>
          </a:xfrm>
        </p:grpSpPr>
        <p:sp>
          <p:nvSpPr>
            <p:cNvPr id="45" name="Rectangle 2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6" name="Rectangle 3"/>
            <p:cNvSpPr/>
            <p:nvPr/>
          </p:nvSpPr>
          <p:spPr>
            <a:xfrm>
              <a:off x="471600" y="3159000"/>
              <a:ext cx="867096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9999ff"/>
                </a:solidFill>
                <a:latin typeface="Times New Roman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4975-5D6B-4985-A67E-33D44D947084}" type="slidenum">
              <a:rPr b="0" lang="cs-CZ" sz="1400" spc="-1" strike="noStrike">
                <a:solidFill>
                  <a:srgbClr val="9999ff"/>
                </a:solidFill>
                <a:latin typeface="Times New Roman C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838224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cs-CZ" sz="4600" spc="-1" strike="noStrike">
                <a:solidFill>
                  <a:srgbClr val="ffff00"/>
                </a:solidFill>
                <a:latin typeface="Tahoma"/>
              </a:rPr>
              <a:t>Modelování struktury proteinů</a:t>
            </a:r>
            <a:endParaRPr b="0" lang="en-US" sz="4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0948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iří Damborsk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Loschmidtovy laborato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ře, Masarykova univerzi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3076"/>
          <p:cNvSpPr/>
          <p:nvPr/>
        </p:nvSpPr>
        <p:spPr>
          <a:xfrm>
            <a:off x="609480" y="5257800"/>
            <a:ext cx="78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Kamenice 5/A4, 2.32, tel. 5-4949 3467, jiri@chemi.muni.cz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609480" y="1143000"/>
            <a:ext cx="8534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DB - Protein Data Bank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vinuta v Brookhaven National Laborator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yní udržována v Research Collaboratory for Structural Bioinformatics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RSCB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větový depozitář 3D proteinových struktu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ruktury z krystalografické analýzy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80%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, nukleární magnetické resonance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16%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 a modelování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2%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ruktury uloženy jako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jednoduché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 flat) soubory obsahující část informační a část koordinátovou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ruktury mají jedinečný identifikační kód -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PDB-ID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možňuje hledat struktury pomocí klíčových slov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možňuje interaktivně prohlížet struktur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Informace o záznamu v PDB databáz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22" name="Picture 5" descr="C:\Dokumenty\VYUKA\Bioinformatics\SCAN\pdb_entry.bmp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hlavička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24" name="Object 0"/>
          <p:cNvGraphicFramePr/>
          <p:nvPr/>
        </p:nvGraphicFramePr>
        <p:xfrm>
          <a:off x="1828800" y="914400"/>
          <a:ext cx="7010280" cy="54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914400"/>
                    <a:ext cx="701028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krystalografické informace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27" name="Object 6"/>
          <p:cNvGraphicFramePr/>
          <p:nvPr/>
        </p:nvGraphicFramePr>
        <p:xfrm>
          <a:off x="1447920" y="965160"/>
          <a:ext cx="7543800" cy="507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965160"/>
                    <a:ext cx="7543800" cy="50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sekvence, sekundární elementy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30" name="Object 0"/>
          <p:cNvGraphicFramePr/>
          <p:nvPr/>
        </p:nvGraphicFramePr>
        <p:xfrm>
          <a:off x="1523880" y="990720"/>
          <a:ext cx="7315200" cy="523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990720"/>
                    <a:ext cx="7315200" cy="52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koordináty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33" name="Object 2048"/>
          <p:cNvGraphicFramePr/>
          <p:nvPr/>
        </p:nvGraphicFramePr>
        <p:xfrm>
          <a:off x="1447920" y="838080"/>
          <a:ext cx="7162560" cy="574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838080"/>
                    <a:ext cx="7162560" cy="57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609480" y="12193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DBsu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vinuta na University College Londo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souhrn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analýza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teinových struktu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sekundární databáze odvozená z PDB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ouhrn PDB struktur: rozlišení, R-faktor,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čet proteinových řetězců, topologie,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ligandy, ionty těžkých kovů, apod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nalýza PDB struktur: protein-iont a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tein-ligand interakce, validace struktu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skytuje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odkazy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do mnoha dalších databází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Informace o záznamu v PDBsum databáz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40" name="Picture 5" descr="C:\Dokumenty\VYUKA\Bioinformatics\SCAN\pdbsum.bmp"/>
          <p:cNvPicPr/>
          <p:nvPr/>
        </p:nvPicPr>
        <p:blipFill>
          <a:blip r:embed="rId1"/>
          <a:stretch/>
        </p:blipFill>
        <p:spPr>
          <a:xfrm>
            <a:off x="838080" y="838080"/>
            <a:ext cx="7382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sum databázi (sekundární elementy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" name="Rectangle 2051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Rectangle 2052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44" name="Picture 2053" descr="C:\Dokumenty\VYUKA\Bioinformatics\SCAN\pdbsum_secondary.BMP"/>
          <p:cNvPicPr/>
          <p:nvPr/>
        </p:nvPicPr>
        <p:blipFill>
          <a:blip r:embed="rId1"/>
          <a:stretch/>
        </p:blipFill>
        <p:spPr>
          <a:xfrm>
            <a:off x="838080" y="914400"/>
            <a:ext cx="7382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457200" y="1371600"/>
            <a:ext cx="7924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Klasifikací proteinových struktur se snažíme postihnout jejich strukturní podobnos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rukturní podobnost (homologie) proteinů přímo souvisí s </a:t>
            </a:r>
            <a:r>
              <a:rPr b="0" lang="cs-CZ" sz="2800" spc="-1" strike="noStrike">
                <a:solidFill>
                  <a:srgbClr val="ffff00"/>
                </a:solidFill>
                <a:latin typeface="Tahoma"/>
              </a:rPr>
              <a:t>evolucí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rukturní podobnost může implikovat </a:t>
            </a:r>
            <a:r>
              <a:rPr b="0" lang="cs-CZ" sz="2800" spc="-1" strike="noStrike">
                <a:solidFill>
                  <a:srgbClr val="ffff00"/>
                </a:solidFill>
                <a:latin typeface="Tahoma"/>
              </a:rPr>
              <a:t>funkci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Členění klasifikačních schémat je závislé na filosofii použité k jejich vytvoření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klasifikac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Modelování struktury protein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Teori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- úvod do struktury proteinů, databází proteinových struktur a jejich modelov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Demonstrac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- modelování protein-ligandových interakcí, dynamiky proteinů a enzymatických reakc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klasifikac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609480" y="12193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SCOP - Structural Classification of Protein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vinuta v MRC Laboratory of Molecular Biolog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kládání nových struktur: kombinací manuálních a automatických metod (zařazení komplikováno multi-doménovými proteiny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fold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fold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 = stejné sekundární elementy ve stejném uspořádání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nez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ávislé na evolučním původu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super-rodina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superfamily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= nízká sekvenční identita, ale společný evoluční původ zřejmý ze shodné struktury a funkc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rodina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family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= sekvenční identita &gt;30%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Informace o záznamu ve SCOP databáz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52" name="Picture 5" descr="C:\Dokumenty\VYUKA\Bioinformatics\SCAN\scop_entry.bmp"/>
          <p:cNvPicPr/>
          <p:nvPr/>
        </p:nvPicPr>
        <p:blipFill>
          <a:blip r:embed="rId1"/>
          <a:stretch/>
        </p:blipFill>
        <p:spPr>
          <a:xfrm>
            <a:off x="457200" y="1019160"/>
            <a:ext cx="826776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sekund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lgoritmy přiřadí s jakou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ravděpodobností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se na dané pozici v sekvenci bude vyskytovat </a:t>
            </a:r>
            <a:r>
              <a:rPr b="0" lang="cs-CZ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šroubovice, </a:t>
            </a:r>
            <a:r>
              <a:rPr b="0" lang="cs-CZ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řetězec, otočka nebo náhodná smyčk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etody: statistické, stereochemické a metody založené na homologii. Veškeré metody využívají pravidla formulovaná ze studia experimentálně určených 3D struktur. Moderní metody využívají informaci získanou z mnohonásobného přiložení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polehlivost nejlepších metod je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&gt;70%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sekund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Chou-Fasman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G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atistické - jednotlivé aminokyseliny vykazují rozdílnou preferenci pro různé sekundární elemen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NNSSP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PREDA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atistické - analýza nejbližšího souse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HD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NNPredi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omologní (neuronové sítě) - pravidla pro predikci jsou vytvořena automaticky trénováním neuronové sít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JPR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edikce vychází z </a:t>
            </a: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konsensu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několika různých meto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vyu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žívá mnohonásobné přiložení sekvenc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rovnání predikcí sekundárních elementů různými metodam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58" name="Picture 1027" descr="C:\Dokumenty\VYUKA\Bioinformatics\SCAN\11_3_fig_baxevanis.bmp"/>
          <p:cNvPicPr/>
          <p:nvPr/>
        </p:nvPicPr>
        <p:blipFill>
          <a:blip r:embed="rId1"/>
          <a:stretch/>
        </p:blipFill>
        <p:spPr>
          <a:xfrm>
            <a:off x="304920" y="1066680"/>
            <a:ext cx="845820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proteinového foldu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Navléká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angl. thread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avlékání = rozpoznání a přiřazení proteinového fold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cílová sekvence je porovnávána s databází foldů (resp. jejich 3D profilů) a konstruovány jsou mode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3D profi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- každému zbytku v 3D struktuře je přiřazena environmentální proměnná (skrytá plocha, část postranního řetězce obsahující polární atomy, sekund. elementy, apod.).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Předpoklad - okolí zbytku je více konzervováno než zbytek samotn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bytek může být rovněž popsán pomocí svých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interakc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hoda cílové sekvence s 3D profilem (kvalita modelu) je popsána pomocí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Z-skóre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energ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limitace: nelze aplikovat na multi-doménové protein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ozpoznání proteinového foldu navlékáním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62" name="Picture 10" descr="C:\Dokumenty\VYUKA\Bioinformatics\SCAN\4_4_higgins.bmp"/>
          <p:cNvPicPr/>
          <p:nvPr/>
        </p:nvPicPr>
        <p:blipFill>
          <a:blip r:embed="rId1"/>
          <a:stretch/>
        </p:blipFill>
        <p:spPr>
          <a:xfrm>
            <a:off x="2238480" y="928800"/>
            <a:ext cx="4719600" cy="57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proteinového foldu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Bioinbg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užívá konsensus predikcí 5 různých algoritm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3D-PS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kórovací funkce: 1D-PSSMs (sekvenční profily získány z relativně úzce příbuzných proteinů), 3D-PSSMs (obecnější profily obsahující vzdálenější příbuzné), přiřazení sekundárních elementů a dostupnost solventu jednotlivým pozicím v sekvenc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GenThrea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ybridní metoda: přiložení založené na profilech, hodnocení přiložení navlékáním, hodnocení modelů z navlékání neuronovou sít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terci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3399"/>
                </a:solidFill>
                <a:latin typeface="Tahoma"/>
              </a:rPr>
              <a:t>Ab init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3D struktura proteinu je předpovězena s využitím základních principů chemie a fyziky (hledání struktury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 globálním minimu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oučasné algoritmy nejsou příliš spolehliv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Homologní modelová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angl. homology modell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1. přiložení cílové sekvence se sekvencemi homologních proteinů se známou 3D strukturou (templát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2. extrakce uhlíkové páteře ze struktury templátu a umístění postranních řetěz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3. modelování otoček a smyče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4. upřesnění a validace modelované struktu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762120" y="3049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ROSETTA, ROBETTA, ROBETTA@hom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1812960" cy="5181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"/>
          <p:cNvPicPr/>
          <p:nvPr/>
        </p:nvPicPr>
        <p:blipFill>
          <a:blip r:embed="rId2"/>
          <a:stretch/>
        </p:blipFill>
        <p:spPr>
          <a:xfrm>
            <a:off x="4038480" y="2286000"/>
            <a:ext cx="403884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Teorie - modelování struktury protein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úvod do struktury protein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atabáze proteinových strukt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sekundární struktur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proteinového fol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terciární struk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protein-ligandových komplex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terci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SWISS-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lně automatický modelovací serv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stup = proteinová sekvence; výstup =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1. hledání potenciálních templátů v ExNRL-3D pomocí BLASTP; 2. výběr všech templátů se sekvenční identitou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25%; 3. konstrukce modelů 3D struktur; 4. energetická minimalizace modelů programem GRO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va módy: první test a optimalizovaný (příprava vstupu a analýza výstupu programem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Swiss-PDBViewer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MODEL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jvíce rozšířený akademický program pro homologní modelování (volně dostupn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protein-ligand komplex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Doková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angl. dock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mísťování malých organických molekul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ligandů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 do aktivních center proteinů nebo do žlábků DNA moleku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áhodně generované orientace a konformace ligandu v blízkosti biomolekuly jsou hodnoceny geometrickými nebo/a energetickými skórovacímy funkcem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tein-ligand interakční energie = van der Waalsova energie + elektrostatická energie + energie vodíkové vazby + entrop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flexibilní dokování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- hodnoceny jsou různé konformace ligandu a různé rotamery postranních řetěz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oftware: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DOCK, AUTODOCK, FLE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Úvod do struktury protein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oteiny se skládají z aminokyselin vzájemně spojených peptidovou vazbou. V proteinech se přirozeně vyskytuje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20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různých aminokyseli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rukturu proteinů lze experimentálně určit rentgenovou analýzou, nukleární magnetickou rezonancí a elektronovou kryokrystalografií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Úrovně struktury proteinů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primární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sekundární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terciární struktura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kvartérní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chéma aminokyseliny (a) a polypeptidového řetězce (b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5" name="Picture 9" descr="C:\Dokumenty\VYUKA\Bioinformatics\SCAN\1_2_branden.bmp"/>
          <p:cNvPicPr/>
          <p:nvPr/>
        </p:nvPicPr>
        <p:blipFill>
          <a:blip r:embed="rId1"/>
          <a:stretch/>
        </p:blipFill>
        <p:spPr>
          <a:xfrm>
            <a:off x="2590920" y="990720"/>
            <a:ext cx="36925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stranní řetězce 20-ti základních aminokyseli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7" name="Picture 6" descr="C:\Dokumenty\VYUKA\Bioinformatics\SCAN\1_1_creighton.bmp"/>
          <p:cNvPicPr/>
          <p:nvPr/>
        </p:nvPicPr>
        <p:blipFill>
          <a:blip r:embed="rId1"/>
          <a:stretch/>
        </p:blipFill>
        <p:spPr>
          <a:xfrm>
            <a:off x="2514600" y="685800"/>
            <a:ext cx="38973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Úrovně struktury proteinů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9" name="Picture 1028" descr="C:\Dokumenty\VYUKA\Bioinformatics\SCAN\1_1_branden.bmp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ynchrotr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11" name="Picture 4" descr="C:\Dokumenty\VYUKA\Bioinformatics\SCAN\0_0_branden.bmp"/>
          <p:cNvPicPr/>
          <p:nvPr/>
        </p:nvPicPr>
        <p:blipFill>
          <a:blip r:embed="rId1"/>
          <a:stretch/>
        </p:blipFill>
        <p:spPr>
          <a:xfrm>
            <a:off x="1295280" y="1066680"/>
            <a:ext cx="6553440" cy="47246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609480" y="594360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European Synchrotron Radiation Facility v Grenoble, Francie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DB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DBs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533520" y="3429000"/>
            <a:ext cx="8610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klasifikace proteinových struktur</a:t>
            </a:r>
            <a:endParaRPr b="0" lang="en-US" sz="35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609480" y="4343400"/>
            <a:ext cx="81536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COP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CATCH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4T09:18:38Z</dcterms:created>
  <dc:creator>Jiří Damborský</dc:creator>
  <dc:description/>
  <dc:language>en-US</dc:language>
  <cp:lastModifiedBy>uzivatel</cp:lastModifiedBy>
  <cp:lastPrinted>2002-01-08T21:13:03Z</cp:lastPrinted>
  <dcterms:modified xsi:type="dcterms:W3CDTF">2009-12-01T07:32:13Z</dcterms:modified>
  <cp:revision>30</cp:revision>
  <dc:subject/>
  <dc:title> Bioinformatics</dc:title>
</cp:coreProperties>
</file>