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2.png" ContentType="image/png"/>
  <Override PartName="/ppt/media/image7.png" ContentType="image/png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28080" y="0"/>
            <a:ext cx="3040200" cy="503280"/>
          </a:xfrm>
          <a:prstGeom prst="rect">
            <a:avLst/>
          </a:prstGeom>
          <a:noFill/>
          <a:ln w="0">
            <a:noFill/>
          </a:ln>
        </p:spPr>
        <p:txBody>
          <a:bodyPr lIns="20520" rIns="205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029120" y="0"/>
            <a:ext cx="3039840" cy="503280"/>
          </a:xfrm>
          <a:prstGeom prst="rect">
            <a:avLst/>
          </a:prstGeom>
          <a:noFill/>
          <a:ln w="0">
            <a:noFill/>
          </a:ln>
        </p:spPr>
        <p:txBody>
          <a:bodyPr lIns="20520" rIns="205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85320" y="762120"/>
            <a:ext cx="5126040" cy="3844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28080" y="9731160"/>
            <a:ext cx="3040200" cy="502920"/>
          </a:xfrm>
          <a:prstGeom prst="rect">
            <a:avLst/>
          </a:prstGeom>
          <a:noFill/>
          <a:ln w="0">
            <a:noFill/>
          </a:ln>
        </p:spPr>
        <p:txBody>
          <a:bodyPr lIns="20520" rIns="2052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4029120" y="9731160"/>
            <a:ext cx="3039840" cy="502920"/>
          </a:xfrm>
          <a:prstGeom prst="rect">
            <a:avLst/>
          </a:prstGeom>
          <a:noFill/>
          <a:ln w="0">
            <a:noFill/>
          </a:ln>
        </p:spPr>
        <p:txBody>
          <a:bodyPr lIns="20520" rIns="2052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  <a:defRPr b="0" i="1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C37D7A0E-099A-4A68-8404-B4578AD2990F}" type="slidenum">
              <a:rPr b="0" i="1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05471F59-B54F-48A0-BF93-2ECD75F78F30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5A16173A-2EED-4483-B0DE-9B609FE30D37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E1F77602-1579-4DE4-8A69-2291D7676E96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ader records - description of protein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JNRL - bibliographic record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REMARK - experimental detail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EQRES - amino acid sequence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T - formula/name for hetero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LIX/SHEET - description of secondary element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CR</a:t>
            </a: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YST/ORIG/SCALE - crystal unit cell parameter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ATOM - coordinates of protein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HETATOM - coordinates of ligand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CONECT - bond connectivity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END - terminator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67EDAF7D-D081-4A0B-B87E-BDDCC20E1648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ader records - description of protein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JNRL - bibliographic record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REMARK - experimental detail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EQRES - amino acid sequence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T - formula/name for hetero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LIX/SHEET - description of secondary element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CR</a:t>
            </a: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YST/ORIG/SCALE - crystal unit cell parameter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ATOM - coordinates of protein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HETATOM - coordinates of ligand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CONECT - bond connectivity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END - terminator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46DEBFFE-23D1-4D77-A009-3B02E9D9E157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ader records - description of protein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JNRL - bibliographic record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REMARK - experimental detail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EQRES - amino acid sequence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T - formula/name for hetero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LIX/SHEET - description of secondary element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CR</a:t>
            </a: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YST/ORIG/SCALE - crystal unit cell parameter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ATOM - coordinates of protein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HETATOM - coordinates of ligand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CONECT - bond connectivity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END - terminator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1698AACB-087D-4FA8-9D11-A6482C62988B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ader records - description of protein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JNRL - bibliographic record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REMARK - experimental detail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EQRES - amino acid sequence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T - formula/name for hetero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LIX/SHEET - description of secondary element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CR</a:t>
            </a: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YST/ORIG/SCALE - crystal unit cell parameter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ATOM - coordinates of protein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HETATOM - coordinates of ligand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CONECT - bond connectivity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END - terminator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3DB910FA-3256-46FA-912A-6C519BC568ED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12" name="Rectangle 3"/>
          <p:cNvSpPr/>
          <p:nvPr/>
        </p:nvSpPr>
        <p:spPr>
          <a:xfrm>
            <a:off x="1068480" y="5024520"/>
            <a:ext cx="5279760" cy="46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Resolution = the extent to which closely juxtaposed objects can be distinguished as separate entities (determined by wavelength of electromagnetic radiation used)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R-factor = expresses the extent of agreement between theoretical calculations and the measured data (R means Residual or Reliability)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87464581-8D45-4519-B9BD-FD1AF904F1B8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1B72FFF4-C940-4E7A-AE2D-231134757851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0588716A-3AF0-4797-BB0F-2925F3168165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230FAAB6-6A40-404E-95FD-0244120E9671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Introduction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- what is it Bioinformatics? why is it important? history: manual sequencing (1 sequence/year), automated (1 sequence/min); sequence/structure deficit ... analysis of sequences to deduce function; secondary and tertiary structure prediction reliability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Information networks -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Internet; WWW; service providers; browsers; software for linking and distributing databases; web addresses on Bioinformatic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Protein information resources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- protein databases; data levels - primary, secondary and tertiary; formats of most common databases (SWISS-PROT, PROSITE); evolution of composite databases and integrated database project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Genome information resources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- DNA sequence databases (GenBank, EMBL, DDBJ); genome information resources; formats of most common databases 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DNA sequence analysis -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 motivation and concepts; hierarchy of genomic information; expressed sequence tag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Pairwise sequence alignment -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algorithms; significance analysis; concept of identity and similarity; concept of local and global similarity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Multiple sequence alignment -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algorithms;</a:t>
            </a: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earch for gene families; identification of conserved family characteristics and motif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Secondary database searching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 - type of information: regular expressions, profiles, fingerprints, blocks, Hidden Markov Model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Analysis packages -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tand-alone suites; GCG; Staden; Vector NTI; CINEMA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Protein structure modelling -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protein structure; structural databases; prediction of secondary and tertiary structure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ACD9FEE8-9F0A-4464-BB30-493867C6592B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25" name="Rectangle 3"/>
          <p:cNvSpPr/>
          <p:nvPr/>
        </p:nvSpPr>
        <p:spPr>
          <a:xfrm>
            <a:off x="1068480" y="5024520"/>
            <a:ext cx="5279760" cy="46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eed sequence - scan database - new sequences added - news scan - etc.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5EDCE44C-70E2-44E0-9F81-BDE3CB840F0C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9A8E8850-3824-43BD-87CF-28493651CBC8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17DC8001-2CE7-4108-8C2A-242379C3CC31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CB6B30AD-49EC-48DB-9FCB-3FC41F8DB6F3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75880" y="4350960"/>
            <a:ext cx="5661000" cy="5459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AD3565B0-CCD7-48B4-9000-CCD540187A4C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E95E0BD6-F0D0-4494-9F82-0F5344742335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63E9DC66-F163-4622-B4AD-346DFBA432B2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33A2AF51-3F13-4FFC-9FAE-61B7B162A886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6040B1C9-11C7-475D-8C00-7B17AEFA2AF5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76320" y="790560"/>
            <a:ext cx="5129280" cy="38466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tructural databases; threading; prediction of secondary, tertiary and quaternary structures; calculation of properties; homology modelling; docking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47DBE6F8-54B8-4D7D-B307-BEB06469917B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1CCC0421-DFC1-4251-80A1-5C27C974BBE8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7CEB53A1-BDEA-4156-9947-2649E802CBD7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F0F32394-47FE-4C8C-80EE-734A54A93D74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140CFC50-CDF3-4F9B-B889-45E06E901AD4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72EF95FB-AEC4-49B6-9294-CC10B6FFDC86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DA16-F091-4280-80A9-0F34A7C95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5195-8F4D-4727-9DE7-A13FC6088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D05C-7810-4F29-B7F9-F3695F58C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60FB-4299-4115-AF72-A1EA97237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AF1EE-889D-47AF-AEE1-1C37AD644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27A14-ACD2-420D-B5EF-CC33E713A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0EDFE-4BB6-4A57-8589-26AADF4A4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4F88A-3131-4D91-AF4A-9DE3169BD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83B7C-BE8C-44F8-AA09-EF5681A23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CE2A5-BEC5-4612-BA49-B8FD72E67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A5CFE-BAF7-45BE-91B7-4AA2CF4E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00E6-CA75-42B7-A998-748EEBC2E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36395-6D75-4223-86C2-364155361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10E41-B4DF-4DF8-A2EE-E49172EC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A8920-6FE2-4588-8ADA-E1A1E1CC6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B9398-26E2-4EFF-8608-331786870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7FF1A-71A9-45C2-A612-E6A3F320C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63BE-67AD-482C-B9A5-4479D2755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E1D5-AED3-44A3-982B-9C15E3635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7FC7-CA48-412E-8A17-61BBF17DB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825D-1FF6-45B3-9AB3-C066180BA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0915-30E0-4395-9C6E-C5703327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E566-7728-4F71-A5C4-1F77009B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1946-814E-4B85-B02A-A69D6BDA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6480"/>
            <a:ext cx="9144000" cy="6267240"/>
            <a:chOff x="0" y="6480"/>
            <a:chExt cx="9144000" cy="6267240"/>
          </a:xfrm>
        </p:grpSpPr>
        <p:sp>
          <p:nvSpPr>
            <p:cNvPr id="1" name="Rectangle 2"/>
            <p:cNvSpPr/>
            <p:nvPr/>
          </p:nvSpPr>
          <p:spPr>
            <a:xfrm>
              <a:off x="0" y="6480"/>
              <a:ext cx="8567640" cy="62672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474840" y="1482840"/>
              <a:ext cx="8669160" cy="856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99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9999ff"/>
                </a:solidFill>
                <a:latin typeface="Times New Roman C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4DB0A-B882-4FF0-837F-4DBDF58DA2DF}" type="slidenum">
              <a:rPr b="0" lang="cs-CZ" sz="1400" spc="-1" strike="noStrike">
                <a:solidFill>
                  <a:srgbClr val="9999ff"/>
                </a:solidFill>
                <a:latin typeface="Times New Roman C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4"/>
          <p:cNvGrpSpPr/>
          <p:nvPr/>
        </p:nvGrpSpPr>
        <p:grpSpPr>
          <a:xfrm>
            <a:off x="0" y="6480"/>
            <a:ext cx="9142560" cy="6267240"/>
            <a:chOff x="0" y="6480"/>
            <a:chExt cx="9142560" cy="6267240"/>
          </a:xfrm>
        </p:grpSpPr>
        <p:sp>
          <p:nvSpPr>
            <p:cNvPr id="45" name="Rectangle 2"/>
            <p:cNvSpPr/>
            <p:nvPr/>
          </p:nvSpPr>
          <p:spPr>
            <a:xfrm>
              <a:off x="0" y="6480"/>
              <a:ext cx="8567640" cy="62672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6" name="Rectangle 3"/>
            <p:cNvSpPr/>
            <p:nvPr/>
          </p:nvSpPr>
          <p:spPr>
            <a:xfrm>
              <a:off x="471600" y="3159000"/>
              <a:ext cx="8670960" cy="856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99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9999ff"/>
                </a:solidFill>
                <a:latin typeface="Times New Roman C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5D3A7-E092-4B83-B309-B9997813223C}" type="slidenum">
              <a:rPr b="0" lang="cs-CZ" sz="1400" spc="-1" strike="noStrike">
                <a:solidFill>
                  <a:srgbClr val="9999ff"/>
                </a:solidFill>
                <a:latin typeface="Times New Roman C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838224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cs-CZ" sz="4600" spc="-1" strike="noStrike">
                <a:solidFill>
                  <a:srgbClr val="ffff00"/>
                </a:solidFill>
                <a:latin typeface="Tahoma"/>
              </a:rPr>
              <a:t>Modelování struktury proteinů</a:t>
            </a:r>
            <a:endParaRPr b="0" lang="en-US" sz="4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09480" y="3580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Jiří Damborsk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Loschmidtovy laborato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ře, Masarykova univerzi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Rectangle 3076"/>
          <p:cNvSpPr/>
          <p:nvPr/>
        </p:nvSpPr>
        <p:spPr>
          <a:xfrm>
            <a:off x="609480" y="5257800"/>
            <a:ext cx="7848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Kamenice 5/A4, 2.32, tel. 5-4949 3467, jiri@chemi.muni.cz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00"/>
                </a:solidFill>
                <a:latin typeface="Tahoma"/>
              </a:rPr>
              <a:t>Databáze proteinových struktur</a:t>
            </a:r>
            <a:endParaRPr b="0" lang="en-US" sz="35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609480" y="1143000"/>
            <a:ext cx="85345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PDB - Protein Data Bank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yvinuta v Brookhaven National Laboratory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yní udržována v Research Collaboratory for Structural Bioinformatics (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RSCB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větový depozitář 3D proteinových struktur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truktury z krystalografické analýzy (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80%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, nukleární magnetické resonance (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16%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 a modelování (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2%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truktury uloženy jako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jednoduché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(angl. flat) soubory obsahující část informační a část koordinátovou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truktury mají jedinečný identifikační kód -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PDB-ID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umožňuje hledat struktury pomocí klíčových slov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umožňuje interaktivně prohlížet struktury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Informace o záznamu v PDB databázi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2286000" y="4038480"/>
            <a:ext cx="152280" cy="129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5257800" y="5105520"/>
            <a:ext cx="304920" cy="75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22" name="Picture 5" descr="C:\Dokumenty\VYUKA\Bioinformatics\SCAN\pdb_entry.bmp"/>
          <p:cNvPicPr/>
          <p:nvPr/>
        </p:nvPicPr>
        <p:blipFill>
          <a:blip r:embed="rId1"/>
          <a:stretch/>
        </p:blipFill>
        <p:spPr>
          <a:xfrm>
            <a:off x="762120" y="838080"/>
            <a:ext cx="7543800" cy="55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Záznam v PDB databázi (hlavička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124" name="Object 0"/>
          <p:cNvGraphicFramePr/>
          <p:nvPr/>
        </p:nvGraphicFramePr>
        <p:xfrm>
          <a:off x="1828800" y="914400"/>
          <a:ext cx="7010280" cy="54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914400"/>
                    <a:ext cx="7010280" cy="54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Záznam v PDB databázi (krystalografické informace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127" name="Object 6"/>
          <p:cNvGraphicFramePr/>
          <p:nvPr/>
        </p:nvGraphicFramePr>
        <p:xfrm>
          <a:off x="1447920" y="965160"/>
          <a:ext cx="7543800" cy="507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965160"/>
                    <a:ext cx="7543800" cy="507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Záznam v PDB databázi (sekvence, sekundární elementy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130" name="Object 0"/>
          <p:cNvGraphicFramePr/>
          <p:nvPr/>
        </p:nvGraphicFramePr>
        <p:xfrm>
          <a:off x="1523880" y="990720"/>
          <a:ext cx="7315200" cy="5232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990720"/>
                    <a:ext cx="7315200" cy="52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Záznam v PDB databázi (koordináty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133" name="Object 2048"/>
          <p:cNvGraphicFramePr/>
          <p:nvPr/>
        </p:nvGraphicFramePr>
        <p:xfrm>
          <a:off x="1447920" y="838080"/>
          <a:ext cx="7162560" cy="5745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4" name="Object 204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838080"/>
                    <a:ext cx="7162560" cy="574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00"/>
                </a:solidFill>
                <a:latin typeface="Tahoma"/>
              </a:rPr>
              <a:t>Databáze proteinových struktur</a:t>
            </a:r>
            <a:endParaRPr b="0" lang="en-US" sz="35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609480" y="1219320"/>
            <a:ext cx="8305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PDBsum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yvinuta na University College London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souhrn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analýza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roteinových struktur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(sekundární databáze odvozená z PDB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ouhrn PDB struktur: rozlišení, R-faktor,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očet proteinových řetězců, topologie,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ligandy, ionty těžkých kovů, apod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nalýza PDB struktur: protein-iont a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rotein-ligand interakce, validace struktur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oskytuje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odkazy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do mnoha dalších databází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Informace o záznamu v PDBsum databázi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2286000" y="4038480"/>
            <a:ext cx="152280" cy="129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5257800" y="5105520"/>
            <a:ext cx="304920" cy="75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40" name="Picture 5" descr="C:\Dokumenty\VYUKA\Bioinformatics\SCAN\pdbsum.bmp"/>
          <p:cNvPicPr/>
          <p:nvPr/>
        </p:nvPicPr>
        <p:blipFill>
          <a:blip r:embed="rId1"/>
          <a:stretch/>
        </p:blipFill>
        <p:spPr>
          <a:xfrm>
            <a:off x="838080" y="838080"/>
            <a:ext cx="73821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Záznam v PDBsum databázi (sekundární elementy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2" name="Rectangle 2051"/>
          <p:cNvSpPr/>
          <p:nvPr/>
        </p:nvSpPr>
        <p:spPr>
          <a:xfrm>
            <a:off x="2286000" y="4038480"/>
            <a:ext cx="152280" cy="129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3" name="Rectangle 2052"/>
          <p:cNvSpPr/>
          <p:nvPr/>
        </p:nvSpPr>
        <p:spPr>
          <a:xfrm>
            <a:off x="5257800" y="5105520"/>
            <a:ext cx="304920" cy="75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44" name="Picture 2053" descr="C:\Dokumenty\VYUKA\Bioinformatics\SCAN\pdbsum_secondary.BMP"/>
          <p:cNvPicPr/>
          <p:nvPr/>
        </p:nvPicPr>
        <p:blipFill>
          <a:blip r:embed="rId1"/>
          <a:stretch/>
        </p:blipFill>
        <p:spPr>
          <a:xfrm>
            <a:off x="838080" y="914400"/>
            <a:ext cx="73821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457200" y="1371600"/>
            <a:ext cx="79246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Klasifikací proteinových struktur se snažíme postihnout jejich strukturní podobnost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trukturní podobnost (homologie) proteinů přímo souvisí s </a:t>
            </a:r>
            <a:r>
              <a:rPr b="0" lang="cs-CZ" sz="2800" spc="-1" strike="noStrike">
                <a:solidFill>
                  <a:srgbClr val="ffff00"/>
                </a:solidFill>
                <a:latin typeface="Tahoma"/>
              </a:rPr>
              <a:t>evolucí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trukturní podobnost může implikovat </a:t>
            </a:r>
            <a:r>
              <a:rPr b="0" lang="cs-CZ" sz="2800" spc="-1" strike="noStrike">
                <a:solidFill>
                  <a:srgbClr val="ffff00"/>
                </a:solidFill>
                <a:latin typeface="Tahoma"/>
              </a:rPr>
              <a:t>funkci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Členění klasifikačních schémat je závislé na filosofii použité k jejich vytvoření.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610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00"/>
                </a:solidFill>
                <a:latin typeface="Tahoma"/>
              </a:rPr>
              <a:t>Databáze klasifikace proteinových struktur</a:t>
            </a:r>
            <a:endParaRPr b="0" lang="en-US" sz="35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Modelování struktury proteinů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Teorie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- úvod do struktury proteinů, databází proteinových struktur a jejich modelová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Demonstrace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- modelování protein-ligandových interakcí, dynamiky proteinů a enzymatických reakc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610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00"/>
                </a:solidFill>
                <a:latin typeface="Tahoma"/>
              </a:rPr>
              <a:t>Databáze klasifikace proteinových struktur</a:t>
            </a:r>
            <a:endParaRPr b="0" lang="en-US" sz="35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609480" y="121932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SCOP - Structural Classification of Protein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yvinuta v MRC Laboratory of Molecular Biology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kládání nových struktur: kombinací manuálních a automatických metod (zařazení komplikováno multi-doménovými proteiny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fold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(angl.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 fold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 = stejné sekundární elementy ve stejném uspořádání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; nez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ávislé na evolučním původu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super-rodina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(angl.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 superfamily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= nízká sekvenční identita, ale společný evoluční původ zřejmý ze shodné struktury a funkc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rodina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(angl.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family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= sekvenční identita &gt;30%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Informace o záznamu ve SCOP databázi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2286000" y="4038480"/>
            <a:ext cx="152280" cy="129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5257800" y="5105520"/>
            <a:ext cx="304920" cy="75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52" name="Picture 5" descr="C:\Dokumenty\VYUKA\Bioinformatics\SCAN\scop_entry.bmp"/>
          <p:cNvPicPr/>
          <p:nvPr/>
        </p:nvPicPr>
        <p:blipFill>
          <a:blip r:embed="rId1"/>
          <a:stretch/>
        </p:blipFill>
        <p:spPr>
          <a:xfrm>
            <a:off x="457200" y="1019160"/>
            <a:ext cx="826776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Predikce sekundární struktury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lgoritmy přiřadí s jakou 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pravděpodobností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se na dané pozici v sekvenci bude vyskytovat </a:t>
            </a:r>
            <a:r>
              <a:rPr b="0" lang="cs-CZ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-šroubovice, </a:t>
            </a:r>
            <a:r>
              <a:rPr b="0" lang="cs-CZ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-řetězec, otočka nebo náhodná smyčk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Metody: statistické, stereochemické a metody založené na homologii. Veškeré metody využívají pravidla formulovaná ze studia experimentálně určených 3D struktur. Moderní metody využívají informaci získanou z mnohonásobného přiložení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polehlivost nejlepších metod je 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&gt;70%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Predikce sekundární struktury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Chou-Fasman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 G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tatistické - jednotlivé aminokyseliny vykazují rozdílnou preferenci pro různé sekundární elemen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NNSSP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 PREDA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tatistické - analýza nejbližšího souse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PHD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 NNPredi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homologní (neuronové sítě) - pravidla pro predikci jsou vytvořena automaticky trénováním neuronové sítě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JPR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redikce vychází z </a:t>
            </a:r>
            <a:r>
              <a:rPr b="0" lang="cs-CZ" sz="2400" spc="-1" strike="noStrike">
                <a:solidFill>
                  <a:srgbClr val="ff3399"/>
                </a:solidFill>
                <a:latin typeface="Tahoma"/>
              </a:rPr>
              <a:t>konsensu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několika různých meto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; vyu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žívá mnohonásobné přiložení sekvenc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rovnání predikcí sekundárních elementů různými metodami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58" name="Picture 1027" descr="C:\Dokumenty\VYUKA\Bioinformatics\SCAN\11_3_fig_baxevanis.bmp"/>
          <p:cNvPicPr/>
          <p:nvPr/>
        </p:nvPicPr>
        <p:blipFill>
          <a:blip r:embed="rId1"/>
          <a:stretch/>
        </p:blipFill>
        <p:spPr>
          <a:xfrm>
            <a:off x="304920" y="1066680"/>
            <a:ext cx="8458200" cy="53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Predikce proteinového foldu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Navlékání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(angl. threadin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avlékání = rozpoznání a přiřazení proteinového fold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cílová sekvence je porovnávána s databází foldů (resp. jejich 3D profilů) a konstruovány jsou mode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3D profil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- každému zbytku v 3D struktuře je přiřazena environmentální proměnná (skrytá plocha, část postranního řetězce obsahující polární atomy, sekund. elementy, apod.).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Předpoklad - okolí zbytku je více konzervováno než zbytek samotn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bytek může být rovněž popsán pomocí svých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interakc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hoda cílové sekvence s 3D profilem (kvalita modelu) je popsána pomocí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Z-skóre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ebo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 energ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limitace: nelze aplikovat na multi-doménové protein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Rozpoznání proteinového foldu navlékáním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62" name="Picture 10" descr="C:\Dokumenty\VYUKA\Bioinformatics\SCAN\4_4_higgins.bmp"/>
          <p:cNvPicPr/>
          <p:nvPr/>
        </p:nvPicPr>
        <p:blipFill>
          <a:blip r:embed="rId1"/>
          <a:stretch/>
        </p:blipFill>
        <p:spPr>
          <a:xfrm>
            <a:off x="2238480" y="928800"/>
            <a:ext cx="4719600" cy="57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Predikce proteinového foldu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Bioinbg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oužívá konsensus predikcí 5 různých algoritm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3D-PS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kórovací funkce: 1D-PSSMs (sekvenční profily získány z relativně úzce příbuzných proteinů), 3D-PSSMs (obecnější profily obsahující vzdálenější příbuzné), přiřazení sekundárních elementů a dostupnost solventu jednotlivým pozicím v sekvenc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GenThrea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hybridní metoda: přiložení založené na profilech, hodnocení přiložení navlékáním, hodnocení modelů z navlékání neuronovou sít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Predikce terciární struktury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3399"/>
                </a:solidFill>
                <a:latin typeface="Tahoma"/>
              </a:rPr>
              <a:t>Ab init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3D struktura proteinu je předpovězena s využitím základních principů chemie a fyziky (hledání struktury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 globálním minimu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oučasné algoritmy nejsou příliš spolehliv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Homologní modelování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(angl. homology modellin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1. přiložení cílové sekvence se sekvencemi homologních proteinů se známou 3D strukturou (templáty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2. extrakce uhlíkové páteře ze struktury templátu a umístění postranních řetězc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3. modelování otoček a smyče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4. upřesnění a validace modelované struktu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762120" y="3049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ROSETTA, ROBETTA, ROBETTA@hom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1812960" cy="51818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"/>
          <p:cNvPicPr/>
          <p:nvPr/>
        </p:nvPicPr>
        <p:blipFill>
          <a:blip r:embed="rId2"/>
          <a:stretch/>
        </p:blipFill>
        <p:spPr>
          <a:xfrm>
            <a:off x="4038480" y="2286000"/>
            <a:ext cx="403884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Teorie - modelování struktury proteinů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úvod do struktury protein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databáze proteinových strukt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edikce sekundární struktur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edikce proteinového fold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edikce terciární struktu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edikce protein-ligandových komplex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Predikce terciární struktury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SWISS-MOD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lně automatický modelovací serv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stup = proteinová sekvence; výstup = struktu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1. hledání potenciálních templátů v ExNRL-3D pomocí BLASTP; 2. výběr všech templátů se sekvenční identitou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gt;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25%; 3. konstrukce modelů 3D struktur; 4. energetická minimalizace modelů programem GROM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dva módy: první test a optimalizovaný (příprava vstupu a analýza výstupu programem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Swiss-PDBViewer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MODELL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ejvíce rozšířený akademický program pro homologní modelování (volně dostupný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055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Predikce protein-ligand komplexů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Dokování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(angl. dockin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umísťování malých organických molekul (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ligandů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 do aktivních center proteinů nebo do žlábků DNA moleku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áhodně generované orientace a konformace ligandu v blízkosti biomolekuly jsou hodnoceny geometrickými nebo/a energetickými skórovacímy funkcem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rotein-ligand interakční energie = van der Waalsova energie + elektrostatická energie + energie vodíkové vazby + entrop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flexibilní dokování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- hodnoceny jsou různé konformace ligandu a různé rotamery postranních řetězc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oftware: 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DOCK, AUTODOCK, FLEX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Úvod do struktury proteinů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oteiny se skládají z aminokyselin vzájemně spojených peptidovou vazbou. V proteinech se přirozeně vyskytuje 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20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různých aminokyselin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trukturu proteinů lze experimentálně určit rentgenovou analýzou, nukleární magnetickou rezonancí a elektronovou kryokrystalografií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Úrovně struktury proteinů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3399"/>
                </a:solidFill>
                <a:latin typeface="Tahoma"/>
              </a:rPr>
              <a:t>primární struktu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3399"/>
                </a:solidFill>
                <a:latin typeface="Tahoma"/>
              </a:rPr>
              <a:t>sekundární struktu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3399"/>
                </a:solidFill>
                <a:latin typeface="Tahoma"/>
              </a:rPr>
              <a:t>terciární struktura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3399"/>
                </a:solidFill>
                <a:latin typeface="Tahoma"/>
              </a:rPr>
              <a:t>kvartérní struktu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chéma aminokyseliny (a) a polypeptidového řetězce (b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05" name="Picture 9" descr="C:\Dokumenty\VYUKA\Bioinformatics\SCAN\1_2_branden.bmp"/>
          <p:cNvPicPr/>
          <p:nvPr/>
        </p:nvPicPr>
        <p:blipFill>
          <a:blip r:embed="rId1"/>
          <a:stretch/>
        </p:blipFill>
        <p:spPr>
          <a:xfrm>
            <a:off x="2590920" y="990720"/>
            <a:ext cx="36925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ostranní řetězce 20-ti základních aminokyseli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07" name="Picture 6" descr="C:\Dokumenty\VYUKA\Bioinformatics\SCAN\1_1_creighton.bmp"/>
          <p:cNvPicPr/>
          <p:nvPr/>
        </p:nvPicPr>
        <p:blipFill>
          <a:blip r:embed="rId1"/>
          <a:stretch/>
        </p:blipFill>
        <p:spPr>
          <a:xfrm>
            <a:off x="2514600" y="685800"/>
            <a:ext cx="38973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Úrovně struktury proteinů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09" name="Picture 1028" descr="C:\Dokumenty\VYUKA\Bioinformatics\SCAN\1_1_branden.bmp"/>
          <p:cNvPicPr/>
          <p:nvPr/>
        </p:nvPicPr>
        <p:blipFill>
          <a:blip r:embed="rId1"/>
          <a:stretch/>
        </p:blipFill>
        <p:spPr>
          <a:xfrm>
            <a:off x="457200" y="1828800"/>
            <a:ext cx="822960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ynchrotro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11" name="Picture 4" descr="C:\Dokumenty\VYUKA\Bioinformatics\SCAN\0_0_branden.bmp"/>
          <p:cNvPicPr/>
          <p:nvPr/>
        </p:nvPicPr>
        <p:blipFill>
          <a:blip r:embed="rId1"/>
          <a:stretch/>
        </p:blipFill>
        <p:spPr>
          <a:xfrm>
            <a:off x="1295280" y="1066680"/>
            <a:ext cx="6553440" cy="472464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5"/>
          <p:cNvSpPr/>
          <p:nvPr/>
        </p:nvSpPr>
        <p:spPr>
          <a:xfrm>
            <a:off x="609480" y="594360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European Synchrotron Radiation Facility v Grenoble, Francie 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00"/>
                </a:solidFill>
                <a:latin typeface="Tahoma"/>
              </a:rPr>
              <a:t>Databáze proteinových struktur</a:t>
            </a:r>
            <a:endParaRPr b="0" lang="en-US" sz="35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DB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DBs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533520" y="3429000"/>
            <a:ext cx="8610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00"/>
                </a:solidFill>
                <a:latin typeface="Tahoma"/>
              </a:rPr>
              <a:t>Databáze klasifikace proteinových struktur</a:t>
            </a:r>
            <a:endParaRPr b="0" lang="en-US" sz="35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609480" y="4343400"/>
            <a:ext cx="81536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COP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CATCH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4T09:18:38Z</dcterms:created>
  <dc:creator>Jiří Damborský</dc:creator>
  <dc:description/>
  <dc:language>en-US</dc:language>
  <cp:lastModifiedBy>uzivatel</cp:lastModifiedBy>
  <cp:lastPrinted>2002-01-08T21:13:03Z</cp:lastPrinted>
  <dcterms:modified xsi:type="dcterms:W3CDTF">2009-12-01T07:32:13Z</dcterms:modified>
  <cp:revision>30</cp:revision>
  <dc:subject/>
  <dc:title> Bioinformatics</dc:title>
</cp:coreProperties>
</file>