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28080" y="0"/>
            <a:ext cx="304020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029120" y="0"/>
            <a:ext cx="3039840" cy="50328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85320" y="762120"/>
            <a:ext cx="5126040" cy="3844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28080" y="9731160"/>
            <a:ext cx="304020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4029120" y="9731160"/>
            <a:ext cx="3039840" cy="502920"/>
          </a:xfrm>
          <a:prstGeom prst="rect">
            <a:avLst/>
          </a:prstGeom>
          <a:noFill/>
          <a:ln w="0">
            <a:noFill/>
          </a:ln>
        </p:spPr>
        <p:txBody>
          <a:bodyPr lIns="20520" rIns="205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  <a:defRPr b="0" i="1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2945407-8C39-459F-AE1E-119AF7726F00}" type="slidenum">
              <a:rPr b="0" i="1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48A0BCC6-599F-4D4A-A83E-CEA3748477C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AC8F225-11AF-4852-9550-C382D129E02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3B70B8E-3725-4FA5-8854-1B64C748B28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409F666-896F-425D-B402-C2E3FD9CDAF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7D1D884-CA49-4623-8A49-F9DD9D2DF8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17EA4A3-1BEC-4CE2-B1FD-251391202E6C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ader records - description of protein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JNRL - bibliographic record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MARK - experimental detai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QRES - amino acid sequence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T - formula/name for hetero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HELIX/SHEET - description of secondary elemen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YST/ORIG/SCALE - crystal unit cell parameter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ATOM - coordinates of protein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HETATOM - coordinates of ligand atom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CONECT - bond connectiv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CE"/>
              </a:rPr>
              <a:t>END - terminator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C1A1B45F-A9C7-4B6C-B2F9-B107333F74C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12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esolution = the extent to which closely juxtaposed objects can be distinguished as separate entities (determined by wavelength of electromagnetic radiation used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R-factor = expresses the extent of agreement between theoretical calculations and the measured data (R means Residual or Reliability)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3C151A7-BAAA-4CBF-80BF-E957B61B11C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74F4AF8-9DC3-4AC7-887B-482F394F56D4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AF72150D-F5FD-432A-B12D-D640FA3EF376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518045C0-FD6B-46DA-9BEC-B551349FBA5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troduction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what is it Bioinformatics? why is it important? history: manual sequencing (1 sequence/year), automated (1 sequence/min); sequence/structure deficit ... analysis of sequences to deduce function; secondary and tertiary structure prediction reliabil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Information network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Internet; WWW; service providers; browsers; software for linking and distributing databases; web addresses on Bioinformatic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protein databases; data levels - primary, secondary and tertiary; formats of most common databases (SWISS-PROT, PROSITE); evolution of composite databases and integrated database project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Genome information resources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- DNA sequence databases (GenBank, EMBL, DDBJ); genome information resources; formats of most common databases 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DNA sequence analysis -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motivation and concepts; hierarchy of genomic information; expressed sequence tag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airwis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 significance analysis; concept of identity and similarity; concept of local and global similarity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Multiple sequence alignment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algorithms;</a:t>
            </a: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arch for gene families; identification of conserved family characteristics and motif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Secondary database searching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 - type of information: regular expressions, profiles, fingerprints, blocks, Hidden Markov Model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Analysis packages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and-alone suites; GCG; Staden; Vector NTI; CINEMA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Times New Roman CE"/>
              </a:rPr>
              <a:t>Protein structure modelling - </a:t>
            </a: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protein structure; structural databases; prediction of secondary and tertiary structures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87E65F1-75F8-4988-9135-645B06879002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25" name="Rectangle 3"/>
          <p:cNvSpPr/>
          <p:nvPr/>
        </p:nvSpPr>
        <p:spPr>
          <a:xfrm>
            <a:off x="1068480" y="5024520"/>
            <a:ext cx="5279760" cy="46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eed sequence - scan database - new sequences added - news scan - etc.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A2C970E-1E4F-41D5-A9DE-EFDDF7DF238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BA00E2-22FA-4508-9459-E1F8D0970655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9C91C678-5809-44B4-8AE7-33D6B07896D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7C206E3-AB09-47F2-A146-A258B8CC5B58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875880" y="4350960"/>
            <a:ext cx="5661000" cy="54594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F982988B-B83E-40BE-9D57-624BFAB3624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892B234-2370-4C46-A2E0-CC97334250B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21DEA4F-3FF0-406C-805B-1CD8633B35A3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7504AFF-2946-4A3F-8CFA-5AC2DD7448F7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3FE5FB-D970-4381-9CD9-2E4F6AD2667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76320" y="790560"/>
            <a:ext cx="5129280" cy="38466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CE"/>
              </a:rPr>
              <a:t>structural databases; threading; prediction of secondary, tertiary and quaternary structures; calculation of properties; homology modelling; docking</a:t>
            </a: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E98B3938-1B64-4AB9-8234-60EF7BF34E4B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B6DC032-3CF6-4A65-8172-908F8CC8DE6A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27156E09-7713-4511-B44C-3FDE2A1FE9AF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7EF61CDF-4547-48F6-83AF-C38A5FC28A0E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61B4481E-FB47-4891-B681-5A6E4F5613A1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76320" y="316080"/>
            <a:ext cx="5129280" cy="384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876240" y="4350960"/>
            <a:ext cx="5502240" cy="54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4029120" y="9731520"/>
            <a:ext cx="30398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520" rIns="20520" tIns="0" bIns="0" anchor="b">
            <a:noAutofit/>
          </a:bodyPr>
          <a:p>
            <a:pPr algn="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0C177438-6A58-4816-B94F-EE6913BBDA2D}" type="slidenum">
              <a:rPr b="0" i="1" lang="cs-CZ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85680" y="762120"/>
            <a:ext cx="5126040" cy="38448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7920" y="4865760"/>
            <a:ext cx="528192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 C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646-91BE-41E4-9DDF-2EFE253D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F4A-B3D6-454C-A269-CAF83EA2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961F-C53B-4D8D-B0B3-81224EC6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6AD-AC5C-41C2-A722-91C410DE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A9A1-A4F1-4DE4-8175-556AF2A1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89299-727E-40B3-B1CB-2CDADBA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C2AF-8880-4C24-B3A3-DD987EFA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43D9-1664-45EE-A37F-D284F245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78EC-83BF-41FE-85EB-27D6522F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546C-33C2-4A2A-B254-896BCEDF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794-977C-45A1-B8F9-8897233D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1DA-48CB-4256-BD3F-63DA2DDE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7C6E-FB11-4CCD-A97D-FD0CD2CB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9DE0-2C35-4C57-96E4-8CD7D4A3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5FCC6-040F-4DBE-9130-8B12BBEE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D9BD-93C0-4EBB-A911-BD695DEBD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152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89160" y="170172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152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89160" y="3837960"/>
            <a:ext cx="250236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07CA-ADE1-4A4E-B8A8-16E03C4F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7B0-8711-43DE-BA98-6A71039B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3F2-3140-4D55-8A2A-71453232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BD5-04AE-4886-B972-94EAF3BA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234720"/>
            <a:ext cx="77724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ED9-BD76-4B79-9E9E-1BA00BE8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E86-920F-429C-A14A-EF83FEEE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16200" y="383796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CE36-3A54-4AEF-A826-907B318A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16200" y="1701720"/>
            <a:ext cx="37926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837960"/>
            <a:ext cx="7772400" cy="195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C613-69B0-4669-A12F-F470D97D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6480"/>
            <a:ext cx="9144000" cy="6267240"/>
            <a:chOff x="0" y="6480"/>
            <a:chExt cx="9144000" cy="6267240"/>
          </a:xfrm>
        </p:grpSpPr>
        <p:sp>
          <p:nvSpPr>
            <p:cNvPr id="1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474840" y="1482840"/>
              <a:ext cx="86691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A582-3DF7-421D-AA25-342CBBD7EA40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4"/>
          <p:cNvGrpSpPr/>
          <p:nvPr/>
        </p:nvGrpSpPr>
        <p:grpSpPr>
          <a:xfrm>
            <a:off x="0" y="6480"/>
            <a:ext cx="9142560" cy="6267240"/>
            <a:chOff x="0" y="6480"/>
            <a:chExt cx="9142560" cy="6267240"/>
          </a:xfrm>
        </p:grpSpPr>
        <p:sp>
          <p:nvSpPr>
            <p:cNvPr id="45" name="Rectangle 2"/>
            <p:cNvSpPr/>
            <p:nvPr/>
          </p:nvSpPr>
          <p:spPr>
            <a:xfrm>
              <a:off x="0" y="6480"/>
              <a:ext cx="8567640" cy="6267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" name="Rectangle 3"/>
            <p:cNvSpPr/>
            <p:nvPr/>
          </p:nvSpPr>
          <p:spPr>
            <a:xfrm>
              <a:off x="471600" y="3159000"/>
              <a:ext cx="867096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34720"/>
            <a:ext cx="7772400" cy="113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520" y="1701720"/>
            <a:ext cx="77724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9999ff"/>
                </a:solidFill>
                <a:latin typeface="Times New Roman C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6E71-A510-4FC0-80B1-2FD7B638A586}" type="slidenum">
              <a:rPr b="0" lang="cs-CZ" sz="1400" spc="-1" strike="noStrike">
                <a:solidFill>
                  <a:srgbClr val="9999ff"/>
                </a:solidFill>
                <a:latin typeface="Times New Roman C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cs-CZ" sz="4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4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iří Damborsk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schmidtovy laborat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ře, Masarykova univerz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3076"/>
          <p:cNvSpPr/>
          <p:nvPr/>
        </p:nvSpPr>
        <p:spPr>
          <a:xfrm>
            <a:off x="609480" y="52578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Kamenice 5/A4, 2.32, tel. 5-4949 3467, jiri@chemi.muni.cz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09480" y="1143000"/>
            <a:ext cx="8534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 - Protein Data Ban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Brookhaven National Laborato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yní udržována v Research Collaboratory for Structural Bioinformatics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SCB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větový depozitář 3D 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z krystalografické analýzy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80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, nukleární magnetické resonance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16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a modelování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2%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uloženy jako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jednoduché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flat) soubory obsahující část informační a část koordinátovou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ruktury mají jedinečný identifikační kód -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DB-ID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hledat struktury pomocí klíčových slov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ožňuje interaktivně prohlížet struktur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5" descr="C:\Dokumenty\VYUKA\Bioinformatics\SCAN\pdb_entry.bmp"/>
          <p:cNvPicPr/>
          <p:nvPr/>
        </p:nvPicPr>
        <p:blipFill>
          <a:blip r:embed="rId1"/>
          <a:stretch/>
        </p:blipFill>
        <p:spPr>
          <a:xfrm>
            <a:off x="762120" y="838080"/>
            <a:ext cx="754380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hlavička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4" name="Object 0"/>
          <p:cNvGraphicFramePr/>
          <p:nvPr/>
        </p:nvGraphicFramePr>
        <p:xfrm>
          <a:off x="1828800" y="914400"/>
          <a:ext cx="7010280" cy="54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914400"/>
                    <a:ext cx="7010280" cy="54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rystalografické informace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27" name="Object 6"/>
          <p:cNvGraphicFramePr/>
          <p:nvPr/>
        </p:nvGraphicFramePr>
        <p:xfrm>
          <a:off x="1447920" y="965160"/>
          <a:ext cx="7543800" cy="507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965160"/>
                    <a:ext cx="75438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152280"/>
            <a:ext cx="838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sekvence, 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0" name="Object 0"/>
          <p:cNvGraphicFramePr/>
          <p:nvPr/>
        </p:nvGraphicFramePr>
        <p:xfrm>
          <a:off x="1523880" y="990720"/>
          <a:ext cx="7315200" cy="523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7315200" cy="523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 databázi (koordiná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33" name="Object 2048"/>
          <p:cNvGraphicFramePr/>
          <p:nvPr/>
        </p:nvGraphicFramePr>
        <p:xfrm>
          <a:off x="1447920" y="838080"/>
          <a:ext cx="7162560" cy="574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Object 20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838080"/>
                    <a:ext cx="716256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09480" y="12193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na University College London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ouhrn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analýz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ových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sekundární databáze odvozená z PDB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hrn PDB struktur: rozlišení, R-faktor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čet proteinových řetězců, topologie,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gandy, ionty těžkých kovů, apod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nalýza PDB struktur: protein-iont a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ce, validace struktu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skytuje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odkaz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do mnoha dalších databází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 PDBsum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5" descr="C:\Dokumenty\VYUKA\Bioinformatics\SCAN\pdbsum.bmp"/>
          <p:cNvPicPr/>
          <p:nvPr/>
        </p:nvPicPr>
        <p:blipFill>
          <a:blip r:embed="rId1"/>
          <a:stretch/>
        </p:blipFill>
        <p:spPr>
          <a:xfrm>
            <a:off x="838080" y="83808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Záznam v PDBsum databázi (sekundární elementy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2" name="Rectangle 2051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Rectangle 2052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4" name="Picture 2053" descr="C:\Dokumenty\VYUKA\Bioinformatics\SCAN\pdbsum_secondary.BMP"/>
          <p:cNvPicPr/>
          <p:nvPr/>
        </p:nvPicPr>
        <p:blipFill>
          <a:blip r:embed="rId1"/>
          <a:stretch/>
        </p:blipFill>
        <p:spPr>
          <a:xfrm>
            <a:off x="838080" y="914400"/>
            <a:ext cx="7382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57200" y="1371600"/>
            <a:ext cx="7924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Klasifikací proteinových struktur se snažíme postihnout jejich strukturní podobnost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(homologie) proteinů přímo souvisí s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evolucí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ní podobnost může implikovat </a:t>
            </a:r>
            <a:r>
              <a:rPr b="0" lang="cs-CZ" sz="2800" spc="-1" strike="noStrike">
                <a:solidFill>
                  <a:srgbClr val="ffff00"/>
                </a:solidFill>
                <a:latin typeface="Tahoma"/>
              </a:rPr>
              <a:t>funkci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Členění klasifikačních schémat je závislé na filosofii použité k jejich vytvoření.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Teori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úvod do struktury proteinů, databází proteinových struktur a jejich modelo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emonstrac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- modelování protein-ligandových interakcí, dynamiky proteinů a enzymatických reakc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610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6094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COP - Structural Classification of Protei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vinuta v MRC Laboratory of Molecular Biolog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kládání nových struktur: kombinací manuálních a automatických metod (zařazení komplikováno multi-doménovými proteiny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old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fold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= stejné sekundární elementy ve stejném uspořádání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ne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vislé na evolučním původu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uper-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super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nízká sekvenční identita, ale společný evoluční původ zřejmý ze shodné struktury a funkc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rodina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(angl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amily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= sekvenční identita &gt;30%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Informace o záznamu ve SCOP databáz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2286000" y="4038480"/>
            <a:ext cx="15228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5257800" y="5105520"/>
            <a:ext cx="304920" cy="75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52" name="Picture 5" descr="C:\Dokumenty\VYUKA\Bioinformatics\SCAN\scop_entry.bmp"/>
          <p:cNvPicPr/>
          <p:nvPr/>
        </p:nvPicPr>
        <p:blipFill>
          <a:blip r:embed="rId1"/>
          <a:stretch/>
        </p:blipFill>
        <p:spPr>
          <a:xfrm>
            <a:off x="457200" y="1019160"/>
            <a:ext cx="82677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lgoritmy přiřadí s jakou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ravděpodobností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se na dané pozici v sekvenci bude vyskytovat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šroubovice, </a:t>
            </a:r>
            <a:r>
              <a:rPr b="0" lang="cs-CZ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-řetězec, otočka nebo náhodná smyč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etody: statistické, stereochemické a metody založené na homologii. Veškeré metody využívají pravidla formulovaná ze studia experimentálně určených 3D struktur. Moderní metody využívají informaci získanou z mnohonásobného přiložen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polehlivost nejlepších metod 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&gt;70%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sekund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Chou-Fasman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G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jednotlivé aminokyseliny vykazují rozdílnou preferenci pro různé sekundární elemen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NSSP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PRED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tatistické - analýza nejbližšího souse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PHD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 NNPredi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omologní (neuronové sítě) - pravidla pro predikci jsou vytvořena automaticky trénováním neuronové sít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JP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edikce vychází z </a:t>
            </a: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onsens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několika různých meto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vyu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žívá mnohonásobné přiložení sekven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rovnání predikcí sekundárních elementů různými metodami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58" name="Picture 1027" descr="C:\Dokumenty\VYUKA\Bioinformatics\SCAN\11_3_fig_baxevanis.bmp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Navlék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thread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avlékání = rozpoznání a přiřazení proteinového fold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cílová sekvence je porovnávána s databází foldů (resp. jejich 3D profilů) a konstruovány jsou mode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3D profi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každému zbytku v 3D struktuře je přiřazena environmentální proměnná (skrytá plocha, část postranního řetězce obsahující polární atomy, sekund. elementy, apod.).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Předpoklad - okolí zbytku je více konzervováno než zbytek samotn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bytek může být rovněž popsán pomocí svých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interakc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hoda cílové sekvence s 3D profilem (kvalita modelu) je popsána pomocí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Z-skóre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 energ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limitace: nelze aplikovat na multi-doménové protein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Rozpoznání proteinového foldu navlékáním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62" name="Picture 10" descr="C:\Dokumenty\VYUKA\Bioinformatics\SCAN\4_4_higgins.bmp"/>
          <p:cNvPicPr/>
          <p:nvPr/>
        </p:nvPicPr>
        <p:blipFill>
          <a:blip r:embed="rId1"/>
          <a:stretch/>
        </p:blipFill>
        <p:spPr>
          <a:xfrm>
            <a:off x="2238480" y="928800"/>
            <a:ext cx="4719600" cy="57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ového foldu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Bioinbg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oužívá konsensus predikcí 5 různých algoritm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3D-PS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kórovací funkce: 1D-PSSMs (sekvenční profily získány z relativně úzce příbuzných proteinů), 3D-PSSMs (obecnější profily obsahující vzdálenější příbuzné), přiřazení sekundárních elementů a dostupnost solventu jednotlivým pozicím v sekvenc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GenThr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ybridní metoda: přiložení založené na profilech, hodnocení přiložení navlékáním, hodnocení modelů z navlékání neuronovou sít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3399"/>
                </a:solidFill>
                <a:latin typeface="Tahoma"/>
              </a:rPr>
              <a:t>Ab init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D struktura proteinu je předpovězena s využitím základních principů chemie a fyziky (hledání struktury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 globálním minimu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současné algoritmy nejsou příliš spolehliv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Homologní model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homology modell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přiložení cílové sekvence se sekvencemi homologních proteinů se známou 3D strukturou (templá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. extrakce uhlíkové páteře ze struktury templátu a umístění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3. modelování otoček a smyče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4. upřesnění a validace modelované struktu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762120" y="3049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ROSETTA, ROBETTA, ROBETTA@ho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1812960" cy="51818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tretch/>
        </p:blipFill>
        <p:spPr>
          <a:xfrm>
            <a:off x="4038480" y="2286000"/>
            <a:ext cx="403884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Teorie - modelování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vod do struktury protein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atabáze proteinových strukt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sekundární struktur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ového fol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terciární struk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edikce protein-ligandových komplex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terciární struktury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SWISS-MOD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lně automatický modelovací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stup = proteinová sekvence; výstup =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1. hledání potenciálních templátů v ExNRL-3D pomocí BLASTP; 2. výběr všech templátů se sekvenční identitou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25%; 3. konstrukce modelů 3D struktur; 4. energetická minimalizace modelů programem GRO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va módy: první test a optimalizovaný (příprava vstupu a analýza výstupu programem 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Swiss-PDBViewer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MODE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jvíce rozšířený akademický program pro homologní modelování (volně dostupn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Predikce protein-ligand komplex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ková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(angl. dock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umísťování malých organických molekul (</a:t>
            </a: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ligandů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) do aktivních center proteinů nebo do žlábků DNA molek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áhodně generované orientace a konformace ligandu v blízkosti biomolekuly jsou hodnoceny geometrickými nebo/a energetickými skórovacímy funkcem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otein-ligand interakční energie = van der Waalsova energie + elektrostatická energie + energie vodíkové vazby + entrop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ahoma"/>
              </a:rPr>
              <a:t>flexibilní dokování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- hodnoceny jsou různé konformace ligandu a různé rotamery postranních řetěz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oftware: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DOCK, AUTODOCK, FLE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00"/>
                </a:solidFill>
                <a:latin typeface="Tahoma"/>
              </a:rPr>
              <a:t>Úvod do struktury proteinů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roteiny se skládají z aminokyselin vzájemně spojených peptidovou vazbou. V proteinech se přirozeně vyskytuje </a:t>
            </a:r>
            <a:r>
              <a:rPr b="0" lang="cs-CZ" sz="2800" spc="-1" strike="noStrike">
                <a:solidFill>
                  <a:srgbClr val="ff3399"/>
                </a:solidFill>
                <a:latin typeface="Tahoma"/>
              </a:rPr>
              <a:t>20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různých aminokyseli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rukturu proteinů lze experimentálně určit rentgenovou analýzou, nukleární magnetickou rezonancí a elektronovou kryokrystalografií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Úrovně struktury proteinů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prim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sekundá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terciární struktura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99"/>
                </a:solidFill>
                <a:latin typeface="Tahoma"/>
              </a:rPr>
              <a:t>kvartérní struk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chéma aminokyseliny (a) a polypeptidového řetězce (b)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5" name="Picture 9" descr="C:\Dokumenty\VYUKA\Bioinformatics\SCAN\1_2_branden.bmp"/>
          <p:cNvPicPr/>
          <p:nvPr/>
        </p:nvPicPr>
        <p:blipFill>
          <a:blip r:embed="rId1"/>
          <a:stretch/>
        </p:blipFill>
        <p:spPr>
          <a:xfrm>
            <a:off x="2590920" y="990720"/>
            <a:ext cx="36925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ostranní řetězce 20-ti základních aminokyseli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7" name="Picture 6" descr="C:\Dokumenty\VYUKA\Bioinformatics\SCAN\1_1_creighton.bmp"/>
          <p:cNvPicPr/>
          <p:nvPr/>
        </p:nvPicPr>
        <p:blipFill>
          <a:blip r:embed="rId1"/>
          <a:stretch/>
        </p:blipFill>
        <p:spPr>
          <a:xfrm>
            <a:off x="2514600" y="685800"/>
            <a:ext cx="38973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Úrovně struktury proteinů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09" name="Picture 1028" descr="C:\Dokumenty\VYUKA\Bioinformatics\SCAN\1_1_branden.bmp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Synchrotron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11" name="Picture 4" descr="C:\Dokumenty\VYUKA\Bioinformatics\SCAN\0_0_branden.bmp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724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09480" y="5943600"/>
            <a:ext cx="7772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European Synchrotron Radiation Facility v Grenoble, Franci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proteinových struktur</a:t>
            </a:r>
            <a:endParaRPr b="0" lang="en-US" sz="35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DBs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33520" y="3429000"/>
            <a:ext cx="8610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500" spc="-1" strike="noStrike">
                <a:solidFill>
                  <a:srgbClr val="ffff00"/>
                </a:solidFill>
                <a:latin typeface="Tahoma"/>
              </a:rPr>
              <a:t>Databáze klasifikace proteinových struktur</a:t>
            </a:r>
            <a:endParaRPr b="0" lang="en-US" sz="3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4343400"/>
            <a:ext cx="81536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COP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CATCH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9:18:38Z</dcterms:created>
  <dc:creator>Jiří Damborský</dc:creator>
  <dc:description/>
  <dc:language>en-US</dc:language>
  <cp:lastModifiedBy>uzivatel</cp:lastModifiedBy>
  <cp:lastPrinted>2002-01-08T21:13:03Z</cp:lastPrinted>
  <dcterms:modified xsi:type="dcterms:W3CDTF">2009-12-01T07:32:13Z</dcterms:modified>
  <cp:revision>30</cp:revision>
  <dc:subject/>
  <dc:title> Bioinformatics</dc:title>
</cp:coreProperties>
</file>