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C0B7-9311-4EFA-B98A-15D3679AF92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119F-D952-4529-8170-DB60B4074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83B2-0DA3-40F6-9BFE-B807F96C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8268-B0F3-490A-B555-2E6C4793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0C4E-A42D-4820-9186-9CF862C6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2CE8-FF9A-4E6C-849B-86296C9A4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290E-F360-4B0F-BC12-B5F18369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ABF9-6A75-489A-ABA7-8C8DCEBE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0753-C861-4854-8B43-1B195ACC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9D73-4A6A-433C-8B17-0965FB6B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37CC-12C3-4674-9759-A239E01D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6013-C35D-4234-A6AD-C7FF9D72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F91C-A4D8-4E50-8401-47B8C2B0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F983-6040-489A-B53E-14FB0A0C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4F86-3792-47E0-897F-3361D983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3602-58FC-497D-9C55-EFCF139C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39FF-4AAD-4638-8F90-B702552B8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02BA-DF99-4A94-B512-93554BDD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307A-1B56-4E6A-A4BF-097A02E4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3532-3AFB-45BC-8465-4AA0A01B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9989-CEB9-4C2F-A6A0-0029B313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E03B-4744-460B-8D14-CAEBDC92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F3FE-5CE7-42AC-8BCF-C977C823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7FB8-2C2D-4CAF-9FD7-E7880FF5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FC95-D11A-4433-A13D-6EC070EA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9A9E-C6AF-4014-ABBC-EC5BD427EDC1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E82F-AEA7-4D06-B2F6-F182478BACB5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om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is.muni.cz/auth/predmety/uplny_vypis.pl?fakulta=1431;obdobi=5544;predmet=647316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hyperlink" Target="D:\Vyuka\C6730 Term_FR\p&#345;edn&#225;&#353;ka_CZ\01tyden_uvod\01a_Glossary_CZ.doc" TargetMode="External"/><Relationship Id="rId4" Type="http://schemas.openxmlformats.org/officeDocument/2006/relationships/image" Target="../media/image1.png"/><Relationship Id="rId5" Type="http://schemas.openxmlformats.org/officeDocument/2006/relationships/hyperlink" Target="D:\Vyuka\C6730 Term_FR\p&#345;edn&#225;&#353;ka_CZ\01tyden_uvod\01_Nomenklatura.tif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Úvodní přednáška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Fázové rovnováhy kolem nás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www.google.com</a:t>
            </a: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 (klíčová slova: phase equilibrium, microstructure, „phase diagram“, …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říklady mikrostruktur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57800" y="3657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5203" h="21600">
                <a:moveTo>
                  <a:pt x="7075" y="3985"/>
                </a:moveTo>
                <a:lnTo>
                  <a:pt x="14072" y="3985"/>
                </a:lnTo>
                <a:lnTo>
                  <a:pt x="18128" y="7484"/>
                </a:lnTo>
                <a:lnTo>
                  <a:pt x="18128" y="17615"/>
                </a:lnTo>
                <a:lnTo>
                  <a:pt x="7075" y="17615"/>
                </a:lnTo>
                <a:close/>
              </a:path>
              <a:path fill="darken" w="25203" h="21600">
                <a:moveTo>
                  <a:pt x="14072" y="3985"/>
                </a:moveTo>
                <a:lnTo>
                  <a:pt x="18128" y="7484"/>
                </a:lnTo>
                <a:lnTo>
                  <a:pt x="14072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ministrativ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otace přednášk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Časový harmonogram přednášk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udijní materiály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ázová nomenklatur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ázové rovnováhy kolem ná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Administrativa a kontakt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5545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Přednášející: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Poštovní adresa: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Přírodovědecká fakulta, Masarykova univerzita, Ústav chemie, Kotlářská 2, 611 37 Brn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Adresa pracoviště: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Přírodovědecká fakulta, Masarykova univerzita, Ústav chemie, Univerzitní kampus Bohunce (UKB), Kamenice 5, 625 00 Brn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E-mail: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sopousek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@mail.muni.c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ontaktn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í data a obor posluchačů: 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A</a:t>
            </a: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notace </a:t>
            </a: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C6730 Fázové rovnováhy (Informační systém MU)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 (podmínky získání klasifikac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5545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ditace dle oboru posluchačů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4572000"/>
            <a:ext cx="838080" cy="99072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90720"/>
              <a:gd name="textAreaBottom" fmla="*/ 93672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lnTo>
                  <a:pt x="21600" y="0"/>
                </a:lnTo>
                <a:lnTo>
                  <a:pt x="21600" y="25532"/>
                </a:lnTo>
                <a:lnTo>
                  <a:pt x="0" y="25532"/>
                </a:lnTo>
                <a:close/>
              </a:path>
              <a:path fill="lightenLess" w="21600" h="255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32">
                <a:moveTo>
                  <a:pt x="21600" y="0"/>
                </a:moveTo>
                <a:lnTo>
                  <a:pt x="21600" y="25532"/>
                </a:lnTo>
                <a:lnTo>
                  <a:pt x="20200" y="24132"/>
                </a:lnTo>
                <a:lnTo>
                  <a:pt x="20200" y="1400"/>
                </a:lnTo>
                <a:close/>
              </a:path>
              <a:path fill="darkenLess" w="21600" h="25532">
                <a:moveTo>
                  <a:pt x="21600" y="25532"/>
                </a:moveTo>
                <a:lnTo>
                  <a:pt x="0" y="25532"/>
                </a:lnTo>
                <a:lnTo>
                  <a:pt x="1400" y="24132"/>
                </a:lnTo>
                <a:lnTo>
                  <a:pt x="20200" y="24132"/>
                </a:lnTo>
                <a:close/>
              </a:path>
              <a:path fill="lighten" w="21600" h="25532">
                <a:moveTo>
                  <a:pt x="0" y="255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32"/>
                </a:lnTo>
                <a:close/>
              </a:path>
              <a:path fill="darkenLess" w="21600" h="25532">
                <a:moveTo>
                  <a:pt x="5273" y="5951"/>
                </a:moveTo>
                <a:lnTo>
                  <a:pt x="12271" y="5951"/>
                </a:lnTo>
                <a:lnTo>
                  <a:pt x="16327" y="9450"/>
                </a:lnTo>
                <a:lnTo>
                  <a:pt x="16327" y="19581"/>
                </a:lnTo>
                <a:lnTo>
                  <a:pt x="5273" y="19581"/>
                </a:lnTo>
                <a:close/>
              </a:path>
              <a:path fill="darken" w="21600" h="25532">
                <a:moveTo>
                  <a:pt x="12271" y="5951"/>
                </a:moveTo>
                <a:lnTo>
                  <a:pt x="16327" y="9450"/>
                </a:lnTo>
                <a:lnTo>
                  <a:pt x="12271" y="9450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37339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Klikni na ikonu k zobrazení sylabu přednášk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74880"/>
            <a:ext cx="83818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 Black"/>
              </a:rPr>
              <a:t>Č</a:t>
            </a: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asový harmonogram přednášky  v PS 2010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80880" y="1143000"/>
          <a:ext cx="8382240" cy="4838760"/>
        </p:xfrm>
        <a:graphic>
          <a:graphicData uri="http://schemas.openxmlformats.org/drawingml/2006/table">
            <a:tbl>
              <a:tblPr/>
              <a:tblGrid>
                <a:gridCol w="914400"/>
                <a:gridCol w="2971800"/>
                <a:gridCol w="762120"/>
                <a:gridCol w="3733920"/>
              </a:tblGrid>
              <a:tr h="48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ýde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gram (det. viz anotace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ýde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gram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Úvodní přednášk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eálné rovnováhy (destilace, extrakce, oceli, pájky bez olova, …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Základy Termodynamiky, opakování fyzikální chemi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ýpočty fázových diagramů (Metoda CALPHAD, ThermoCalc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e a materiál, základní pravidla. Popis rovnovážných stavů, podmínka fázové rovnováhy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ové transformace (poruchy krystalové mříže, nukleace, kinetika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ové diagramy, výpočty, konstrukce použití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echanismy difúze, mobilita, TD+Kin faktor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xperimentální metody sledování FR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inetika reálných soustav technické materiály, svary ocelí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xkurse na AVČR UFM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ouvislosti mezi fáz. a fyz.-mech vlastnostmi reál. soust. (Exkurse VUT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945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Studijní materiály (elektronické)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Interaktivní osnova na IS MU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66"/>
                </a:solidFill>
                <a:uFillTx/>
                <a:latin typeface="Arial"/>
              </a:rPr>
              <a:t>Učebnice: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 Peter Atkins, Julio de Paula:  Physical chemistry, 8th ed., Oxford University Press, 2006. http://ebooks.bfwpub.com/pchemoup.php (user: knihovna, heslo: uzivatel1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Komentář k metodě CALPHAD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Seznam u</a:t>
            </a:r>
            <a:r>
              <a:rPr b="0" lang="cs-CZ" sz="2000" spc="-1" strike="noStrike">
                <a:solidFill>
                  <a:srgbClr val="000066"/>
                </a:solidFill>
                <a:latin typeface="Roman PS"/>
                <a:ea typeface="Times New Roman"/>
              </a:rPr>
              <a:t>žitečn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ých</a:t>
            </a:r>
            <a:r>
              <a:rPr b="0" lang="cs-CZ" sz="2000" spc="-1" strike="noStrike">
                <a:solidFill>
                  <a:srgbClr val="000066"/>
                </a:solidFill>
                <a:latin typeface="Roman PS"/>
                <a:ea typeface="Times New Roman"/>
              </a:rPr>
              <a:t> link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ů</a:t>
            </a:r>
            <a:r>
              <a:rPr b="0" lang="cs-CZ" sz="2000" spc="-1" strike="noStrike">
                <a:solidFill>
                  <a:srgbClr val="000066"/>
                </a:solidFill>
                <a:latin typeface="Roman PS"/>
                <a:ea typeface="Times New Roman"/>
              </a:rPr>
              <a:t>: http://www.uic.edu:80/~mansoori/Thermodynamic.Data.and.Property_htm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5562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Komentář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4800" y="5638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teriálový slovníče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571500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Less" w="21600" h="32375">
                <a:moveTo>
                  <a:pt x="5273" y="9372"/>
                </a:moveTo>
                <a:lnTo>
                  <a:pt x="12271" y="9372"/>
                </a:lnTo>
                <a:lnTo>
                  <a:pt x="16327" y="12871"/>
                </a:lnTo>
                <a:lnTo>
                  <a:pt x="16327" y="23002"/>
                </a:lnTo>
                <a:lnTo>
                  <a:pt x="5273" y="23002"/>
                </a:lnTo>
                <a:close/>
              </a:path>
              <a:path fill="darken" w="21600" h="32375">
                <a:moveTo>
                  <a:pt x="12271" y="9372"/>
                </a:moveTo>
                <a:lnTo>
                  <a:pt x="16327" y="12871"/>
                </a:lnTo>
                <a:lnTo>
                  <a:pt x="12271" y="12871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56386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  <a:path fill="darkenLess" w="21600" h="30248">
                <a:moveTo>
                  <a:pt x="5273" y="8309"/>
                </a:moveTo>
                <a:lnTo>
                  <a:pt x="12271" y="8309"/>
                </a:lnTo>
                <a:lnTo>
                  <a:pt x="16327" y="11808"/>
                </a:lnTo>
                <a:lnTo>
                  <a:pt x="16327" y="21939"/>
                </a:lnTo>
                <a:lnTo>
                  <a:pt x="5273" y="21939"/>
                </a:lnTo>
                <a:close/>
              </a:path>
              <a:path fill="darken" w="21600" h="30248">
                <a:moveTo>
                  <a:pt x="12271" y="8309"/>
                </a:moveTo>
                <a:lnTo>
                  <a:pt x="16327" y="11808"/>
                </a:lnTo>
                <a:lnTo>
                  <a:pt x="12271" y="11808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Studijní materiály (knihy)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tkins P.W.: Physical Chemistry, Oxford Univ.Press, Oxford 199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rter D. A., Easterling K. E. : Phase transformations in Metals and Alloys, The Thetford Press Ltd. (1986), Engla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vid R. Gaskel: Introduction to the Thermodynamics of Materials, 5th edition, Tayl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amp;Francis, New York.London, 2008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. –C. Zhao: Methods for Phase Diagram Determination, ELSEVIER, 2007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. Saunders, and A. P. Miodovnik: ‘CALPHAD (Calculation of Phase Diagram) - A Comprehensive Guide’, Pergamon Materials Series, Vol. 1, Elsevier Science, Amsterodam, 1998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Studijní a doporučená literatura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itner a kol.: Fázové rovnováhy, scripta VŠChT Prah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lub R., Voňka P.: Chemická rovnováha heterogenních a kondenzovaných soustav, Academia Praha 198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řešťál J., Kuchař L.: Hutnické Listy, vol 45, yr 1990, 28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nsdale A.T.: Calphad, vol 15,yr 1991, 317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00400" y="5562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pakován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54864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Less" w="21600" h="25203">
                <a:moveTo>
                  <a:pt x="5273" y="5786"/>
                </a:moveTo>
                <a:lnTo>
                  <a:pt x="12271" y="5786"/>
                </a:lnTo>
                <a:lnTo>
                  <a:pt x="16327" y="9285"/>
                </a:lnTo>
                <a:lnTo>
                  <a:pt x="16327" y="19416"/>
                </a:lnTo>
                <a:lnTo>
                  <a:pt x="5273" y="19416"/>
                </a:lnTo>
                <a:close/>
              </a:path>
              <a:path fill="darken" w="21600" h="25203">
                <a:moveTo>
                  <a:pt x="12271" y="5786"/>
                </a:moveTo>
                <a:lnTo>
                  <a:pt x="16327" y="9285"/>
                </a:lnTo>
                <a:lnTo>
                  <a:pt x="12271" y="9285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 Black"/>
              </a:rPr>
              <a:t>Nomenklatura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5545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Základní pojmy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34290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alší pojm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>
            <a:hlinkClick r:id="rId3"/>
          </p:cNvPr>
          <p:cNvSpPr/>
          <p:nvPr/>
        </p:nvSpPr>
        <p:spPr>
          <a:xfrm>
            <a:off x="3124080" y="3733920"/>
            <a:ext cx="609840" cy="9144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914400"/>
              <a:gd name="textAreaBottom" fmla="*/ 875160 h 914400"/>
            </a:gdLst>
            <a:ahLst/>
            <a:rect l="textAreaLeft" t="textAreaTop" r="textAreaRight" b="textAreaBottom"/>
            <a:pathLst>
              <a:path w="21600" h="32381">
                <a:moveTo>
                  <a:pt x="0" y="0"/>
                </a:moveTo>
                <a:lnTo>
                  <a:pt x="21600" y="0"/>
                </a:lnTo>
                <a:lnTo>
                  <a:pt x="21600" y="32381"/>
                </a:lnTo>
                <a:lnTo>
                  <a:pt x="0" y="32381"/>
                </a:lnTo>
                <a:close/>
              </a:path>
              <a:path fill="lightenLess" w="21600" h="323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81">
                <a:moveTo>
                  <a:pt x="21600" y="0"/>
                </a:moveTo>
                <a:lnTo>
                  <a:pt x="21600" y="32381"/>
                </a:lnTo>
                <a:lnTo>
                  <a:pt x="20200" y="30981"/>
                </a:lnTo>
                <a:lnTo>
                  <a:pt x="20200" y="1400"/>
                </a:lnTo>
                <a:close/>
              </a:path>
              <a:path fill="darkenLess" w="21600" h="32381">
                <a:moveTo>
                  <a:pt x="21600" y="32381"/>
                </a:moveTo>
                <a:lnTo>
                  <a:pt x="0" y="32381"/>
                </a:lnTo>
                <a:lnTo>
                  <a:pt x="1400" y="30981"/>
                </a:lnTo>
                <a:lnTo>
                  <a:pt x="20200" y="30981"/>
                </a:lnTo>
                <a:close/>
              </a:path>
              <a:path fill="lighten" w="21600" h="32381">
                <a:moveTo>
                  <a:pt x="0" y="32381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81"/>
                </a:lnTo>
                <a:close/>
              </a:path>
              <a:path fill="darkenLess" w="21600" h="32381">
                <a:moveTo>
                  <a:pt x="5273" y="9375"/>
                </a:moveTo>
                <a:lnTo>
                  <a:pt x="12271" y="9375"/>
                </a:lnTo>
                <a:lnTo>
                  <a:pt x="16327" y="12874"/>
                </a:lnTo>
                <a:lnTo>
                  <a:pt x="16327" y="23005"/>
                </a:lnTo>
                <a:lnTo>
                  <a:pt x="5273" y="23005"/>
                </a:lnTo>
                <a:close/>
              </a:path>
              <a:path fill="darken" w="21600" h="32381">
                <a:moveTo>
                  <a:pt x="12271" y="9375"/>
                </a:moveTo>
                <a:lnTo>
                  <a:pt x="16327" y="12874"/>
                </a:lnTo>
                <a:lnTo>
                  <a:pt x="12271" y="1287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51055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rystalografie na MU: Krystalografická učebnice na MU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>
            <a:hlinkClick r:id="rId5"/>
          </p:cNvPr>
          <p:cNvSpPr/>
          <p:nvPr/>
        </p:nvSpPr>
        <p:spPr>
          <a:xfrm>
            <a:off x="3048120" y="2057400"/>
            <a:ext cx="609480" cy="9144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914400"/>
              <a:gd name="textAreaBottom" fmla="*/ 875160 h 914400"/>
            </a:gdLst>
            <a:ahLst/>
            <a:rect l="textAreaLeft" t="textAreaTop" r="textAreaRight" b="textAreaBottom"/>
            <a:pathLst>
              <a:path w="21600" h="32400">
                <a:moveTo>
                  <a:pt x="0" y="0"/>
                </a:moveTo>
                <a:lnTo>
                  <a:pt x="21600" y="0"/>
                </a:lnTo>
                <a:lnTo>
                  <a:pt x="21600" y="32400"/>
                </a:lnTo>
                <a:lnTo>
                  <a:pt x="0" y="32400"/>
                </a:lnTo>
                <a:close/>
              </a:path>
              <a:path fill="lightenLess" w="21600" h="324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00">
                <a:moveTo>
                  <a:pt x="21600" y="0"/>
                </a:moveTo>
                <a:lnTo>
                  <a:pt x="21600" y="32400"/>
                </a:lnTo>
                <a:lnTo>
                  <a:pt x="20200" y="31000"/>
                </a:lnTo>
                <a:lnTo>
                  <a:pt x="20200" y="1400"/>
                </a:lnTo>
                <a:close/>
              </a:path>
              <a:path fill="darkenLess" w="21600" h="32400">
                <a:moveTo>
                  <a:pt x="21600" y="32400"/>
                </a:moveTo>
                <a:lnTo>
                  <a:pt x="0" y="32400"/>
                </a:lnTo>
                <a:lnTo>
                  <a:pt x="1400" y="31000"/>
                </a:lnTo>
                <a:lnTo>
                  <a:pt x="20200" y="31000"/>
                </a:lnTo>
                <a:close/>
              </a:path>
              <a:path fill="lighten" w="21600" h="32400">
                <a:moveTo>
                  <a:pt x="0" y="324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00"/>
                </a:lnTo>
                <a:close/>
              </a:path>
              <a:path fill="darkenLess" w="21600" h="32400">
                <a:moveTo>
                  <a:pt x="5273" y="9385"/>
                </a:moveTo>
                <a:lnTo>
                  <a:pt x="12271" y="9385"/>
                </a:lnTo>
                <a:lnTo>
                  <a:pt x="16327" y="12884"/>
                </a:lnTo>
                <a:lnTo>
                  <a:pt x="16327" y="23015"/>
                </a:lnTo>
                <a:lnTo>
                  <a:pt x="5273" y="23015"/>
                </a:lnTo>
                <a:close/>
              </a:path>
              <a:path fill="darken" w="21600" h="32400">
                <a:moveTo>
                  <a:pt x="12271" y="9385"/>
                </a:moveTo>
                <a:lnTo>
                  <a:pt x="16327" y="12884"/>
                </a:lnTo>
                <a:lnTo>
                  <a:pt x="12271" y="128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0-11T11:12:22Z</dcterms:modified>
  <cp:revision>28</cp:revision>
  <dc:subject/>
  <dc:title>C6730 Fázové rovnováhy</dc:title>
</cp:coreProperties>
</file>