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EA0B-DB46-453C-BA5D-EA44BCCA48C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8C3-C879-46E4-AF82-6B194DBC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574-00C9-4C8B-86A2-6BEF4367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3002-FA98-4FB7-98FC-B7D4ED74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6487-A5A1-4C99-AC59-7F96BA1D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D3F3-E222-4401-8896-462317E8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ACC6-27CE-45D2-B04C-8AF144B1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5C9F-3050-4D94-88AF-B696C937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10CC-8C46-4754-94A8-2B4A797E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A5F1-857E-413D-89E1-CD9C5FDE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F55E-93F8-4FA1-BDB4-7BA48B51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F40C-BA75-4AA9-8B9E-05D364AF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F27-5765-425E-9599-3CFC9088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9D89-9DFD-4A74-A805-BBF49C0F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3C09-9FC0-469C-A72D-65164ED8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B265-828F-4F22-96A9-52A4BAA2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CE98-9EFA-452E-A841-9FF05D08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1125-EFEB-45D2-B7F8-64C5CA8C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1C7-8441-424E-8E51-B1BA54AC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37F-C2BE-4770-957A-24F12476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B32-2732-413D-9F4F-2BDECF2C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1898-815D-40E6-A342-2B04B9E6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346-1DB8-4D35-B85F-40360E62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91D-D5EF-4FA1-B89C-6D3B3B01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384-5CF7-4938-9AA0-783008C2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C402-A661-4AB3-8D7D-70FC0B60742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A85E-9A80-40DF-84AC-6660A130E65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is.muni.cz/auth/predmety/uplny_vypis.pl?fakulta=1431;obdobi=5544;predmet=647316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1tyden_uvod\01a_Glossary_CZ.doc" TargetMode="External"/><Relationship Id="rId4" Type="http://schemas.openxmlformats.org/officeDocument/2006/relationships/image" Target="../media/image1.png"/><Relationship Id="rId5" Type="http://schemas.openxmlformats.org/officeDocument/2006/relationships/hyperlink" Target="D:\Vyuka\C6730 Term_FR\p&#345;edn&#225;&#353;ka_CZ\01tyden_uvod\01_Nomenklatura.tif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Úvodní přednáška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Fázové rovnováhy kolem nás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google.com</a:t>
            </a: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 (klíčová slova: phase equilibrium, microstructure, „phase diagram“, 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říklady mikrostruktur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3657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203" h="21600">
                <a:moveTo>
                  <a:pt x="7075" y="3985"/>
                </a:moveTo>
                <a:lnTo>
                  <a:pt x="14072" y="3985"/>
                </a:lnTo>
                <a:lnTo>
                  <a:pt x="18128" y="7484"/>
                </a:lnTo>
                <a:lnTo>
                  <a:pt x="18128" y="17615"/>
                </a:lnTo>
                <a:lnTo>
                  <a:pt x="7075" y="17615"/>
                </a:lnTo>
                <a:close/>
              </a:path>
              <a:path fill="darken" w="25203" h="21600">
                <a:moveTo>
                  <a:pt x="14072" y="3985"/>
                </a:moveTo>
                <a:lnTo>
                  <a:pt x="18128" y="7484"/>
                </a:lnTo>
                <a:lnTo>
                  <a:pt x="14072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ministrativ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otace přednášk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Časový harmonogram přednášk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udijní materiál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ázová nomenklatur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ázové rovnováhy kolem n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Administrativa a kontakt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řednášející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oštovní adresa: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řírodovědecká fakulta, Masarykova univerzita, Ústav chemie, Kotlářská 2, 611 37 Brn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Adresa pracoviště: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řírodovědecká fakulta, Masarykova univerzita, Ústav chemie, Univerzitní kampus Bohunce (UKB), Kamenice 5, 625 00 Brn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E-mail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sopousek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@mail.muni.c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ontaktn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í data a obor posluchačů: 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notace </a:t>
            </a: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C6730 Fázové rovnováhy (Informační systém MU)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 (podmínky získání klasifikac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ditace dle oboru posluchačů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5720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Less" w="21600" h="25532">
                <a:moveTo>
                  <a:pt x="5273" y="5951"/>
                </a:moveTo>
                <a:lnTo>
                  <a:pt x="12271" y="5951"/>
                </a:lnTo>
                <a:lnTo>
                  <a:pt x="16327" y="9450"/>
                </a:lnTo>
                <a:lnTo>
                  <a:pt x="16327" y="19581"/>
                </a:lnTo>
                <a:lnTo>
                  <a:pt x="5273" y="19581"/>
                </a:lnTo>
                <a:close/>
              </a:path>
              <a:path fill="darken" w="21600" h="25532">
                <a:moveTo>
                  <a:pt x="12271" y="5951"/>
                </a:moveTo>
                <a:lnTo>
                  <a:pt x="16327" y="9450"/>
                </a:lnTo>
                <a:lnTo>
                  <a:pt x="12271" y="9450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3733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likni na ikonu k zobrazení sylabu přednášk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74880"/>
            <a:ext cx="83818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Black"/>
              </a:rPr>
              <a:t>Č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asový harmonogram přednášky  v PS 2010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1143000"/>
          <a:ext cx="8382240" cy="4838760"/>
        </p:xfrm>
        <a:graphic>
          <a:graphicData uri="http://schemas.openxmlformats.org/drawingml/2006/table">
            <a:tbl>
              <a:tblPr/>
              <a:tblGrid>
                <a:gridCol w="914400"/>
                <a:gridCol w="2971800"/>
                <a:gridCol w="762120"/>
                <a:gridCol w="3733920"/>
              </a:tblGrid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 (det. viz anotace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Úvodní přednášk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álné rovnováhy (destilace, extrakce, oceli, pájky bez olova, …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Základy Termodynamiky, opakování fyzikální chemi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ýpočty fázových diagramů (Metoda CALPHAD, ThermoCalc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e a materiál, základní pravidla. Popis rovnovážných stavů, podmínka fázové rovnováhy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transformace (poruchy krystalové mříže, nukleace, kinetika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diagramy, výpočty, konstrukce použití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chanismy difúze, mobilita, TD+Kin fakto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perimentální metody sledování FR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inetika reálných soustav technické materiály, svary ocelí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kurse na AVČR UFM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ouvislosti mezi fáz. a fyz.-mech vlastnostmi reál. soust. (Exkurse VUT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4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materiály (elektronické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Interaktivní osnova na IS M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Učebnice: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 Peter Atkins, Julio de Paula:  Physical chemistry, 8th ed., Oxford University Press, 2006. http://ebooks.bfwpub.com/pchemoup.php (user: knihovna, heslo: uzivatel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Komentář k metodě CALPHAD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Seznam u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žitečn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ých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 link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ů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: http://www.uic.edu:80/~mansoori/Thermodynamic.Data.and.Property_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562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omentá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teriálový slovníče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57150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Less" w="21600" h="32375">
                <a:moveTo>
                  <a:pt x="5273" y="9372"/>
                </a:moveTo>
                <a:lnTo>
                  <a:pt x="12271" y="9372"/>
                </a:lnTo>
                <a:lnTo>
                  <a:pt x="16327" y="12871"/>
                </a:lnTo>
                <a:lnTo>
                  <a:pt x="16327" y="23002"/>
                </a:lnTo>
                <a:lnTo>
                  <a:pt x="5273" y="23002"/>
                </a:lnTo>
                <a:close/>
              </a:path>
              <a:path fill="darken" w="21600" h="32375">
                <a:moveTo>
                  <a:pt x="12271" y="9372"/>
                </a:moveTo>
                <a:lnTo>
                  <a:pt x="16327" y="12871"/>
                </a:lnTo>
                <a:lnTo>
                  <a:pt x="12271" y="1287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56386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Less" w="21600" h="30248">
                <a:moveTo>
                  <a:pt x="5273" y="8309"/>
                </a:moveTo>
                <a:lnTo>
                  <a:pt x="12271" y="8309"/>
                </a:lnTo>
                <a:lnTo>
                  <a:pt x="16327" y="11808"/>
                </a:lnTo>
                <a:lnTo>
                  <a:pt x="16327" y="21939"/>
                </a:lnTo>
                <a:lnTo>
                  <a:pt x="5273" y="21939"/>
                </a:lnTo>
                <a:close/>
              </a:path>
              <a:path fill="darken" w="21600" h="30248">
                <a:moveTo>
                  <a:pt x="12271" y="8309"/>
                </a:moveTo>
                <a:lnTo>
                  <a:pt x="16327" y="11808"/>
                </a:lnTo>
                <a:lnTo>
                  <a:pt x="12271" y="1180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materiály (knihy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kins P.W.: Physical Chemistry, Oxford Univ.Press, Oxford 19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ter D. A., Easterling K. E. : Phase transformations in Metals and Alloys, The Thetford Press Ltd. (1986), Engla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vid R. Gaskel: Introduction to the Thermodynamics of Materials, 5th edition, Tayl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amp;Francis, New York.London, 200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. –C. Zhao: Methods for Phase Diagram Determination, ELSEVIER, 2007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. Saunders, and A. P. Miodovnik: ‘CALPHAD (Calculation of Phase Diagram) - A Comprehensive Guide’, Pergamon Materials Series, Vol. 1, Elsevier Science, Amsterodam, 199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a doporučená literatur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tner a kol.: Fázové rovnováhy, scripta VŠChT Pra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lub R., Voňka P.: Chemická rovnováha heterogenních a kondenzovaných soustav, Academia Praha 198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řešťál J., Kuchař L.: Hutnické Listy, vol 45, yr 1990, 28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nsdale A.T.: Calphad, vol 15,yr 1991, 317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pakován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54864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Less" w="21600" h="25203">
                <a:moveTo>
                  <a:pt x="5273" y="5786"/>
                </a:moveTo>
                <a:lnTo>
                  <a:pt x="12271" y="5786"/>
                </a:lnTo>
                <a:lnTo>
                  <a:pt x="16327" y="9285"/>
                </a:lnTo>
                <a:lnTo>
                  <a:pt x="16327" y="19416"/>
                </a:lnTo>
                <a:lnTo>
                  <a:pt x="5273" y="19416"/>
                </a:lnTo>
                <a:close/>
              </a:path>
              <a:path fill="darken" w="21600" h="25203">
                <a:moveTo>
                  <a:pt x="12271" y="5786"/>
                </a:moveTo>
                <a:lnTo>
                  <a:pt x="16327" y="9285"/>
                </a:lnTo>
                <a:lnTo>
                  <a:pt x="12271" y="9285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Nomenklatura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Základní pojmy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429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lší pojm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>
            <a:hlinkClick r:id="rId3"/>
          </p:cNvPr>
          <p:cNvSpPr/>
          <p:nvPr/>
        </p:nvSpPr>
        <p:spPr>
          <a:xfrm>
            <a:off x="3124080" y="3733920"/>
            <a:ext cx="609840" cy="9144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381">
                <a:moveTo>
                  <a:pt x="0" y="0"/>
                </a:moveTo>
                <a:lnTo>
                  <a:pt x="21600" y="0"/>
                </a:lnTo>
                <a:lnTo>
                  <a:pt x="21600" y="32381"/>
                </a:lnTo>
                <a:lnTo>
                  <a:pt x="0" y="32381"/>
                </a:lnTo>
                <a:close/>
              </a:path>
              <a:path fill="lightenLess" w="21600" h="323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81">
                <a:moveTo>
                  <a:pt x="21600" y="0"/>
                </a:moveTo>
                <a:lnTo>
                  <a:pt x="21600" y="32381"/>
                </a:lnTo>
                <a:lnTo>
                  <a:pt x="20200" y="30981"/>
                </a:lnTo>
                <a:lnTo>
                  <a:pt x="20200" y="1400"/>
                </a:lnTo>
                <a:close/>
              </a:path>
              <a:path fill="darkenLess" w="21600" h="32381">
                <a:moveTo>
                  <a:pt x="21600" y="32381"/>
                </a:moveTo>
                <a:lnTo>
                  <a:pt x="0" y="32381"/>
                </a:lnTo>
                <a:lnTo>
                  <a:pt x="1400" y="30981"/>
                </a:lnTo>
                <a:lnTo>
                  <a:pt x="20200" y="30981"/>
                </a:lnTo>
                <a:close/>
              </a:path>
              <a:path fill="lighten" w="21600" h="32381">
                <a:moveTo>
                  <a:pt x="0" y="32381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81"/>
                </a:lnTo>
                <a:close/>
              </a:path>
              <a:path fill="darkenLess" w="21600" h="32381">
                <a:moveTo>
                  <a:pt x="5273" y="9375"/>
                </a:moveTo>
                <a:lnTo>
                  <a:pt x="12271" y="9375"/>
                </a:lnTo>
                <a:lnTo>
                  <a:pt x="16327" y="12874"/>
                </a:lnTo>
                <a:lnTo>
                  <a:pt x="16327" y="23005"/>
                </a:lnTo>
                <a:lnTo>
                  <a:pt x="5273" y="23005"/>
                </a:lnTo>
                <a:close/>
              </a:path>
              <a:path fill="darken" w="21600" h="32381">
                <a:moveTo>
                  <a:pt x="12271" y="9375"/>
                </a:moveTo>
                <a:lnTo>
                  <a:pt x="16327" y="12874"/>
                </a:lnTo>
                <a:lnTo>
                  <a:pt x="12271" y="1287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105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rystalografie na MU: Krystalografická učebnice na MU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>
            <a:hlinkClick r:id="rId5"/>
          </p:cNvPr>
          <p:cNvSpPr/>
          <p:nvPr/>
        </p:nvSpPr>
        <p:spPr>
          <a:xfrm>
            <a:off x="3048120" y="205740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Less" w="21600" h="32400">
                <a:moveTo>
                  <a:pt x="5273" y="9385"/>
                </a:moveTo>
                <a:lnTo>
                  <a:pt x="12271" y="9385"/>
                </a:lnTo>
                <a:lnTo>
                  <a:pt x="16327" y="12884"/>
                </a:lnTo>
                <a:lnTo>
                  <a:pt x="16327" y="23015"/>
                </a:lnTo>
                <a:lnTo>
                  <a:pt x="5273" y="23015"/>
                </a:lnTo>
                <a:close/>
              </a:path>
              <a:path fill="darken" w="21600" h="32400">
                <a:moveTo>
                  <a:pt x="12271" y="9385"/>
                </a:moveTo>
                <a:lnTo>
                  <a:pt x="16327" y="12884"/>
                </a:lnTo>
                <a:lnTo>
                  <a:pt x="12271" y="128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1T11:12:22Z</dcterms:modified>
  <cp:revision>28</cp:revision>
  <dc:subject/>
  <dc:title>C6730 Fázové rovnováhy</dc:title>
</cp:coreProperties>
</file>