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B250-C5DA-4331-AF14-DBEE31D097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4D4-D31E-432E-9423-E47DF697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82E-6895-4B7D-8B7C-A5BDC480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A39-B452-4866-92BD-E54972E5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C5B-4EB4-4BF0-8F6E-3A104394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E0B6-2FB5-4A59-9CAC-7B3B88CF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7860-E50A-4AE6-B21B-ACD6A817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5DBD-030F-476D-9CDA-F7F16F73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2B41-0287-41E9-BAC4-37C98998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671A-6370-456E-A558-68D0BB2C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C3C5-59FD-4DEC-B4BF-85619403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A69D-4215-4B1A-9CAB-AE290F25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93F-1010-41CC-B7B9-23CF797F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5D88-5ABD-4B33-8EA0-4BD212AD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F461-D5FF-4DD8-BC51-EDE04D16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65CB-B032-497D-B458-0569BCD5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C916-F1DC-44C1-8F35-3E9E765B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9BEA-B237-4A8D-884F-39E1AEFE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34E-95B8-4391-B914-64C9FE75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B2B-92A7-47B6-93CE-8A39C4B7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F8F-062B-41A0-BD27-7E461AEE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DF0-39D2-42D4-BFAA-6AF5B341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4C4-74A3-4047-8CDF-DD4D3C4D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E2E-C82D-4320-AF37-264B671C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E25-197A-449D-A837-904BFF83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A3CF-5C7F-41E6-95BF-38026EA5EDC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20FF-5C76-4541-8E5A-9A2D9150C89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3a_Gplocha_H2O.xls" TargetMode="External"/><Relationship Id="rId3" Type="http://schemas.openxmlformats.org/officeDocument/2006/relationships/image" Target="../media/image1.png"/><Relationship Id="rId4" Type="http://schemas.openxmlformats.org/officeDocument/2006/relationships/hyperlink" Target="D:\Vyuka\C6730 Term_FR\p&#345;edn&#225;&#353;ka_CZ\02tyden_\03_P&#345;&#237;klad vypo&#269;tu G vody.tif" TargetMode="External"/><Relationship Id="rId5" Type="http://schemas.openxmlformats.org/officeDocument/2006/relationships/hyperlink" Target="D:\Vyuka\C6730 Term_FR\p&#345;edn&#225;&#353;ka_CZ\02tyden_\03_P&#345;&#237;klad vypo&#269;tu G vody.tif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2tyden_\02_Termodynamick&#233; funkce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2tyden_\02a_lectintro.pdf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2 Základní termodynamik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7724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Gibbsovy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77724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ávislost Gibbsovy energie na tla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2054160"/>
            <a:ext cx="7772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ondenzova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167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lyn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96920" y="1981080"/>
            <a:ext cx="514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D funkce sloučen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065240"/>
            <a:ext cx="5867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Grafická souvislost TD fun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4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p a T na Gibbsovu energi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06640" y="1981080"/>
            <a:ext cx="692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6512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lasifikace fázových přechod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0153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3680"/>
            <a:ext cx="8381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ova energie fází jednosložkové soustav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752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říklad výpočtu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>
            <a:hlinkClick r:id="rId2"/>
          </p:cNvPr>
          <p:cNvSpPr/>
          <p:nvPr/>
        </p:nvSpPr>
        <p:spPr>
          <a:xfrm>
            <a:off x="4343400" y="396252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Less" w="21600" h="26998">
                <a:moveTo>
                  <a:pt x="5273" y="6684"/>
                </a:moveTo>
                <a:lnTo>
                  <a:pt x="12271" y="6684"/>
                </a:lnTo>
                <a:lnTo>
                  <a:pt x="16327" y="10183"/>
                </a:lnTo>
                <a:lnTo>
                  <a:pt x="16327" y="20314"/>
                </a:lnTo>
                <a:lnTo>
                  <a:pt x="5273" y="20314"/>
                </a:lnTo>
                <a:close/>
              </a:path>
              <a:path fill="darken" w="21600" h="26998">
                <a:moveTo>
                  <a:pt x="12271" y="6684"/>
                </a:moveTo>
                <a:lnTo>
                  <a:pt x="16327" y="10183"/>
                </a:lnTo>
                <a:lnTo>
                  <a:pt x="12271" y="101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Hyperplocha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6248520" y="31240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>
            <a:hlinkClick r:id="rId5"/>
          </p:cNvPr>
          <p:cNvSpPr/>
          <p:nvPr/>
        </p:nvSpPr>
        <p:spPr>
          <a:xfrm>
            <a:off x="4191120" y="182880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Less" w="21600" h="31199">
                <a:moveTo>
                  <a:pt x="5273" y="8784"/>
                </a:moveTo>
                <a:lnTo>
                  <a:pt x="12271" y="8784"/>
                </a:lnTo>
                <a:lnTo>
                  <a:pt x="16327" y="12283"/>
                </a:lnTo>
                <a:lnTo>
                  <a:pt x="16327" y="22414"/>
                </a:lnTo>
                <a:lnTo>
                  <a:pt x="5273" y="22414"/>
                </a:lnTo>
                <a:close/>
              </a:path>
              <a:path fill="darken" w="21600" h="31199">
                <a:moveTo>
                  <a:pt x="12271" y="8784"/>
                </a:moveTo>
                <a:lnTo>
                  <a:pt x="16327" y="12283"/>
                </a:lnTo>
                <a:lnTo>
                  <a:pt x="12271" y="122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8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pracování v tabulkovém procesoru (EXCEL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é funkce (opakování) </a:t>
            </a:r>
            <a:r>
              <a:rPr b="0" lang="cs-CZ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tanovení termodynamických funkcí jednosložkové soustav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Fázový diagram jednosložkové soustavy (vo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Clausius Clapeyron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71500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 C.H.P. Lupis: Chemical Thermodynamics of Materials, Elsevier, 1983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FG10_28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9276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 za extrémních podmínek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voda1" descr=""/>
          <p:cNvPicPr/>
          <p:nvPr/>
        </p:nvPicPr>
        <p:blipFill>
          <a:blip r:embed="rId2"/>
          <a:stretch/>
        </p:blipFill>
        <p:spPr>
          <a:xfrm>
            <a:off x="1224000" y="2505240"/>
            <a:ext cx="5329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lausius clapeyron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848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nitřní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4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181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ce termodynamických funkcí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>
            <a:hlinkClick r:id="rId3"/>
          </p:cNvPr>
          <p:cNvSpPr/>
          <p:nvPr/>
        </p:nvSpPr>
        <p:spPr>
          <a:xfrm>
            <a:off x="4876920" y="51814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991" h="21600">
                <a:moveTo>
                  <a:pt x="6469" y="3985"/>
                </a:moveTo>
                <a:lnTo>
                  <a:pt x="13467" y="3985"/>
                </a:lnTo>
                <a:lnTo>
                  <a:pt x="17522" y="7484"/>
                </a:lnTo>
                <a:lnTo>
                  <a:pt x="17522" y="17615"/>
                </a:lnTo>
                <a:lnTo>
                  <a:pt x="6469" y="17615"/>
                </a:lnTo>
                <a:close/>
              </a:path>
              <a:path fill="darken" w="23991" h="21600">
                <a:moveTo>
                  <a:pt x="13467" y="3985"/>
                </a:moveTo>
                <a:lnTo>
                  <a:pt x="17522" y="7484"/>
                </a:lnTo>
                <a:lnTo>
                  <a:pt x="1346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7150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odynamické vztah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>
            <a:hlinkClick r:id="rId5"/>
          </p:cNvPr>
          <p:cNvSpPr/>
          <p:nvPr/>
        </p:nvSpPr>
        <p:spPr>
          <a:xfrm>
            <a:off x="4114800" y="58672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Less" w="21600" h="37775">
                <a:moveTo>
                  <a:pt x="5273" y="12072"/>
                </a:moveTo>
                <a:lnTo>
                  <a:pt x="12271" y="12072"/>
                </a:lnTo>
                <a:lnTo>
                  <a:pt x="16327" y="15571"/>
                </a:lnTo>
                <a:lnTo>
                  <a:pt x="16327" y="25702"/>
                </a:lnTo>
                <a:lnTo>
                  <a:pt x="5273" y="25702"/>
                </a:lnTo>
                <a:close/>
              </a:path>
              <a:path fill="darken" w="21600" h="37775">
                <a:moveTo>
                  <a:pt x="12271" y="12072"/>
                </a:moveTo>
                <a:lnTo>
                  <a:pt x="16327" y="15571"/>
                </a:lnTo>
                <a:lnTo>
                  <a:pt x="12271" y="155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840" y="1981080"/>
            <a:ext cx="677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Gibbs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lmholz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olární veličiny a standardní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69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3:19:14Z</dcterms:modified>
  <cp:revision>47</cp:revision>
  <dc:subject/>
  <dc:title>C6730 Fázové rovnováhy</dc:title>
</cp:coreProperties>
</file>