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2.gif" ContentType="image/gif"/>
  <Override PartName="/ppt/media/image8.wmf" ContentType="image/x-wmf"/>
  <Override PartName="/ppt/media/image12.wmf" ContentType="image/x-wmf"/>
  <Override PartName="/ppt/media/image4.png" ContentType="image/png"/>
  <Override PartName="/ppt/media/image23.wmf" ContentType="image/x-wmf"/>
  <Override PartName="/ppt/media/image22.wmf" ContentType="image/x-wmf"/>
  <Override PartName="/ppt/media/image10.wmf" ContentType="image/x-wmf"/>
  <Override PartName="/ppt/media/image21.jpeg" ContentType="image/jpeg"/>
  <Override PartName="/ppt/media/image15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7.wmf" ContentType="image/x-wmf"/>
  <Override PartName="/ppt/media/image20.jpeg" ContentType="image/jpeg"/>
  <Override PartName="/ppt/media/image16.wmf" ContentType="image/x-wmf"/>
  <Override PartName="/ppt/media/image1.png" ContentType="image/png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5690-505C-4304-985F-BB1662EDB28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6C2C-BC1D-4ACD-B096-67C4B3F4F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6E9D-656F-4B1D-A438-1F83319B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F859-BB83-40EB-BA49-A47DBFD72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7AFF-8C33-4C26-9D1F-236279592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F3E5-86D1-42FE-B9D9-1D841061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514A-4A50-4962-9F39-3B924522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084A-CE37-40B7-946D-29E4C072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EA07-726A-46F7-A0C6-3F8ACC1D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50CB-EEFC-46D1-AE61-B4F84954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1BFD-3763-4186-A043-DB654CFF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FE9E-AFFF-4374-9FEB-0C796E3A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5600-9432-4ED1-8C98-22A401F4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9331-B949-41B6-ABBC-14AD3872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3150-2A2A-4CBC-9D6A-30F22FEA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B133-8ABA-44CC-88E4-13BEA3D4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5062-2B86-4D85-92C2-D4C0703A4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DC15-7BFE-428E-965E-CCEB2A13F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9551-43D6-4CD8-940D-CEC7B3AF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1197-93FE-417E-96C1-52E70520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D9D5-6B99-4F67-841D-1AC87663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09B0-DB98-4BDF-9B6E-2AC2FAB4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FB56-9BC3-4C43-92A6-B11178F2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AE2F-B4D9-4CBA-A2BC-D54CE3BF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D69D-E7C9-424D-AAEA-7B28D13C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6A1F-EA75-4B85-B9EF-F86673CD4F00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839E-E704-4DFC-9924-8C6E48FA8180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D:\Vyuka\C6730 Term_FR\p&#345;edn&#225;&#353;ka_CZ\02tyden_\03a_Gplocha_H2O.xls" TargetMode="External"/><Relationship Id="rId3" Type="http://schemas.openxmlformats.org/officeDocument/2006/relationships/image" Target="../media/image1.png"/><Relationship Id="rId4" Type="http://schemas.openxmlformats.org/officeDocument/2006/relationships/hyperlink" Target="D:\Vyuka\C6730 Term_FR\p&#345;edn&#225;&#353;ka_CZ\02tyden_\03_P&#345;&#237;klad vypo&#269;tu G vody.tif" TargetMode="External"/><Relationship Id="rId5" Type="http://schemas.openxmlformats.org/officeDocument/2006/relationships/hyperlink" Target="D:\Vyuka\C6730 Term_FR\p&#345;edn&#225;&#353;ka_CZ\02tyden_\03_P&#345;&#237;klad vypo&#269;tu G vody.tif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hyperlink" Target="D:\Vyuka\C6730 Term_FR\p&#345;edn&#225;&#353;ka_CZ\02tyden_\02_Termodynamick&#233; funkce.pdf" TargetMode="External"/><Relationship Id="rId4" Type="http://schemas.openxmlformats.org/officeDocument/2006/relationships/image" Target="../media/image1.png"/><Relationship Id="rId5" Type="http://schemas.openxmlformats.org/officeDocument/2006/relationships/hyperlink" Target="D:\Vyuka\C6730 Term_FR\p&#345;edn&#225;&#353;ka_CZ\02tyden_\02a_lectintro.pdf" TargetMode="Externa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2 Základní termodynamik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Stanovení entrop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85800" y="2013120"/>
            <a:ext cx="777240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Stanovení Gibbsovy energ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85800" y="2241720"/>
            <a:ext cx="777240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Závislost Gibbsovy energie na tlak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85800" y="2054160"/>
            <a:ext cx="777240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Kondenzovaný stav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11676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Plynný stav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996920" y="1981080"/>
            <a:ext cx="5148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D funkce sloučen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523880" y="1065240"/>
            <a:ext cx="586764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Grafická souvislost TD funkcí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09680" y="838080"/>
            <a:ext cx="4442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Vliv p a T na Gibbsovu energii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06640" y="1981080"/>
            <a:ext cx="6929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465120"/>
            <a:ext cx="8991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Klasifikace fázových přechodů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015320" cy="46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560" y="13680"/>
            <a:ext cx="8381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Gibbsova energie fází jednosložkové soustavy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1752480"/>
            <a:ext cx="7924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říklad výpočtu G fází vody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>
            <a:hlinkClick r:id="rId2"/>
          </p:cNvPr>
          <p:cNvSpPr/>
          <p:nvPr/>
        </p:nvSpPr>
        <p:spPr>
          <a:xfrm>
            <a:off x="4343400" y="3962520"/>
            <a:ext cx="914400" cy="11430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1143000"/>
              <a:gd name="textAreaBottom" fmla="*/ 1083960 h 1143000"/>
            </a:gdLst>
            <a:ahLst/>
            <a:rect l="textAreaLeft" t="textAreaTop" r="textAreaRight" b="textAreaBottom"/>
            <a:pathLst>
              <a:path w="21600" h="26998">
                <a:moveTo>
                  <a:pt x="0" y="0"/>
                </a:moveTo>
                <a:lnTo>
                  <a:pt x="21600" y="0"/>
                </a:lnTo>
                <a:lnTo>
                  <a:pt x="21600" y="26998"/>
                </a:lnTo>
                <a:lnTo>
                  <a:pt x="0" y="26998"/>
                </a:lnTo>
                <a:close/>
              </a:path>
              <a:path fill="lightenLess" w="21600" h="269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98">
                <a:moveTo>
                  <a:pt x="21600" y="0"/>
                </a:moveTo>
                <a:lnTo>
                  <a:pt x="21600" y="26998"/>
                </a:lnTo>
                <a:lnTo>
                  <a:pt x="20200" y="25598"/>
                </a:lnTo>
                <a:lnTo>
                  <a:pt x="20200" y="1400"/>
                </a:lnTo>
                <a:close/>
              </a:path>
              <a:path fill="darkenLess" w="21600" h="26998">
                <a:moveTo>
                  <a:pt x="21600" y="26998"/>
                </a:moveTo>
                <a:lnTo>
                  <a:pt x="0" y="26998"/>
                </a:lnTo>
                <a:lnTo>
                  <a:pt x="1400" y="25598"/>
                </a:lnTo>
                <a:lnTo>
                  <a:pt x="20200" y="25598"/>
                </a:lnTo>
                <a:close/>
              </a:path>
              <a:path fill="lighten" w="21600" h="26998">
                <a:moveTo>
                  <a:pt x="0" y="269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98"/>
                </a:lnTo>
                <a:close/>
              </a:path>
              <a:path fill="darkenLess" w="21600" h="26998">
                <a:moveTo>
                  <a:pt x="5273" y="6684"/>
                </a:moveTo>
                <a:lnTo>
                  <a:pt x="12271" y="6684"/>
                </a:lnTo>
                <a:lnTo>
                  <a:pt x="16327" y="10183"/>
                </a:lnTo>
                <a:lnTo>
                  <a:pt x="16327" y="20314"/>
                </a:lnTo>
                <a:lnTo>
                  <a:pt x="5273" y="20314"/>
                </a:lnTo>
                <a:close/>
              </a:path>
              <a:path fill="darken" w="21600" h="26998">
                <a:moveTo>
                  <a:pt x="12271" y="6684"/>
                </a:moveTo>
                <a:lnTo>
                  <a:pt x="16327" y="10183"/>
                </a:lnTo>
                <a:lnTo>
                  <a:pt x="12271" y="10183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3886200"/>
            <a:ext cx="7924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Hyperplocha G fází vody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>
            <a:hlinkClick r:id="rId4"/>
          </p:cNvPr>
          <p:cNvSpPr/>
          <p:nvPr/>
        </p:nvSpPr>
        <p:spPr>
          <a:xfrm>
            <a:off x="6248520" y="3124080"/>
            <a:ext cx="838080" cy="99072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90720"/>
              <a:gd name="textAreaBottom" fmla="*/ 936720 h 990720"/>
            </a:gdLst>
            <a:ahLst/>
            <a:rect l="textAreaLeft" t="textAreaTop" r="textAreaRight" b="textAreaBottom"/>
            <a:pathLst>
              <a:path w="21600" h="25532">
                <a:moveTo>
                  <a:pt x="0" y="0"/>
                </a:moveTo>
                <a:lnTo>
                  <a:pt x="21600" y="0"/>
                </a:lnTo>
                <a:lnTo>
                  <a:pt x="21600" y="25532"/>
                </a:lnTo>
                <a:lnTo>
                  <a:pt x="0" y="25532"/>
                </a:lnTo>
                <a:close/>
              </a:path>
              <a:path fill="lightenLess" w="21600" h="255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32">
                <a:moveTo>
                  <a:pt x="21600" y="0"/>
                </a:moveTo>
                <a:lnTo>
                  <a:pt x="21600" y="25532"/>
                </a:lnTo>
                <a:lnTo>
                  <a:pt x="20200" y="24132"/>
                </a:lnTo>
                <a:lnTo>
                  <a:pt x="20200" y="1400"/>
                </a:lnTo>
                <a:close/>
              </a:path>
              <a:path fill="darkenLess" w="21600" h="25532">
                <a:moveTo>
                  <a:pt x="21600" y="25532"/>
                </a:moveTo>
                <a:lnTo>
                  <a:pt x="0" y="25532"/>
                </a:lnTo>
                <a:lnTo>
                  <a:pt x="1400" y="24132"/>
                </a:lnTo>
                <a:lnTo>
                  <a:pt x="20200" y="24132"/>
                </a:lnTo>
                <a:close/>
              </a:path>
              <a:path fill="lighten" w="21600" h="25532">
                <a:moveTo>
                  <a:pt x="0" y="255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32"/>
                </a:lnTo>
                <a:close/>
              </a:path>
              <a:path fill="darkenLess" w="21600" h="25532">
                <a:moveTo>
                  <a:pt x="5273" y="5951"/>
                </a:moveTo>
                <a:lnTo>
                  <a:pt x="12271" y="5951"/>
                </a:lnTo>
                <a:lnTo>
                  <a:pt x="16327" y="9450"/>
                </a:lnTo>
                <a:lnTo>
                  <a:pt x="16327" y="19581"/>
                </a:lnTo>
                <a:lnTo>
                  <a:pt x="5273" y="19581"/>
                </a:lnTo>
                <a:close/>
              </a:path>
              <a:path fill="darken" w="21600" h="25532">
                <a:moveTo>
                  <a:pt x="12271" y="5951"/>
                </a:moveTo>
                <a:lnTo>
                  <a:pt x="16327" y="9450"/>
                </a:lnTo>
                <a:lnTo>
                  <a:pt x="12271" y="9450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>
            <a:hlinkClick r:id="rId5"/>
          </p:cNvPr>
          <p:cNvSpPr/>
          <p:nvPr/>
        </p:nvSpPr>
        <p:spPr>
          <a:xfrm>
            <a:off x="4191120" y="1828800"/>
            <a:ext cx="685800" cy="9907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990720"/>
              <a:gd name="textAreaBottom" fmla="*/ 946440 h 990720"/>
            </a:gdLst>
            <a:ahLst/>
            <a:rect l="textAreaLeft" t="textAreaTop" r="textAreaRight" b="textAreaBottom"/>
            <a:pathLst>
              <a:path w="21600" h="31199">
                <a:moveTo>
                  <a:pt x="0" y="0"/>
                </a:moveTo>
                <a:lnTo>
                  <a:pt x="21600" y="0"/>
                </a:lnTo>
                <a:lnTo>
                  <a:pt x="21600" y="31199"/>
                </a:lnTo>
                <a:lnTo>
                  <a:pt x="0" y="31199"/>
                </a:lnTo>
                <a:close/>
              </a:path>
              <a:path fill="lightenLess" w="21600" h="31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199">
                <a:moveTo>
                  <a:pt x="21600" y="0"/>
                </a:moveTo>
                <a:lnTo>
                  <a:pt x="21600" y="31199"/>
                </a:lnTo>
                <a:lnTo>
                  <a:pt x="20200" y="29799"/>
                </a:lnTo>
                <a:lnTo>
                  <a:pt x="20200" y="1400"/>
                </a:lnTo>
                <a:close/>
              </a:path>
              <a:path fill="darkenLess" w="21600" h="31199">
                <a:moveTo>
                  <a:pt x="21600" y="31199"/>
                </a:moveTo>
                <a:lnTo>
                  <a:pt x="0" y="31199"/>
                </a:lnTo>
                <a:lnTo>
                  <a:pt x="1400" y="29799"/>
                </a:lnTo>
                <a:lnTo>
                  <a:pt x="20200" y="29799"/>
                </a:lnTo>
                <a:close/>
              </a:path>
              <a:path fill="lighten" w="21600" h="31199">
                <a:moveTo>
                  <a:pt x="0" y="31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9799"/>
                </a:lnTo>
                <a:close/>
              </a:path>
              <a:path fill="darkenLess" w="21600" h="31199">
                <a:moveTo>
                  <a:pt x="5273" y="8784"/>
                </a:moveTo>
                <a:lnTo>
                  <a:pt x="12271" y="8784"/>
                </a:lnTo>
                <a:lnTo>
                  <a:pt x="16327" y="12283"/>
                </a:lnTo>
                <a:lnTo>
                  <a:pt x="16327" y="22414"/>
                </a:lnTo>
                <a:lnTo>
                  <a:pt x="5273" y="22414"/>
                </a:lnTo>
                <a:close/>
              </a:path>
              <a:path fill="darken" w="21600" h="31199">
                <a:moveTo>
                  <a:pt x="12271" y="8784"/>
                </a:moveTo>
                <a:lnTo>
                  <a:pt x="16327" y="12283"/>
                </a:lnTo>
                <a:lnTo>
                  <a:pt x="12271" y="12283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3048120"/>
            <a:ext cx="7924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Zpracování v tabulkovém procesoru (EXCEL)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Termodynamické funkce (opakování) </a:t>
            </a:r>
            <a:r>
              <a:rPr b="0" lang="cs-CZ" sz="2400" spc="-1" strike="noStrike" baseline="30000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Stanovení termodynamických funkcí jednosložkové soustav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datkové příspěvky k Gibbsově energii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Fázový diagram jednosložkové soustavy (voda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Clausius Clapeyronova rovni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5715000"/>
            <a:ext cx="708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baseline="30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 C.H.P. Lupis: Chemical Thermodynamics of Materials, Elsevier, 1983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Fázový diagram vody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8" name="FG10_28" descr=""/>
          <p:cNvPicPr/>
          <p:nvPr/>
        </p:nvPicPr>
        <p:blipFill>
          <a:blip r:embed="rId2"/>
          <a:stretch/>
        </p:blipFill>
        <p:spPr>
          <a:xfrm>
            <a:off x="1752480" y="2514600"/>
            <a:ext cx="492768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Fázový diagram vody za extrémních podmínek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01" name="voda1" descr=""/>
          <p:cNvPicPr/>
          <p:nvPr/>
        </p:nvPicPr>
        <p:blipFill>
          <a:blip r:embed="rId2"/>
          <a:stretch/>
        </p:blipFill>
        <p:spPr>
          <a:xfrm>
            <a:off x="1224000" y="2505240"/>
            <a:ext cx="532908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Clausius clapeyronova rovni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784872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79246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itner a kol.: Fázové rovnováhy, scripta VŠChT Prah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Vnitřní energ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458200" cy="34243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80880" y="5181480"/>
            <a:ext cx="4343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finice termodynamických funkcí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>
            <a:hlinkClick r:id="rId3"/>
          </p:cNvPr>
          <p:cNvSpPr/>
          <p:nvPr/>
        </p:nvSpPr>
        <p:spPr>
          <a:xfrm>
            <a:off x="4876920" y="518148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991" h="21600">
                <a:moveTo>
                  <a:pt x="6469" y="3985"/>
                </a:moveTo>
                <a:lnTo>
                  <a:pt x="13467" y="3985"/>
                </a:lnTo>
                <a:lnTo>
                  <a:pt x="17522" y="7484"/>
                </a:lnTo>
                <a:lnTo>
                  <a:pt x="17522" y="17615"/>
                </a:lnTo>
                <a:lnTo>
                  <a:pt x="6469" y="17615"/>
                </a:lnTo>
                <a:close/>
              </a:path>
              <a:path fill="darken" w="23991" h="21600">
                <a:moveTo>
                  <a:pt x="13467" y="3985"/>
                </a:moveTo>
                <a:lnTo>
                  <a:pt x="17522" y="7484"/>
                </a:lnTo>
                <a:lnTo>
                  <a:pt x="13467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5715000"/>
            <a:ext cx="7924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rmodynamické vztahy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>
            <a:hlinkClick r:id="rId5"/>
          </p:cNvPr>
          <p:cNvSpPr/>
          <p:nvPr/>
        </p:nvSpPr>
        <p:spPr>
          <a:xfrm>
            <a:off x="4114800" y="5867280"/>
            <a:ext cx="304920" cy="5335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533520"/>
              <a:gd name="textAreaBottom" fmla="*/ 514080 h 533520"/>
            </a:gdLst>
            <a:ahLst/>
            <a:rect l="textAreaLeft" t="textAreaTop" r="textAreaRight" b="textAreaBottom"/>
            <a:pathLst>
              <a:path w="21600" h="37775">
                <a:moveTo>
                  <a:pt x="0" y="0"/>
                </a:moveTo>
                <a:lnTo>
                  <a:pt x="21600" y="0"/>
                </a:lnTo>
                <a:lnTo>
                  <a:pt x="21600" y="37775"/>
                </a:lnTo>
                <a:lnTo>
                  <a:pt x="0" y="37775"/>
                </a:lnTo>
                <a:close/>
              </a:path>
              <a:path fill="lightenLess" w="21600" h="377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775">
                <a:moveTo>
                  <a:pt x="21600" y="0"/>
                </a:moveTo>
                <a:lnTo>
                  <a:pt x="21600" y="37775"/>
                </a:lnTo>
                <a:lnTo>
                  <a:pt x="20200" y="36375"/>
                </a:lnTo>
                <a:lnTo>
                  <a:pt x="20200" y="1400"/>
                </a:lnTo>
                <a:close/>
              </a:path>
              <a:path fill="darkenLess" w="21600" h="37775">
                <a:moveTo>
                  <a:pt x="21600" y="37775"/>
                </a:moveTo>
                <a:lnTo>
                  <a:pt x="0" y="37775"/>
                </a:lnTo>
                <a:lnTo>
                  <a:pt x="1400" y="36375"/>
                </a:lnTo>
                <a:lnTo>
                  <a:pt x="20200" y="36375"/>
                </a:lnTo>
                <a:close/>
              </a:path>
              <a:path fill="lighten" w="21600" h="37775">
                <a:moveTo>
                  <a:pt x="0" y="377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375"/>
                </a:lnTo>
                <a:close/>
              </a:path>
              <a:path fill="darkenLess" w="21600" h="37775">
                <a:moveTo>
                  <a:pt x="5273" y="12072"/>
                </a:moveTo>
                <a:lnTo>
                  <a:pt x="12271" y="12072"/>
                </a:lnTo>
                <a:lnTo>
                  <a:pt x="16327" y="15571"/>
                </a:lnTo>
                <a:lnTo>
                  <a:pt x="16327" y="25702"/>
                </a:lnTo>
                <a:lnTo>
                  <a:pt x="5273" y="25702"/>
                </a:lnTo>
                <a:close/>
              </a:path>
              <a:path fill="darken" w="21600" h="37775">
                <a:moveTo>
                  <a:pt x="12271" y="12072"/>
                </a:moveTo>
                <a:lnTo>
                  <a:pt x="16327" y="15571"/>
                </a:lnTo>
                <a:lnTo>
                  <a:pt x="12271" y="15571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Entalp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85840" y="1981080"/>
            <a:ext cx="6772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Entrop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77240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Gibbsova energ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77240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Helmholzova energ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77240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Molární veličiny a standardní stav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073160" y="1981080"/>
            <a:ext cx="699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Stanovení entalp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77240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0-17T13:19:14Z</dcterms:modified>
  <cp:revision>47</cp:revision>
  <dc:subject/>
  <dc:title>C6730 Fázové rovnováhy</dc:title>
</cp:coreProperties>
</file>