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8485-67B5-4CC8-9756-89F2113C2C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076-EDCC-4C5A-A1E1-79AD25FF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2752-4974-4C23-A9F1-6080A25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511-9BE6-40AD-AA25-51D2FB31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218-2D50-477B-9389-68B6E259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365E-4C41-4E2D-B41D-0534E803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C342-E6C9-43BD-9432-28BF79FC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019C-38B7-4BAB-A80C-6D45EA5B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5918-94F1-4470-B53C-40D75806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98B-33E4-4ACE-8CAD-8B5904C5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3997-C93F-4B24-8B76-D7794841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BFAC-6B82-4E43-A8C3-0A3D5FD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5D8-622F-4823-B90E-1711C375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4071-F758-459B-8E48-48A37793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4CAC-1310-4F58-8B5C-CDB67CE7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BD40-EBA8-43DD-9B89-0B1A5279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11EB-2310-4BBD-9A7C-D5C75248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3D47-AEF8-4943-9CBF-47A7D442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A85-8783-446A-ABB9-C9BB03B3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DBC-B850-4B4F-8120-87984A35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E2B-F92C-4D02-81DB-D6980AC1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E41-DAB7-4D18-9319-EF65F258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BD4-8BA4-4F3D-80F1-5D1D52C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D1E-D701-49E7-BA63-89F437B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8B3-D0DC-495F-A645-52EE4BE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D7E7-860A-4D15-B793-6EABB14DCD7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A501-51A5-4623-A174-41078430566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3a_Gplocha_H2O.xls" TargetMode="External"/><Relationship Id="rId3" Type="http://schemas.openxmlformats.org/officeDocument/2006/relationships/image" Target="../media/image1.png"/><Relationship Id="rId4" Type="http://schemas.openxmlformats.org/officeDocument/2006/relationships/hyperlink" Target="D:\Vyuka\C6730 Term_FR\p&#345;edn&#225;&#353;ka_CZ\02tyden_\03_P&#345;&#237;klad vypo&#269;tu G vody.tif" TargetMode="External"/><Relationship Id="rId5" Type="http://schemas.openxmlformats.org/officeDocument/2006/relationships/hyperlink" Target="D:\Vyuka\C6730 Term_FR\p&#345;edn&#225;&#353;ka_CZ\02tyden_\03_P&#345;&#237;klad vypo&#269;tu G vody.tif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2tyden_\02_Termodynamick&#233; funkce.pdf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2tyden_\02a_lectintro.pdf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2 Základní termodynamik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013120"/>
            <a:ext cx="77724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Gibbsovy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2241720"/>
            <a:ext cx="77724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ávislost Gibbsovy energie na tla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2054160"/>
            <a:ext cx="7772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ondenzova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167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lynný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96920" y="1981080"/>
            <a:ext cx="514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D funkce sloučen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1065240"/>
            <a:ext cx="58676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Grafická souvislost TD fun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42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p a T na Gibbsovu energi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06640" y="1981080"/>
            <a:ext cx="6929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6512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Klasifikace fázových přechod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015320" cy="46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13680"/>
            <a:ext cx="8381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ova energie fází jednosložkové soustav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7524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říklad výpočtu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>
            <a:hlinkClick r:id="rId2"/>
          </p:cNvPr>
          <p:cNvSpPr/>
          <p:nvPr/>
        </p:nvSpPr>
        <p:spPr>
          <a:xfrm>
            <a:off x="4343400" y="396252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Less" w="21600" h="26998">
                <a:moveTo>
                  <a:pt x="5273" y="6684"/>
                </a:moveTo>
                <a:lnTo>
                  <a:pt x="12271" y="6684"/>
                </a:lnTo>
                <a:lnTo>
                  <a:pt x="16327" y="10183"/>
                </a:lnTo>
                <a:lnTo>
                  <a:pt x="16327" y="20314"/>
                </a:lnTo>
                <a:lnTo>
                  <a:pt x="5273" y="20314"/>
                </a:lnTo>
                <a:close/>
              </a:path>
              <a:path fill="darken" w="21600" h="26998">
                <a:moveTo>
                  <a:pt x="12271" y="6684"/>
                </a:moveTo>
                <a:lnTo>
                  <a:pt x="16327" y="10183"/>
                </a:lnTo>
                <a:lnTo>
                  <a:pt x="12271" y="101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8862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Hyperplocha G fází vod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>
            <a:hlinkClick r:id="rId4"/>
          </p:cNvPr>
          <p:cNvSpPr/>
          <p:nvPr/>
        </p:nvSpPr>
        <p:spPr>
          <a:xfrm>
            <a:off x="6248520" y="312408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>
            <a:hlinkClick r:id="rId5"/>
          </p:cNvPr>
          <p:cNvSpPr/>
          <p:nvPr/>
        </p:nvSpPr>
        <p:spPr>
          <a:xfrm>
            <a:off x="4191120" y="182880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Less" w="21600" h="31199">
                <a:moveTo>
                  <a:pt x="5273" y="8784"/>
                </a:moveTo>
                <a:lnTo>
                  <a:pt x="12271" y="8784"/>
                </a:lnTo>
                <a:lnTo>
                  <a:pt x="16327" y="12283"/>
                </a:lnTo>
                <a:lnTo>
                  <a:pt x="16327" y="22414"/>
                </a:lnTo>
                <a:lnTo>
                  <a:pt x="5273" y="22414"/>
                </a:lnTo>
                <a:close/>
              </a:path>
              <a:path fill="darken" w="21600" h="31199">
                <a:moveTo>
                  <a:pt x="12271" y="8784"/>
                </a:moveTo>
                <a:lnTo>
                  <a:pt x="16327" y="12283"/>
                </a:lnTo>
                <a:lnTo>
                  <a:pt x="12271" y="12283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3048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pracování v tabulkovém procesoru (EXCEL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é funkce (opakování) </a:t>
            </a:r>
            <a:r>
              <a:rPr b="0" lang="cs-CZ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tanovení termodynamických funkcí jednosložkové soustav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Fázový diagram jednosložkové soustavy (vod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Clausius Clapeyron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71500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baseline="30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 C.H.P. Lupis: Chemical Thermodynamics of Materials, Elsevier, 1983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8" name="FG10_28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49276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Fázový diagram vody za extrémních podmínek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1" name="voda1" descr=""/>
          <p:cNvPicPr/>
          <p:nvPr/>
        </p:nvPicPr>
        <p:blipFill>
          <a:blip r:embed="rId2"/>
          <a:stretch/>
        </p:blipFill>
        <p:spPr>
          <a:xfrm>
            <a:off x="1224000" y="250524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lausius clapeyronova rovn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8487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nitřní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3424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80880" y="51814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ce termodynamických funkcí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>
            <a:hlinkClick r:id="rId3"/>
          </p:cNvPr>
          <p:cNvSpPr/>
          <p:nvPr/>
        </p:nvSpPr>
        <p:spPr>
          <a:xfrm>
            <a:off x="4876920" y="51814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991" h="21600">
                <a:moveTo>
                  <a:pt x="6469" y="3985"/>
                </a:moveTo>
                <a:lnTo>
                  <a:pt x="13467" y="3985"/>
                </a:lnTo>
                <a:lnTo>
                  <a:pt x="17522" y="7484"/>
                </a:lnTo>
                <a:lnTo>
                  <a:pt x="17522" y="17615"/>
                </a:lnTo>
                <a:lnTo>
                  <a:pt x="6469" y="17615"/>
                </a:lnTo>
                <a:close/>
              </a:path>
              <a:path fill="darken" w="23991" h="21600">
                <a:moveTo>
                  <a:pt x="13467" y="3985"/>
                </a:moveTo>
                <a:lnTo>
                  <a:pt x="17522" y="7484"/>
                </a:lnTo>
                <a:lnTo>
                  <a:pt x="1346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7150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odynamické vztah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>
            <a:hlinkClick r:id="rId5"/>
          </p:cNvPr>
          <p:cNvSpPr/>
          <p:nvPr/>
        </p:nvSpPr>
        <p:spPr>
          <a:xfrm>
            <a:off x="4114800" y="58672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  <a:path fill="darkenLess" w="21600" h="37775">
                <a:moveTo>
                  <a:pt x="5273" y="12072"/>
                </a:moveTo>
                <a:lnTo>
                  <a:pt x="12271" y="12072"/>
                </a:lnTo>
                <a:lnTo>
                  <a:pt x="16327" y="15571"/>
                </a:lnTo>
                <a:lnTo>
                  <a:pt x="16327" y="25702"/>
                </a:lnTo>
                <a:lnTo>
                  <a:pt x="5273" y="25702"/>
                </a:lnTo>
                <a:close/>
              </a:path>
              <a:path fill="darken" w="21600" h="37775">
                <a:moveTo>
                  <a:pt x="12271" y="12072"/>
                </a:moveTo>
                <a:lnTo>
                  <a:pt x="16327" y="15571"/>
                </a:lnTo>
                <a:lnTo>
                  <a:pt x="12271" y="155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840" y="1981080"/>
            <a:ext cx="677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Entro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Gibbs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724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lmholzova energ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Molární veličiny a standardní stav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69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tanovení entalpi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3:19:14Z</dcterms:modified>
  <cp:revision>47</cp:revision>
  <dc:subject/>
  <dc:title>C6730 Fázové rovnováhy</dc:title>
</cp:coreProperties>
</file>