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BCE1-E904-430D-BF1F-9280569554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DB4-50A2-4857-A320-7219FB25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955-6DD6-4643-81B1-342255AA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91E-9076-4F16-87B1-A8190555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CD6-3DBE-4BDE-8090-8CE066C0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A63D-8785-4F9D-9812-4D282147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8056-5212-44A5-996D-D46D3B08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D7DA-56CD-4280-8E58-5F15F2D0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14BF-4393-44C5-A6EB-897BF3DD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EACF-7998-451D-B5F3-3E558C33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35E5-16D1-4C9C-81F7-29E7FCFD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60AB-0F63-48ED-BF3E-60D11B83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C61-890D-4D70-8388-7BBCDA52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73E6-6895-4F8D-902D-A4FAC52B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5378-D226-40D3-91F2-7DD0FEC2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4769-CC6E-40E7-BB57-1B65B700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737B-FC80-4D3F-BF95-5D3ED275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570D-BDCB-47D6-8ABB-F993B165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F46-BDAE-4319-B556-0EBD8406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8C8-7F9E-4871-AC29-6C7B38AE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5C5-1EA6-4045-80F3-936B3963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D92-B4A5-473C-BD0B-F625E951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4D0-F4BC-49D3-AE12-CD233A6C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361-9EEB-41E0-A45E-D6A104BF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E99-142A-4932-8CB3-A86BAC8C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4955-299B-4872-A6A0-0227F4452D8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F766-2D22-4A21-A900-0ADE4AAF563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3a_Gplocha_H2O.xls" TargetMode="External"/><Relationship Id="rId3" Type="http://schemas.openxmlformats.org/officeDocument/2006/relationships/image" Target="../media/image1.png"/><Relationship Id="rId4" Type="http://schemas.openxmlformats.org/officeDocument/2006/relationships/hyperlink" Target="D:\Vyuka\C6730 Term_FR\p&#345;edn&#225;&#353;ka_CZ\02tyden_\03_P&#345;&#237;klad vypo&#269;tu G vody.tif" TargetMode="External"/><Relationship Id="rId5" Type="http://schemas.openxmlformats.org/officeDocument/2006/relationships/hyperlink" Target="D:\Vyuka\C6730 Term_FR\p&#345;edn&#225;&#353;ka_CZ\02tyden_\03_P&#345;&#237;klad vypo&#269;tu G vody.ti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2tyden_\02_Termodynamick&#233; funkce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2tyden_\02a_lectintro.pdf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2 Základní termodynamik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772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Gibbsovy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77724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ávislost Gibbsovy energie na tla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2054160"/>
            <a:ext cx="7772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ondenzova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167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lyn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6920" y="1981080"/>
            <a:ext cx="514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D funkce sloučen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065240"/>
            <a:ext cx="5867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Grafická souvislost TD fun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4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p a T na Gibbsovu energi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06640" y="1981080"/>
            <a:ext cx="69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6512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lasifikace fázových přechod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0153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368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ova energie fází jednosložkové soustav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říklad výpočtu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>
            <a:hlinkClick r:id="rId2"/>
          </p:cNvPr>
          <p:cNvSpPr/>
          <p:nvPr/>
        </p:nvSpPr>
        <p:spPr>
          <a:xfrm>
            <a:off x="4343400" y="396252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Less" w="21600" h="26998">
                <a:moveTo>
                  <a:pt x="5273" y="6684"/>
                </a:moveTo>
                <a:lnTo>
                  <a:pt x="12271" y="6684"/>
                </a:lnTo>
                <a:lnTo>
                  <a:pt x="16327" y="10183"/>
                </a:lnTo>
                <a:lnTo>
                  <a:pt x="16327" y="20314"/>
                </a:lnTo>
                <a:lnTo>
                  <a:pt x="5273" y="20314"/>
                </a:lnTo>
                <a:close/>
              </a:path>
              <a:path fill="darken" w="21600" h="26998">
                <a:moveTo>
                  <a:pt x="12271" y="6684"/>
                </a:moveTo>
                <a:lnTo>
                  <a:pt x="16327" y="10183"/>
                </a:lnTo>
                <a:lnTo>
                  <a:pt x="12271" y="101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Hyperplocha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6248520" y="31240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>
            <a:hlinkClick r:id="rId5"/>
          </p:cNvPr>
          <p:cNvSpPr/>
          <p:nvPr/>
        </p:nvSpPr>
        <p:spPr>
          <a:xfrm>
            <a:off x="4191120" y="182880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Less" w="21600" h="31199">
                <a:moveTo>
                  <a:pt x="5273" y="8784"/>
                </a:moveTo>
                <a:lnTo>
                  <a:pt x="12271" y="8784"/>
                </a:lnTo>
                <a:lnTo>
                  <a:pt x="16327" y="12283"/>
                </a:lnTo>
                <a:lnTo>
                  <a:pt x="16327" y="22414"/>
                </a:lnTo>
                <a:lnTo>
                  <a:pt x="5273" y="22414"/>
                </a:lnTo>
                <a:close/>
              </a:path>
              <a:path fill="darken" w="21600" h="31199">
                <a:moveTo>
                  <a:pt x="12271" y="8784"/>
                </a:moveTo>
                <a:lnTo>
                  <a:pt x="16327" y="12283"/>
                </a:lnTo>
                <a:lnTo>
                  <a:pt x="12271" y="122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pracování v tabulkovém procesoru (EXCEL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é funkce (opakování) </a:t>
            </a:r>
            <a:r>
              <a:rPr b="0" lang="cs-CZ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tanovení termodynamických funkcí jednosložkové soustav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Fázový diagram jednosložkové soustavy (vo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Clausius Clapeyron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71500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 C.H.P. Lupis: Chemical Thermodynamics of Materials, Elsevier, 1983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FG10_2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9276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 za extrémních podmínek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voda1" descr=""/>
          <p:cNvPicPr/>
          <p:nvPr/>
        </p:nvPicPr>
        <p:blipFill>
          <a:blip r:embed="rId2"/>
          <a:stretch/>
        </p:blipFill>
        <p:spPr>
          <a:xfrm>
            <a:off x="1224000" y="250524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lausius clapeyron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848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nitřní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4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181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ce termodynamických funkcí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>
            <a:hlinkClick r:id="rId3"/>
          </p:cNvPr>
          <p:cNvSpPr/>
          <p:nvPr/>
        </p:nvSpPr>
        <p:spPr>
          <a:xfrm>
            <a:off x="4876920" y="51814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991" h="21600">
                <a:moveTo>
                  <a:pt x="6469" y="3985"/>
                </a:moveTo>
                <a:lnTo>
                  <a:pt x="13467" y="3985"/>
                </a:lnTo>
                <a:lnTo>
                  <a:pt x="17522" y="7484"/>
                </a:lnTo>
                <a:lnTo>
                  <a:pt x="17522" y="17615"/>
                </a:lnTo>
                <a:lnTo>
                  <a:pt x="6469" y="17615"/>
                </a:lnTo>
                <a:close/>
              </a:path>
              <a:path fill="darken" w="23991" h="21600">
                <a:moveTo>
                  <a:pt x="13467" y="3985"/>
                </a:moveTo>
                <a:lnTo>
                  <a:pt x="17522" y="7484"/>
                </a:lnTo>
                <a:lnTo>
                  <a:pt x="1346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7150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odynamické vztah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>
            <a:hlinkClick r:id="rId5"/>
          </p:cNvPr>
          <p:cNvSpPr/>
          <p:nvPr/>
        </p:nvSpPr>
        <p:spPr>
          <a:xfrm>
            <a:off x="4114800" y="58672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Less" w="21600" h="37775">
                <a:moveTo>
                  <a:pt x="5273" y="12072"/>
                </a:moveTo>
                <a:lnTo>
                  <a:pt x="12271" y="12072"/>
                </a:lnTo>
                <a:lnTo>
                  <a:pt x="16327" y="15571"/>
                </a:lnTo>
                <a:lnTo>
                  <a:pt x="16327" y="25702"/>
                </a:lnTo>
                <a:lnTo>
                  <a:pt x="5273" y="25702"/>
                </a:lnTo>
                <a:close/>
              </a:path>
              <a:path fill="darken" w="21600" h="37775">
                <a:moveTo>
                  <a:pt x="12271" y="12072"/>
                </a:moveTo>
                <a:lnTo>
                  <a:pt x="16327" y="15571"/>
                </a:lnTo>
                <a:lnTo>
                  <a:pt x="12271" y="155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840" y="1981080"/>
            <a:ext cx="677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Gibbs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lmholz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olární veličiny a standardní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69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3:19:14Z</dcterms:modified>
  <cp:revision>47</cp:revision>
  <dc:subject/>
  <dc:title>C6730 Fázové rovnováhy</dc:title>
</cp:coreProperties>
</file>