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10.wmf" ContentType="image/x-wmf"/>
  <Override PartName="/ppt/media/image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18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8.png" ContentType="image/png"/>
  <Override PartName="/ppt/media/image13.jpeg" ContentType="image/jpeg"/>
  <Override PartName="/ppt/media/image30.png" ContentType="image/png"/>
  <Override PartName="/ppt/media/image2.gif" ContentType="image/gif"/>
  <Override PartName="/ppt/media/image12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5BB8-CB5E-43C3-A0C6-1573ABAE2C3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EE9-D365-4D9B-BEC4-7B4CC575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09E-0976-47C0-83D3-247F33AA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7F29-D94D-468C-BD52-5D421CC4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42A-A6B9-495C-AC79-CCE8F3E1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6BE2-71DF-444B-BDD6-33634F9F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E72F-EB62-43AE-A6F6-FA550672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F04A-2D14-4FA3-8422-AA418883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8135-1DC8-4D1B-9D73-B7FA9D47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5F07-4303-4293-943E-9BD16851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07A1-1312-4BD0-97EC-5EED380D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05F6-4100-43C5-9306-2FAD886C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3A5F-5651-47D1-A898-3E148440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86C2-9757-4623-82D3-430F8DD3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EAA8-4A58-4635-89B2-23B0AEA4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126B-C01C-49C6-8917-ECF90C36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0D58-137A-47BE-8AF3-14BE260E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A581-A9DA-4578-9B8D-A9961595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3D9-6349-4CBB-91ED-A9342D7D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5AC8-A634-4D8B-B74F-12D6F36A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9E3-AFBE-4D70-9519-2500D814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82E-93C8-4F71-BB8E-2081A799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5FD-09C6-451E-9167-72EC6FD1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FD4-D114-4176-9E5F-26EEE32E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D303-9571-43AE-A0AF-81C1A5F0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D5F5-FE96-4565-BC58-A779C2301F9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C64A-967C-430D-B672-ADD58D2EFB1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3tyden_jednoduch&#233; FD\Z&#225;kladn&#237; termodynamika sm&#283;s&#237;.pdf" TargetMode="External"/><Relationship Id="rId4" Type="http://schemas.openxmlformats.org/officeDocument/2006/relationships/hyperlink" Target="D:\Vyuka\C6730 Term_FR\p&#345;edn&#225;&#353;ka_CZ\03tyden_jednoduch&#233; FD\Termodynamika m&#237;sen&#237;.pdf" TargetMode="External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D:\Vyuka\C6730 Term_FR\p&#345;edn&#225;&#353;ka_CZ\03tyden_jednoduch&#233; FD\07_FR_p&#345;&#237;klady_polymery.tif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techmania.cz/edutorium/art_exponaty.php?xkat=fyzika&amp;xser=456c656b74f8696e612061206d61676e657469736d7573h&amp;key=444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google.cz/imgres?q=ferromagnetic+transformation&amp;hl=cs&amp;biw=997&amp;bih=522&amp;tbm=isch&amp;tbnid=LhiQhsOSiBf0GM:&amp;imgrefurl=http://jpsj.ipap.jp/news/jpsj-nc_73.html&amp;docid=fJQ7kLWBc1mA3M&amp;w=250&amp;h=222&amp;ei=QfuSTsOzA4nU4QTP5_iFAQ&amp;zoom=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imgres?q=energie+povrchu&amp;hl=cs&amp;sa=X&amp;biw=997&amp;bih=522&amp;tbm=isch&amp;prmd=imvns&amp;tbnid=onlm-lJt0mJFjM:&amp;imgrefurl=http://fyzweb.cz/clanky/index.php%3Fid%3D144&amp;docid=q0JtXT8ZJr_euM&amp;w=607&amp;h=416&amp;ei=wwOTTty1O-ig4gTK45C_AQ&amp;zoom=1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kof.zcu.cz/vusc/pg/termo09/termodynamics/phase/phase2.htm" TargetMode="External"/><Relationship Id="rId5" Type="http://schemas.openxmlformats.org/officeDocument/2006/relationships/hyperlink" Target="http://www.google.cz/imgres?q=entalpie+f&#225;zov&#233;ho+rozhran&#237;&amp;hl=cs&amp;biw=997&amp;bih=522&amp;tbm=isch&amp;tbnid=dlGBjdWMtN6XjM:&amp;imgrefurl=http://www.vscht.cz/fch/cz/vyzkum/equilibria.html&amp;docid=aZ3ciVfBsiVR8M&amp;w=72&amp;h=61&amp;ei=3AWTTtWgH-fj4QTloemoAQ&amp;zoom=1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3 Vybrané kapitoly pro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Binární směs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Základní termodynamika směsí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ermodynamika míšen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>
            <a:hlinkClick r:id="rId3"/>
          </p:cNvPr>
          <p:cNvSpPr/>
          <p:nvPr/>
        </p:nvSpPr>
        <p:spPr>
          <a:xfrm>
            <a:off x="7696080" y="20574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4780" h="21600">
                <a:moveTo>
                  <a:pt x="26863" y="3985"/>
                </a:moveTo>
                <a:lnTo>
                  <a:pt x="33861" y="3985"/>
                </a:lnTo>
                <a:lnTo>
                  <a:pt x="37917" y="7484"/>
                </a:lnTo>
                <a:lnTo>
                  <a:pt x="37917" y="17615"/>
                </a:lnTo>
                <a:lnTo>
                  <a:pt x="26863" y="17615"/>
                </a:lnTo>
                <a:close/>
              </a:path>
              <a:path fill="darken" w="64780" h="21600">
                <a:moveTo>
                  <a:pt x="33861" y="3985"/>
                </a:moveTo>
                <a:lnTo>
                  <a:pt x="37917" y="7484"/>
                </a:lnTo>
                <a:lnTo>
                  <a:pt x="33861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>
            <a:hlinkClick r:id="rId4"/>
          </p:cNvPr>
          <p:cNvSpPr/>
          <p:nvPr/>
        </p:nvSpPr>
        <p:spPr>
          <a:xfrm>
            <a:off x="7696080" y="25909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9104" h="21600">
                <a:moveTo>
                  <a:pt x="29025" y="3985"/>
                </a:moveTo>
                <a:lnTo>
                  <a:pt x="36023" y="3985"/>
                </a:lnTo>
                <a:lnTo>
                  <a:pt x="40079" y="7484"/>
                </a:lnTo>
                <a:lnTo>
                  <a:pt x="40079" y="17615"/>
                </a:lnTo>
                <a:lnTo>
                  <a:pt x="29025" y="17615"/>
                </a:lnTo>
                <a:close/>
              </a:path>
              <a:path fill="darken" w="69104" h="21600">
                <a:moveTo>
                  <a:pt x="36023" y="3985"/>
                </a:moveTo>
                <a:lnTo>
                  <a:pt x="40079" y="7484"/>
                </a:lnTo>
                <a:lnTo>
                  <a:pt x="36023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617220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Zušková: Fyzikální chemie, Praha, Karlova univ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533520" y="3809880"/>
            <a:ext cx="81532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roč vzniká fázová rovnováha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5543280" cy="5543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562720" y="1295280"/>
            <a:ext cx="35812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dmíšen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09480" y="1195560"/>
            <a:ext cx="80010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voufázová rovnováha kapalné fáz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0867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pinoda a konoda (tie-line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610320" cy="532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3" name="">
            <a:hlinkClick r:id="rId2"/>
          </p:cNvPr>
          <p:cNvSpPr/>
          <p:nvPr/>
        </p:nvSpPr>
        <p:spPr>
          <a:xfrm>
            <a:off x="7772400" y="571500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0098" h="21600">
                <a:moveTo>
                  <a:pt x="14522" y="3985"/>
                </a:moveTo>
                <a:lnTo>
                  <a:pt x="21520" y="3985"/>
                </a:lnTo>
                <a:lnTo>
                  <a:pt x="25576" y="7484"/>
                </a:lnTo>
                <a:lnTo>
                  <a:pt x="25576" y="17615"/>
                </a:lnTo>
                <a:lnTo>
                  <a:pt x="14522" y="17615"/>
                </a:lnTo>
                <a:close/>
              </a:path>
              <a:path fill="darken" w="40098" h="21600">
                <a:moveTo>
                  <a:pt x="21520" y="3985"/>
                </a:moveTo>
                <a:lnTo>
                  <a:pt x="25576" y="7484"/>
                </a:lnTo>
                <a:lnTo>
                  <a:pt x="21520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50292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Příklad: Organické soustavy a polyme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ovnováha liguid- ga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Jednoduchá destil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7150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ělitelnost směs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3036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78678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estilace - experi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781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FD etanol – v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37396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(magnetický příspěvek, povrch, …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ka jednoduchých směs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Proč vznikají fázové rovnováhy 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Odmíšení (spinodální rozpa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Rovnováha kapalné a plynné fá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6403680" y="914400"/>
            <a:ext cx="19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Výroba lihov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0" name="ViewImage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3992760" cy="2994120"/>
          </a:xfrm>
          <a:prstGeom prst="rect">
            <a:avLst/>
          </a:prstGeom>
          <a:ln w="0">
            <a:noFill/>
          </a:ln>
        </p:spPr>
      </p:pic>
      <p:pic>
        <p:nvPicPr>
          <p:cNvPr id="251" name="jednokotl1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03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Dodatkové příspěvky k Gibbsově energii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ý příspěv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>
            <a:hlinkClick r:id="rId2"/>
          </p:cNvPr>
          <p:cNvSpPr/>
          <p:nvPr/>
        </p:nvSpPr>
        <p:spPr>
          <a:xfrm>
            <a:off x="7467480" y="685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981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Magnetismu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1676520"/>
            <a:ext cx="31240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Látky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Diamagnetické… nulový mg. Moment (C, Cu, S, H2O,..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Paramagnetické … vlastní mg. Moment (Al, Pt, Mg, O, bez mg. Pole uspořádání mizí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Silný Paramagnetický efekt: Ferromagnetické (Fe, Co, Ni, Gd), Ferrimagnetické (ferrity, Oxidy Fe3+Tc=622stC))) uspořádání bez mg. Pole zůstává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Antiferromagnetické (střífání mg. Momentů) Cr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0" name="uspořádání%20domén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5486400" cy="2664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14400" y="5486400"/>
            <a:ext cx="74674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Zrušení uspořádání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Currieho teplota: feromagnetic (nebo ferrimagnerické) – paramagnetické (Fe: Tc=768stC (1041K), Ni: Tc=358stC, Co: Tc=1130stC), Oxidy Fe3+ Tc=622stC)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Neelova teplota: Antiferomagnetické  mění na paramagnetické, Cr: Tn=35st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é vlastnost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>
            <a:hlinkClick r:id="rId2"/>
          </p:cNvPr>
          <p:cNvSpPr/>
          <p:nvPr/>
        </p:nvSpPr>
        <p:spPr>
          <a:xfrm>
            <a:off x="6094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371600"/>
            <a:ext cx="2590920" cy="2290680"/>
          </a:xfrm>
          <a:prstGeom prst="rect">
            <a:avLst/>
          </a:prstGeom>
          <a:ln w="0">
            <a:noFill/>
          </a:ln>
        </p:spPr>
      </p:pic>
      <p:pic>
        <p:nvPicPr>
          <p:cNvPr id="168" name="00314" descr=""/>
          <p:cNvPicPr/>
          <p:nvPr/>
        </p:nvPicPr>
        <p:blipFill>
          <a:blip r:embed="rId5"/>
          <a:stretch/>
        </p:blipFill>
        <p:spPr>
          <a:xfrm>
            <a:off x="380880" y="2133720"/>
            <a:ext cx="3581640" cy="2217600"/>
          </a:xfrm>
          <a:prstGeom prst="rect">
            <a:avLst/>
          </a:prstGeom>
          <a:ln w="0">
            <a:noFill/>
          </a:ln>
        </p:spPr>
      </p:pic>
      <p:pic>
        <p:nvPicPr>
          <p:cNvPr id="169" name="epl12802fig5" descr=""/>
          <p:cNvPicPr/>
          <p:nvPr/>
        </p:nvPicPr>
        <p:blipFill>
          <a:blip r:embed="rId6"/>
          <a:stretch/>
        </p:blipFill>
        <p:spPr>
          <a:xfrm>
            <a:off x="4495680" y="3730680"/>
            <a:ext cx="37339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Experimentaální TD data 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1" name="image_1309527580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124080" cy="2416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088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MG%20entropy%20Gd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39924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9920" cy="4732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8120" y="563868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(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)…funkce jejíž tvar závisi na typu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T…teplota přechodu pro danou látku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g. Vlastnosti nanočásti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Nanočástice" descr=""/>
          <p:cNvPicPr/>
          <p:nvPr/>
        </p:nvPicPr>
        <p:blipFill>
          <a:blip r:embed="rId1"/>
          <a:stretch/>
        </p:blipFill>
        <p:spPr>
          <a:xfrm>
            <a:off x="838080" y="1611360"/>
            <a:ext cx="70106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vrchový příspěvek 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762120"/>
            <a:ext cx="3097440" cy="2125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3352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Kritický polomě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880" y="1857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73240" y="25066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3200400"/>
            <a:ext cx="81108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4038480"/>
            <a:ext cx="72392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 i povrchová energie popisují stejný jev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ají i stejný rozm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 (N.m-1=J.m-2=kg.s-2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ermín „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č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ast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ji pr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kapalinová mezifází (LL,L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„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á energie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zejména 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i popis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ezifází tvo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cího povrch pevné látce (SS,SL,S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3" name="dG" descr=""/>
          <p:cNvPicPr/>
          <p:nvPr/>
        </p:nvPicPr>
        <p:blipFill>
          <a:blip r:embed="rId7"/>
          <a:stretch/>
        </p:blipFill>
        <p:spPr>
          <a:xfrm>
            <a:off x="5638680" y="5334120"/>
            <a:ext cx="3154320" cy="9255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4786200" y="2967120"/>
            <a:ext cx="5562720" cy="360"/>
            <a:chOff x="4786200" y="2967120"/>
            <a:chExt cx="5562720" cy="360"/>
          </a:xfrm>
        </p:grpSpPr>
        <p:sp>
          <p:nvSpPr>
            <p:cNvPr id="195" name=""/>
            <p:cNvSpPr/>
            <p:nvPr/>
          </p:nvSpPr>
          <p:spPr>
            <a:xfrm>
              <a:off x="4786200" y="2967120"/>
              <a:ext cx="55627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4786200" y="2967120"/>
              <a:ext cx="5562720" cy="360"/>
              <a:chOff x="4786200" y="2967120"/>
              <a:chExt cx="5562720" cy="360"/>
            </a:xfrm>
          </p:grpSpPr>
          <p:sp>
            <p:nvSpPr>
              <p:cNvPr id="197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248520" y="40384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rmodynamika povrch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0" name="dw" descr=""/>
          <p:cNvPicPr/>
          <p:nvPr/>
        </p:nvPicPr>
        <p:blipFill>
          <a:blip r:embed="rId8"/>
          <a:stretch/>
        </p:blipFill>
        <p:spPr>
          <a:xfrm>
            <a:off x="6781680" y="4876920"/>
            <a:ext cx="1325520" cy="239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914400" y="1447920"/>
            <a:ext cx="243828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7" name="images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495680" cy="1636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447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máčecí energi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60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říspěvek energie hranic fáz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066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Mechanická rovnována na rozhraní fází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884920" y="3657600"/>
            <a:ext cx="2840040" cy="2995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4191120"/>
            <a:ext cx="4572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NewRomanPS-BoldMT"/>
              </a:rPr>
              <a:t>Gibbs-Thomsonova rovnice </a:t>
            </a: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umožňuje vypočítat přebyt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Gibbsovy energie, které malé částice (zrna) mají. Pro kulovité objekty v matrici platí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=-2 V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Oswaldovo zrán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4008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Viz např: Pochody na fázových rozhraní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943600" y="2236680"/>
            <a:ext cx="251460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5:02:39Z</dcterms:modified>
  <cp:revision>60</cp:revision>
  <dc:subject/>
  <dc:title>C6730 Fázové rovnováhy</dc:title>
</cp:coreProperties>
</file>