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22.jpeg" ContentType="image/jpeg"/>
  <Override PartName="/ppt/media/image6.wmf" ContentType="image/x-wmf"/>
  <Override PartName="/ppt/media/image25.jpeg" ContentType="image/jpeg"/>
  <Override PartName="/ppt/media/image20.png" ContentType="image/png"/>
  <Override PartName="/ppt/media/image24.wmf" ContentType="image/x-wmf"/>
  <Override PartName="/ppt/media/image21.jpeg" ContentType="image/jpeg"/>
  <Override PartName="/ppt/media/image16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17.jpeg" ContentType="image/jpe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7E12-0DA4-4E56-A8AA-5D2550A9B34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574C-07B8-4BB7-853F-4732CCA5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6BB3-7866-4673-B40A-14A21134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952-5029-4625-9CCF-95653ADD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52BC-2C2D-4441-A804-D41A6681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051D-5C1D-403B-9587-8DA3451D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633B-5932-49A2-88CC-0E71CF2B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1239-FB07-4FB4-97AA-1050CA55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8EEB-9DDA-4663-B5D1-66784820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EB03-F5B5-49A8-9D9B-0F610F3B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D8BB-59E1-4179-9293-57704041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6BC8-8F33-46FC-8AAE-E7B2E527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ABF7-38BF-4DBC-BF76-F5E5A472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16E4-09E8-476D-9C92-B9CD3F83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865E-D96C-4A4F-AF4C-AE628B73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7E9C-407D-4E26-9A6C-8EECE5BC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549D-6D1A-4D0D-8C26-D342841B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A122-DBD9-4B72-9792-1A36800BA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662-05E1-44B4-9043-0E377FEF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5B8F-622D-4373-A7AD-F7DA33D2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3A7-807B-425D-B751-9178B452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12C0-904E-49B1-89E3-87908C52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6CD3-BEC7-4835-A833-BCCF355A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15C4-7106-4598-A3CB-FFB97149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11B-9037-4888-85A7-64C4D74E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5336-0C19-4FC0-AA7B-51DFE956274C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9D4D-9A28-4AFB-815E-9FDF9AEA04F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hyperlink" Target="D:\Vyuka\C6730 Term_FR\p&#345;edn&#225;&#353;ka_CZ\05tyden_modely GE f&#225;z&#237;\01a_clanek_agren.pdf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google.cz/imgres?q=calphad&amp;um=1&amp;hl=cs&amp;sa=N&amp;biw=997&amp;bih=522&amp;tbm=isch&amp;tbnid=3eG69nfmkyGC0M:&amp;imgrefurl=http://www.elsevier.com/wps/product/cws_home/600853&amp;docid=yUhJ_tqL19uM5M&amp;imgurl=http://www.elsevier.com/framework_products/images/53/600853.gif&amp;w=122&amp;h=196&amp;ei=S2quTozKHOP44QTD5IjvDg&amp;zoom=1" TargetMode="External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calphad&amp;um=1&amp;hl=cs&amp;sa=N&amp;biw=997&amp;bih=522&amp;tbm=isch&amp;tbnid=vzH3KpTWTE6RgM:&amp;imgrefurl=http://www.tms.org/society/Honors/2002/HumeRothery2002.html&amp;docid=HMyqrhvo2_V3fM&amp;imgurl=http://www.tms.org/Society/Honors/2002/Photos/Kaufman.gif&amp;w=100&amp;h=148&amp;ei=S2quTozKHOP44QTD5IjvDg&amp;zoom=1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www.google.cz/imgres?q=calphad&amp;start=414&amp;um=1&amp;hl=cs&amp;sa=N&amp;biw=997&amp;bih=522&amp;tbm=isch&amp;tbnid=1RFHi2jhtqxN1M:&amp;imgrefurl=http://www.met.kth.se/~bosse/&amp;docid=TnlYfvbmt_dWFM&amp;imgurl=http://www.met.kth.se/~bosse/bosse2b.jpg&amp;w=494&amp;h=327&amp;ei=S2yuTrekCuyO4gTxh-X9Dg&amp;zoom=1&amp;chk=sbg&amp;iact=rc&amp;dur=469&amp;sig=111041214975295135773&amp;page=44&amp;tbnh=143&amp;tbnw=217&amp;ndsp=10&amp;ved=1t:429,r:2,s:414&amp;tx=121&amp;ty=79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www.google.cz/imgres?q=calphad&amp;start=483&amp;um=1&amp;hl=cs&amp;sa=N&amp;biw=997&amp;bih=522&amp;tbm=isch&amp;tbnid=NJToBOKH1IDrlM:&amp;imgrefurl=http://www.matse.psu.edu/faculty/liu&amp;docid=LfjnfICy1RyeKM&amp;imgurl=http://www.matse.psu.edu/files/imagecache/200x200/photos_faculty/ZI-KUI%252520LIU.jpg&amp;w=200&amp;h=200&amp;ei=S2yuTrekCuyO4gTxh-X9Dg&amp;zoom=1&amp;chk=sbg&amp;iact=rc&amp;dur=469&amp;sig=111041214975295135773&amp;page=51&amp;tbnh=144&amp;tbnw=143&amp;ndsp=10&amp;ved=1t:429,r:1,s:483&amp;tx=49&amp;ty=71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calphad&amp;um=1&amp;hl=cs&amp;sa=N&amp;biw=997&amp;bih=522&amp;tbm=isch&amp;tbnid=wN0V2KuJbW0S4M:&amp;imgrefurl=http://www.nonmet.mat.ethz.ch/research/Modelling/Thermodynamic_Modelling&amp;docid=NpvM5rTJO_B0RM&amp;imgurl=http://www.nonmet.mat.ethz.ch/research/Modelling/Thermodynamic_Modelling/Calphad_Method.gif%253Fhires&amp;w=595&amp;h=400&amp;ei=S2quTozKHOP44QTD5IjvDg&amp;zoom=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5 Termodynamické modely vícesložkových fází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odmřížkový mod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915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24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Seznámení se studijním materiálem „Komentář“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J. Sopoušek: Fázové rovnováhy a difúzí řízené procesy ve vybraných soustavách kovů a jejich slitin (2002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905120" y="3886200"/>
            <a:ext cx="50292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5" name="figure-95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4811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Modely popisu Gibbsovy energie fáz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Seznámení se studijním materiálem „Komentář“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Up-initio meto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Modely popisu Gibbsovy energie fáze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144520" cy="704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1523880" cy="581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934320" y="3276720"/>
            <a:ext cx="819000" cy="520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209680" y="2590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áhodný substituční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362320" y="4191120"/>
            <a:ext cx="3429000" cy="814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248520" y="5105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Interakční paramet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5181840" cy="1059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40992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362320" y="1981080"/>
                <a:ext cx="42670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Regulární model fáz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1219320"/>
            <a:ext cx="5334120" cy="648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 = 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g</a:t>
            </a:r>
            <a:r>
              <a:rPr b="0" lang="en-US" sz="32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g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182880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14400" y="1752480"/>
            <a:ext cx="1295280" cy="840960"/>
            <a:chOff x="914400" y="1752480"/>
            <a:chExt cx="1295280" cy="840960"/>
          </a:xfrm>
        </p:grpSpPr>
        <p:sp>
          <p:nvSpPr>
            <p:cNvPr id="166" name=""/>
            <p:cNvSpPr/>
            <p:nvPr/>
          </p:nvSpPr>
          <p:spPr>
            <a:xfrm flipV="1">
              <a:off x="1523880" y="1752480"/>
              <a:ext cx="22860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14400" y="21337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solutio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209680" y="1752480"/>
            <a:ext cx="2590920" cy="536040"/>
            <a:chOff x="2209680" y="1752480"/>
            <a:chExt cx="2590920" cy="536040"/>
          </a:xfrm>
        </p:grpSpPr>
        <p:grpSp>
          <p:nvGrpSpPr>
            <p:cNvPr id="169" name=""/>
            <p:cNvGrpSpPr/>
            <p:nvPr/>
          </p:nvGrpSpPr>
          <p:grpSpPr>
            <a:xfrm>
              <a:off x="2438280" y="1752480"/>
              <a:ext cx="1981440" cy="152280"/>
              <a:chOff x="2438280" y="1752480"/>
              <a:chExt cx="1981440" cy="152280"/>
            </a:xfrm>
          </p:grpSpPr>
          <p:sp>
            <p:nvSpPr>
              <p:cNvPr id="170" name=""/>
              <p:cNvSpPr/>
              <p:nvPr/>
            </p:nvSpPr>
            <p:spPr>
              <a:xfrm>
                <a:off x="2438280" y="175248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19720" y="175248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438280" y="1904760"/>
                <a:ext cx="1981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2209680" y="1828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pure component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914400" y="1676520"/>
            <a:ext cx="4952880" cy="1526400"/>
            <a:chOff x="914400" y="1676520"/>
            <a:chExt cx="4952880" cy="1526400"/>
          </a:xfrm>
        </p:grpSpPr>
        <p:sp>
          <p:nvSpPr>
            <p:cNvPr id="175" name=""/>
            <p:cNvSpPr/>
            <p:nvPr/>
          </p:nvSpPr>
          <p:spPr>
            <a:xfrm flipH="1">
              <a:off x="4876560" y="1676520"/>
              <a:ext cx="45720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4400" y="274320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nonideality: g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ex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= h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ex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- Ts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ex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172200" y="1828800"/>
            <a:ext cx="380880" cy="762120"/>
            <a:chOff x="6172200" y="1828800"/>
            <a:chExt cx="380880" cy="762120"/>
          </a:xfrm>
        </p:grpSpPr>
        <p:sp>
          <p:nvSpPr>
            <p:cNvPr id="178" name=""/>
            <p:cNvSpPr/>
            <p:nvPr/>
          </p:nvSpPr>
          <p:spPr>
            <a:xfrm flipV="1">
              <a:off x="6172200" y="2210040"/>
              <a:ext cx="15228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1828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038480" y="2438280"/>
            <a:ext cx="762120" cy="838080"/>
            <a:chOff x="4038480" y="2438280"/>
            <a:chExt cx="762120" cy="838080"/>
          </a:xfrm>
        </p:grpSpPr>
        <p:sp>
          <p:nvSpPr>
            <p:cNvPr id="181" name=""/>
            <p:cNvSpPr/>
            <p:nvPr/>
          </p:nvSpPr>
          <p:spPr>
            <a:xfrm flipV="1">
              <a:off x="4190760" y="2819160"/>
              <a:ext cx="15264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38480" y="2438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~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5720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~ h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ree energy change, pure components-to-solu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3809880"/>
            <a:ext cx="5333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sol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g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pure comp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= h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T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49568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ust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0 as either either 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0 or 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0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5257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gular” solutio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5234040"/>
            <a:ext cx="2133720" cy="579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1828800"/>
            <a:ext cx="76320" cy="5335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2209680"/>
            <a:ext cx="381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=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–T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6019920"/>
            <a:ext cx="8077320" cy="5796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nteraction energ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~ ½(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B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 –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Aktivita složek v regulárním roztokovém modelu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-30492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0" y="2133720"/>
            <a:ext cx="8457840" cy="581040"/>
            <a:chOff x="0" y="2133720"/>
            <a:chExt cx="8457840" cy="581040"/>
          </a:xfrm>
        </p:grpSpPr>
        <p:sp>
          <p:nvSpPr>
            <p:cNvPr id="195" name=""/>
            <p:cNvSpPr/>
            <p:nvPr/>
          </p:nvSpPr>
          <p:spPr>
            <a:xfrm>
              <a:off x="0" y="2133720"/>
              <a:ext cx="454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buClr>
                  <a:srgbClr val="000066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g = 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 + 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+</a:t>
              </a: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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4343760" y="2210040"/>
                  <a:ext cx="411408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RT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7" name=""/>
          <p:cNvGrpSpPr/>
          <p:nvPr/>
        </p:nvGrpSpPr>
        <p:grpSpPr>
          <a:xfrm>
            <a:off x="76320" y="2987640"/>
            <a:ext cx="4723920" cy="593640"/>
            <a:chOff x="76320" y="2987640"/>
            <a:chExt cx="4723920" cy="593640"/>
          </a:xfrm>
        </p:grpSpPr>
        <p:sp>
          <p:nvSpPr>
            <p:cNvPr id="198" name=""/>
            <p:cNvSpPr/>
            <p:nvPr/>
          </p:nvSpPr>
          <p:spPr>
            <a:xfrm>
              <a:off x="76320" y="298764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2. Eq (8) with z = g, 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246480" y="2987640"/>
                  <a:ext cx="155376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z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0" name=""/>
          <p:cNvSpPr/>
          <p:nvPr/>
        </p:nvSpPr>
        <p:spPr>
          <a:xfrm>
            <a:off x="5105520" y="2986200"/>
            <a:ext cx="3809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= g + (1-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(dg/d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2986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5105520"/>
            <a:ext cx="3124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" y="3794040"/>
            <a:ext cx="729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3.  Definition of activity: 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= g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+ RTln(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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4662360"/>
            <a:ext cx="723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. eliminate g(1 and 2) then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2 and 3)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304920" y="40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52280" y="5715000"/>
            <a:ext cx="8305920" cy="914400"/>
            <a:chOff x="152280" y="5715000"/>
            <a:chExt cx="8305920" cy="914400"/>
          </a:xfrm>
        </p:grpSpPr>
        <p:sp>
          <p:nvSpPr>
            <p:cNvPr id="207" name=""/>
            <p:cNvSpPr/>
            <p:nvPr/>
          </p:nvSpPr>
          <p:spPr>
            <a:xfrm>
              <a:off x="152280" y="5715000"/>
              <a:ext cx="8305920" cy="914400"/>
            </a:xfrm>
            <a:prstGeom prst="rect">
              <a:avLst/>
            </a:prstGeom>
            <a:solidFill>
              <a:srgbClr val="26d2e4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228600" y="5878800"/>
                  <a:ext cx="81532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T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Ω</m:t>
                      </m:r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similarly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RT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Ω</m:t>
                      </m:r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24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Modely popisu Gibbsovy energie fáze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750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M. Hillert: 1973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750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Bo Sundman and J. Agren: </a:t>
            </a:r>
            <a:r>
              <a:rPr b="1" lang="cs-CZ" sz="1600" spc="-1" strike="noStrike">
                <a:solidFill>
                  <a:srgbClr val="000066"/>
                </a:solidFill>
                <a:latin typeface="Arial"/>
              </a:rPr>
              <a:t>A regular solution model for phases with several components and sublattices suitable for computer applications</a:t>
            </a: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, J. Phys. Chem. Solids, 1982 (42), 297-301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Metoda CALPH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">
            <a:hlinkClick r:id="rId4"/>
          </p:cNvPr>
          <p:cNvSpPr/>
          <p:nvPr/>
        </p:nvSpPr>
        <p:spPr>
          <a:xfrm>
            <a:off x="6858000" y="2743200"/>
            <a:ext cx="1066680" cy="10666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2" name="logo" descr=""/>
          <p:cNvPicPr/>
          <p:nvPr/>
        </p:nvPicPr>
        <p:blipFill>
          <a:blip r:embed="rId5"/>
          <a:stretch/>
        </p:blipFill>
        <p:spPr>
          <a:xfrm>
            <a:off x="1447920" y="4038480"/>
            <a:ext cx="2027160" cy="19861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101600" y="30780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1280" y="1957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1280" y="1957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8760" y="311796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7" name="image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62520" y="4038480"/>
            <a:ext cx="1563480" cy="2514600"/>
          </a:xfrm>
          <a:prstGeom prst="rect">
            <a:avLst/>
          </a:prstGeom>
          <a:ln w="0">
            <a:noFill/>
          </a:ln>
        </p:spPr>
      </p:pic>
      <p:pic>
        <p:nvPicPr>
          <p:cNvPr id="218" name="03645916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1917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2058840" y="217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58840" y="21747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46320" y="33354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600200"/>
            <a:ext cx="1276200" cy="1882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33520" y="37339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Larry Kaufm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5" name="xl_group2" descr=""/>
          <p:cNvPicPr/>
          <p:nvPr/>
        </p:nvPicPr>
        <p:blipFill>
          <a:blip r:embed="rId3"/>
          <a:stretch/>
        </p:blipFill>
        <p:spPr>
          <a:xfrm>
            <a:off x="2209680" y="2538360"/>
            <a:ext cx="6123240" cy="4075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657440" y="2025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57440" y="202572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8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762120"/>
            <a:ext cx="2479680" cy="1646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865160" y="2025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65160" y="20257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1" name="image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16462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1503360" y="1797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03360" y="17971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0840" y="29574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6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488960"/>
            <a:ext cx="7620120" cy="5116680"/>
          </a:xfrm>
          <a:prstGeom prst="rect">
            <a:avLst/>
          </a:prstGeom>
          <a:ln w="0">
            <a:noFill/>
          </a:ln>
        </p:spPr>
      </p:pic>
      <p:pic>
        <p:nvPicPr>
          <p:cNvPr id="237" name="sp_tc" descr=""/>
          <p:cNvPicPr/>
          <p:nvPr/>
        </p:nvPicPr>
        <p:blipFill>
          <a:blip r:embed="rId3"/>
          <a:stretch/>
        </p:blipFill>
        <p:spPr>
          <a:xfrm>
            <a:off x="6858000" y="152280"/>
            <a:ext cx="179064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943600" y="1295280"/>
            <a:ext cx="2743200" cy="24163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5607000" cy="32720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odmřížkový mod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117936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7936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6684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4" name="images" descr=""/>
          <p:cNvPicPr/>
          <p:nvPr/>
        </p:nvPicPr>
        <p:blipFill>
          <a:blip r:embed="rId3"/>
          <a:stretch/>
        </p:blipFill>
        <p:spPr>
          <a:xfrm>
            <a:off x="1371600" y="1219320"/>
            <a:ext cx="2579760" cy="1931760"/>
          </a:xfrm>
          <a:prstGeom prst="rect">
            <a:avLst/>
          </a:prstGeom>
          <a:ln w="0">
            <a:noFill/>
          </a:ln>
        </p:spPr>
      </p:pic>
      <p:pic>
        <p:nvPicPr>
          <p:cNvPr id="245" name="nmat1807-f1" descr=""/>
          <p:cNvPicPr/>
          <p:nvPr/>
        </p:nvPicPr>
        <p:blipFill>
          <a:blip r:embed="rId4"/>
          <a:stretch/>
        </p:blipFill>
        <p:spPr>
          <a:xfrm>
            <a:off x="4038480" y="1447920"/>
            <a:ext cx="1714680" cy="1679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019920" y="4038480"/>
            <a:ext cx="289548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FCC: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Fe,Cr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N,C,Va)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Sigma: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Fe,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Ni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</a:rPr>
              <a:t>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Cr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Fe,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r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,Ni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904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400800" y="4876920"/>
                <a:ext cx="16002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07T14:43:47Z</dcterms:modified>
  <cp:revision>102</cp:revision>
  <dc:subject/>
  <dc:title>C6730 Fázové rovnováhy</dc:title>
</cp:coreProperties>
</file>