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10.wmf" ContentType="image/x-wmf"/>
  <Override PartName="/ppt/media/image25.jpeg" ContentType="image/jpeg"/>
  <Override PartName="/ppt/media/image4.jpeg" ContentType="image/jpeg"/>
  <Override PartName="/ppt/media/image8.wmf" ContentType="image/x-wmf"/>
  <Override PartName="/ppt/media/image20.jpeg" ContentType="image/jpeg"/>
  <Override PartName="/ppt/media/image7.wmf" ContentType="image/x-wmf"/>
  <Override PartName="/ppt/media/image6.wmf" ContentType="image/x-wmf"/>
  <Override PartName="/ppt/media/image23.wmf" ContentType="image/x-wmf"/>
  <Override PartName="/ppt/media/image11.jpeg" ContentType="image/jpeg"/>
  <Override PartName="/ppt/media/image12.wmf" ContentType="image/x-wmf"/>
  <Override PartName="/ppt/media/image31.wmf" ContentType="image/x-wmf"/>
  <Override PartName="/ppt/media/image28.png" ContentType="image/png"/>
  <Override PartName="/ppt/media/image2.gif" ContentType="image/gif"/>
  <Override PartName="/ppt/media/image9.wmf" ContentType="image/x-wmf"/>
  <Override PartName="/ppt/media/image30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wmf" ContentType="image/x-wmf"/>
  <Override PartName="/ppt/media/image19.wmf" ContentType="image/x-wmf"/>
  <Override PartName="/ppt/media/image21.wmf" ContentType="image/x-wmf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8DCC-C88D-4832-BB89-8498AFD265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275-CA7D-4FE0-BD7A-846E0BBF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053-530F-4374-96A1-0E480DD7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D56-4022-4126-A6E2-A60E3F3E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329-3700-4D18-A8CF-5D6AE486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F708-BCF1-435E-AECD-F8BCF4F3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4918-8EC9-44B0-8E7E-70AF36FB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B1B6-B81F-4C99-A687-E038B68E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EC46-DA9C-4EBF-8C2E-984DD35C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1E74-7187-4C55-AB45-A25182D0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765A-0B45-4C8A-B1F5-6EA05A99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1B24-E197-47BE-B0F9-984708A8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2EA-442E-4305-9152-94110798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43FD-E741-4CCA-ACF7-AE92FDA4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8461-0712-480F-BBB5-BD6398C2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A299-EDB0-44C7-B7D1-E38A4771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9F22-8A04-4E58-9213-AEB574B7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5946-35A8-4DC9-87D2-32ADB20F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DCE-8CC3-4D2C-BB7E-CD8C2424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AD1B-7F41-4449-B3CA-4BA5BE6B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DDF-A55E-4886-9963-1A2BA987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9A3-3AA9-458E-8176-CCE61E06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B94-1C0B-47A3-861A-267E53F7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8ED-CEDC-47EA-98F5-6EE5E783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A0B-3115-4AAC-903B-8E517543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4D80-CE9F-42CC-AF54-448E1222A99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DD7C-DCCE-4A63-8407-FEE89C752D3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4c Typy binárních diagram a jejich využit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malgam Hg-Ag (Sn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7652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334120" y="3639960"/>
            <a:ext cx="3276360" cy="2819520"/>
          </a:xfrm>
          <a:prstGeom prst="rect">
            <a:avLst/>
          </a:prstGeom>
          <a:ln w="0">
            <a:noFill/>
          </a:ln>
        </p:spPr>
      </p:pic>
      <p:pic>
        <p:nvPicPr>
          <p:cNvPr id="200" name="Amalgam" descr=""/>
          <p:cNvPicPr/>
          <p:nvPr/>
        </p:nvPicPr>
        <p:blipFill>
          <a:blip r:embed="rId4"/>
          <a:stretch/>
        </p:blipFill>
        <p:spPr>
          <a:xfrm>
            <a:off x="6248520" y="1676520"/>
            <a:ext cx="17524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4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onální tavba – čištění směs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059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2895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Čistění Al-Ag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3270240" cy="3352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38080" y="3676680"/>
            <a:ext cx="7467840" cy="3181320"/>
          </a:xfrm>
          <a:prstGeom prst="rect">
            <a:avLst/>
          </a:prstGeom>
          <a:ln w="0">
            <a:noFill/>
          </a:ln>
        </p:spPr>
      </p:pic>
      <p:pic>
        <p:nvPicPr>
          <p:cNvPr id="206" name="Ag-Al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36576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227520"/>
            <a:ext cx="2133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Fe-C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36600" y="229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6600" y="22906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3720" y="345132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6600" y="229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6600" y="22906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3720" y="345132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4" name="01" descr=""/>
          <p:cNvPicPr/>
          <p:nvPr/>
        </p:nvPicPr>
        <p:blipFill>
          <a:blip r:embed="rId1"/>
          <a:stretch/>
        </p:blipFill>
        <p:spPr>
          <a:xfrm>
            <a:off x="0" y="762120"/>
            <a:ext cx="5181480" cy="3762360"/>
          </a:xfrm>
          <a:prstGeom prst="rect">
            <a:avLst/>
          </a:prstGeom>
          <a:ln w="0">
            <a:noFill/>
          </a:ln>
        </p:spPr>
      </p:pic>
      <p:pic>
        <p:nvPicPr>
          <p:cNvPr id="215" name="iron%20carbon2" descr=""/>
          <p:cNvPicPr/>
          <p:nvPr/>
        </p:nvPicPr>
        <p:blipFill>
          <a:blip r:embed="rId2"/>
          <a:stretch/>
        </p:blipFill>
        <p:spPr>
          <a:xfrm>
            <a:off x="533520" y="4595760"/>
            <a:ext cx="2743200" cy="2232000"/>
          </a:xfrm>
          <a:prstGeom prst="rect">
            <a:avLst/>
          </a:prstGeom>
          <a:ln w="0">
            <a:noFill/>
          </a:ln>
        </p:spPr>
      </p:pic>
      <p:pic>
        <p:nvPicPr>
          <p:cNvPr id="216" name="image002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3336840" cy="4321080"/>
          </a:xfrm>
          <a:prstGeom prst="rect">
            <a:avLst/>
          </a:prstGeom>
          <a:ln w="0">
            <a:noFill/>
          </a:ln>
        </p:spPr>
      </p:pic>
      <p:pic>
        <p:nvPicPr>
          <p:cNvPr id="217" name="iron_phase_diagram_3" descr=""/>
          <p:cNvPicPr/>
          <p:nvPr/>
        </p:nvPicPr>
        <p:blipFill>
          <a:blip r:embed="rId4"/>
          <a:stretch/>
        </p:blipFill>
        <p:spPr>
          <a:xfrm>
            <a:off x="4876920" y="4576680"/>
            <a:ext cx="35812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zbrané mikrostruktury Fe-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73760" y="1712880"/>
            <a:ext cx="4170240" cy="4137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864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ístkový grafi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981080"/>
            <a:ext cx="40384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Šedá litin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mposes of: 2.5-4.0%C, 1.0-3.0%Si and 0.4-1.0% Mn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crostructure: 3-D graphite flakes formed during eutectic reaction. They have pointed edges to act as voids and crack initiation site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old by class (class 20 has min. tensile strength of 20,000 psi is a high C-equivalent metal in ferrite matrix ). Class 40 would have pearlite matri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e-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038480" cy="3643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0924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ypy fázových přeměn, popis transformací, nomenklatur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likace fázových diagramů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e-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ypy fázových přemě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apalina  -plyn: azeotrop, negativní azeotrop (HNO3-H2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3212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6" name="figA3-7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7315200" cy="4440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114800" y="25909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ázové pole: l+s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ázová hranice (l+s)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/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2819520" cy="2438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2449440" cy="2352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8305560" cy="2492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400800" y="4267080"/>
            <a:ext cx="2438280" cy="1930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324480" y="6248520"/>
            <a:ext cx="2552760" cy="4381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apalina  -tuhá fáze: eutektikum, peritektikum, kongruentní bod t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1600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uspořádání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305920" cy="2550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62120" y="5335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Kapalina  -tuhá fáze: úplná nemísitelno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1520" y="1638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1520" y="1638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56400" y="3219480"/>
            <a:ext cx="21160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8640" y="27986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images" descr=""/>
          <p:cNvPicPr/>
          <p:nvPr/>
        </p:nvPicPr>
        <p:blipFill>
          <a:blip r:embed="rId2"/>
          <a:stretch/>
        </p:blipFill>
        <p:spPr>
          <a:xfrm>
            <a:off x="1143000" y="3586320"/>
            <a:ext cx="3657600" cy="3271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76920" y="4572000"/>
            <a:ext cx="259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techiometrické fáze (intermetalika), nestechiometrické fáze (vakanc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8370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uhá fáze  -tuhá fáze: odmísení, eutektoidní, peritektoid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476800" cy="223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657600" y="2133720"/>
            <a:ext cx="5105520" cy="2300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3520" y="45720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Fenol-anilín, Bi-Z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90360" y="11350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7840" y="2295360"/>
            <a:ext cx="9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1920" bIns="0" anchor="t">
            <a:spAutoFit/>
          </a:bodyPr>
          <a:p>
            <a:pPr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7840" y="30877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images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234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-1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Aplikace fázových diagramů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4572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Black"/>
              </a:rPr>
              <a:t>Kryoskopi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6095880" cy="405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562720" y="914400"/>
            <a:ext cx="3200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g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+ RTl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Předpokla: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= 1 – x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Sal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, </a:t>
            </a:r>
            <a:r>
              <a:rPr b="1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=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Rovnice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800600" y="2209680"/>
                <a:ext cx="396252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M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l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553080" y="2819520"/>
            <a:ext cx="228600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/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1" lang="cs-CZ" sz="1600" spc="-1" strike="noStrike" baseline="-25000">
                <a:solidFill>
                  <a:srgbClr val="000066"/>
                </a:solidFill>
                <a:latin typeface="Arial"/>
              </a:rPr>
              <a:t>…zavedení snížení bodu tání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629400" y="2438280"/>
            <a:ext cx="7632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5181480"/>
            <a:ext cx="2362320" cy="533520"/>
            <a:chOff x="838080" y="5181480"/>
            <a:chExt cx="2362320" cy="533520"/>
          </a:xfrm>
        </p:grpSpPr>
        <p:sp>
          <p:nvSpPr>
            <p:cNvPr id="190" name=""/>
            <p:cNvSpPr/>
            <p:nvPr/>
          </p:nvSpPr>
          <p:spPr>
            <a:xfrm>
              <a:off x="838080" y="5184360"/>
              <a:ext cx="2362320" cy="53064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988560" y="5181480"/>
                  <a:ext cx="22114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M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M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Δ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M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al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762120" y="5943600"/>
            <a:ext cx="74674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Data: </a:t>
            </a:r>
            <a:r>
              <a:rPr b="0" lang="cs-CZ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6000 J/mole; 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273 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Aplikace: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20 g NaCl in 1 liter 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sal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0.036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= -3.7</a:t>
            </a:r>
            <a:r>
              <a:rPr b="1" lang="en-US" sz="1600" spc="-1" strike="noStrike" baseline="30000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agram Sn-Pb a SA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6483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46:32Z</dcterms:modified>
  <cp:revision>92</cp:revision>
  <dc:subject/>
  <dc:title>C6730 Fázové rovnováhy</dc:title>
</cp:coreProperties>
</file>