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2.gif" ContentType="image/gi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22.wmf" ContentType="image/x-wmf"/>
  <Override PartName="/ppt/media/image6.png" ContentType="image/png"/>
  <Override PartName="/ppt/media/image11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2B24-291E-4817-8833-1B2472BEB23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340D-3046-4919-BF28-FF540260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DD4-46C2-4D6D-9BD7-E181182C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BA05-C181-45DB-B5B9-8A63E5AF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E2D-F62D-4B01-94D8-2932EEF2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465A-ACBA-4038-8D12-09B2EB93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358A-3DC8-4619-AAD0-D28251E9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DB9F-24F9-45A5-83C4-AC6BAB2A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19F1-0E3C-4C02-8486-65E81096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3932-78BC-48D5-9B9C-95197FAC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660A-BF28-4867-9E49-9D3177E1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45DE-51BC-4503-A0AF-0C5300B0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1D66-C17C-45F2-B7B6-2F4133B4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2A12-9F01-4DD1-B49E-2B916BF3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FAD9-B13E-4082-B1EC-9331A30D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2A4B-8F90-4ECC-A3CB-8E3FBA0D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CD4E-1D32-4A5E-A775-F96F532E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1BA4-348B-461F-BEA4-77A8E55E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C02-8655-4293-A3C8-C8C527D2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681-5243-4E2E-9ABD-FADADC61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246-90A6-4E20-9056-8F805875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C7A-2702-4BFF-A825-EB9833B1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2CB-8418-4065-AE04-3D6201D9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752-34CB-417A-9EDA-E720D914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F7C-B869-45A7-8BB3-288B42DD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6231-C1E2-4750-ACBF-3B331AFD903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2BF8-88DD-4709-B92E-EC6E7A2AB19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D:\Vyuka\C6730 Term_FR\p&#345;edn&#225;&#353;ka_CZ\04tyden\03a_Gibbsova-Duhemova rovnice.shs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4a Molární veličiny a chemický potenciá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Chemický potenciál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620120" cy="2098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523880" y="3124080"/>
            <a:ext cx="55627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ermodynamická data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400800" cy="2523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19320" y="4876920"/>
            <a:ext cx="6324480" cy="1430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33520" y="39614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Fázová data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Molární objem, změny objemu při ideálním míšení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Změny objemu při míšení reálných kapal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Gibbs-Duhemova rovn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Molární entalpie a entropi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Molární Gibbsova energie a chemický potenciá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cká a fázová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měny objemu při ideálním míše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1085760"/>
            <a:ext cx="57913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měny objemu při míšení reálných kapalin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6781680" cy="2149560"/>
          </a:xfrm>
          <a:prstGeom prst="rect">
            <a:avLst/>
          </a:prstGeom>
          <a:ln w="0">
            <a:noFill/>
          </a:ln>
        </p:spPr>
      </p:pic>
      <p:pic>
        <p:nvPicPr>
          <p:cNvPr id="156" name="275px-Excess_Volume_Mixture_of_Ethanol_and_Water" descr=""/>
          <p:cNvPicPr/>
          <p:nvPr/>
        </p:nvPicPr>
        <p:blipFill>
          <a:blip r:embed="rId2"/>
          <a:stretch/>
        </p:blipFill>
        <p:spPr>
          <a:xfrm>
            <a:off x="2286000" y="3798720"/>
            <a:ext cx="320040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arciální a integrální extenzivní veličiny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480" y="1355760"/>
            <a:ext cx="7391520" cy="5299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791320" y="1600200"/>
            <a:ext cx="2666880" cy="8240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Objemová expanze a kontrakce (etanol-voda, 18ml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/mol, 59ml/mol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360" y="172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87360" y="17240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4840" y="28843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3" name="images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3962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Gibbs-Duhemova rovn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505320" y="1066680"/>
            <a:ext cx="5257800" cy="329436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2"/>
          </p:cNvPr>
          <p:cNvSpPr/>
          <p:nvPr/>
        </p:nvSpPr>
        <p:spPr>
          <a:xfrm>
            <a:off x="6172200" y="58672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752" h="21600">
                <a:moveTo>
                  <a:pt x="6349" y="3985"/>
                </a:moveTo>
                <a:lnTo>
                  <a:pt x="13347" y="3985"/>
                </a:lnTo>
                <a:lnTo>
                  <a:pt x="17403" y="7484"/>
                </a:lnTo>
                <a:lnTo>
                  <a:pt x="17403" y="17615"/>
                </a:lnTo>
                <a:lnTo>
                  <a:pt x="6349" y="17615"/>
                </a:lnTo>
                <a:close/>
              </a:path>
              <a:path fill="darken" w="23752" h="21600">
                <a:moveTo>
                  <a:pt x="13347" y="3985"/>
                </a:moveTo>
                <a:lnTo>
                  <a:pt x="17403" y="7484"/>
                </a:lnTo>
                <a:lnTo>
                  <a:pt x="13347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7" name="5_1_big" descr=""/>
          <p:cNvPicPr/>
          <p:nvPr/>
        </p:nvPicPr>
        <p:blipFill>
          <a:blip r:embed="rId3"/>
          <a:stretch/>
        </p:blipFill>
        <p:spPr>
          <a:xfrm>
            <a:off x="304920" y="990720"/>
            <a:ext cx="3124080" cy="541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028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0280" y="17524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7760" y="29131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Molární entalpie a entrop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6629400" cy="4959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34120" y="4756320"/>
            <a:ext cx="3504960" cy="1901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638680" y="1828800"/>
            <a:ext cx="312444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71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Dodatkoné termodynamické funkce směsi Etanol-Voda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275px-Mixing_Enthalpy_Mixture_of_Ethanol_and_Water" descr=""/>
          <p:cNvPicPr/>
          <p:nvPr/>
        </p:nvPicPr>
        <p:blipFill>
          <a:blip r:embed="rId1"/>
          <a:stretch/>
        </p:blipFill>
        <p:spPr>
          <a:xfrm>
            <a:off x="5867280" y="344664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29000" y="57913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Dodatková entalpie míšení (etanol-voda) , detai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8" name="images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54100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Molární Gibbsova energ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1347840"/>
            <a:ext cx="5257800" cy="4735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715000" y="1295280"/>
            <a:ext cx="2817720" cy="2186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867280" y="3962520"/>
            <a:ext cx="26672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24T15:00:17Z</dcterms:modified>
  <cp:revision>70</cp:revision>
  <dc:subject/>
  <dc:title>C6730 Fázové rovnováhy</dc:title>
</cp:coreProperties>
</file>