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9A01-B2E5-41D3-8B46-BDC923A6E3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C47-A280-45E7-B3DB-843DD31B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F96-F63D-447D-8A35-6628B841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2FD-2D5A-4B6E-A00D-27A62337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B28-E65A-45CE-B4A3-ED6D115A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ED64-8F86-44F2-8809-F2AFA9DF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33B8-76E1-4441-84B7-3DDD1A22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EE9A-5334-4B40-9B55-B2DA328A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D430-4648-4F56-B030-053B8652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CB2E-F749-42DE-9405-2B3C02CC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DFAF-A009-4909-A335-13545D9F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84AC-C520-47D2-B39C-12BD9181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600-3BB3-48ED-8E6C-FFEF33DE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F2F8-1BC6-47D2-A39E-4B554F69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71C0-2DEF-483C-A4D4-8A6BEEDB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6AD6-30CD-4503-9D36-FA91575C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8D30-BF15-4AA2-9C27-5021ADFE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C491-AEAC-4A42-8172-6B4FC95D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970-7585-431A-87C5-13933D43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B66-A6A8-4C4C-B592-A05C73C8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490-2B85-4F27-8AA0-AF2D7A68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00C-E08A-4A9B-88D0-314CCCD3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C9B-E703-482D-88D6-206B861A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727-ECD6-4069-966A-9556D808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6AE-8FD7-4D3C-8387-83370AEC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066A-DBE2-4739-B1E0-C87315BDF8D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B42A-7692-4A46-8A52-BB0EC47D743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4b Výbraná pravidla a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bsa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ování směsi ideálních plynů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514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ování směsi ideálních a reálných kapali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lak  par nad binární směs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75440" cy="37036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1143000" y="4952880"/>
            <a:ext cx="7238880" cy="875880"/>
            <a:chOff x="1143000" y="4952880"/>
            <a:chExt cx="7238880" cy="875880"/>
          </a:xfrm>
        </p:grpSpPr>
        <p:sp>
          <p:nvSpPr>
            <p:cNvPr id="158" name=""/>
            <p:cNvSpPr/>
            <p:nvPr/>
          </p:nvSpPr>
          <p:spPr>
            <a:xfrm>
              <a:off x="1143000" y="4952880"/>
              <a:ext cx="3505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positive deviations from ideality; a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&gt;x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, a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&gt;x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29200" y="5168520"/>
              <a:ext cx="33526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Unicode MS"/>
                </a:rPr>
                <a:t>A: positive devia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Unicode MS"/>
                </a:rPr>
                <a:t>B: negative devia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lak plynu nad kondenzovanou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427040"/>
            <a:ext cx="84582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Ebulioskopie, kryosk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72388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Pravidla pro změnu entr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13182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07:10Z</dcterms:modified>
  <cp:revision>72</cp:revision>
  <dc:subject/>
  <dc:title>C6730 Fázové rovnováhy</dc:title>
</cp:coreProperties>
</file>