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31.wmf" ContentType="image/x-wmf"/>
  <Override PartName="/ppt/media/image28.png" ContentType="image/png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F8F-8B96-4EBF-A03D-010272DFC9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5FF-0C6D-40D8-8A5C-18E92E0F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EB3-A6B4-403C-B08C-85300FF8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CF8-0E18-4BEB-A74E-08C4ADE4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526-421B-4F3F-A61A-03988A46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3054-9ECE-47B0-8EF2-B50264A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556-2C7E-4942-9A1A-67A3A530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89E2-D9B7-4E02-A9D0-940B5687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66C6-7D26-4643-B54E-621BEBD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8893-3C70-4ACF-80C6-79DE53D2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CE5D-6019-4006-BE65-D9832C29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E339-AE39-457B-B7BA-9FEFD1D9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191-53D7-4180-81FB-91B7A659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6160-28C9-4B64-BF8D-21AA7C0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422-B4DC-45CA-B426-A6A1AE6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561C-30AF-42CC-A768-AAFC36D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589E-EF6B-43A4-AAAF-ACCA493B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EC43-806B-4627-83EB-CC58DDF0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962-4216-4034-B4EC-8EB376DD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A87-CB99-477F-BF8B-B156943C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0CF-E557-4695-9B42-42C1AAF3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0A2-15D6-45C6-87C6-F108CD6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FC8-5C74-4A80-9C4C-DE447C0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677-1B88-4579-BCE5-C3AD79D1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D02-68E3-42CE-B19D-0D9A3A6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637-FC32-4AB2-957F-15127F81A10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D889-C1E2-43E6-8C46-38D16C511DB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c Typy binárních diagram a jejich využit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malgam Hg-Ag (Sn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765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34120" y="3639960"/>
            <a:ext cx="3276360" cy="2819520"/>
          </a:xfrm>
          <a:prstGeom prst="rect">
            <a:avLst/>
          </a:prstGeom>
          <a:ln w="0">
            <a:noFill/>
          </a:ln>
        </p:spPr>
      </p:pic>
      <p:pic>
        <p:nvPicPr>
          <p:cNvPr id="200" name="Amalgam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17524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4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onální tavba – čiště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2895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Čistění Al-Ag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327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676680"/>
            <a:ext cx="74678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Ag-Al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3657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2133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e-C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4" name="01" descr=""/>
          <p:cNvPicPr/>
          <p:nvPr/>
        </p:nvPicPr>
        <p:blipFill>
          <a:blip r:embed="rId1"/>
          <a:stretch/>
        </p:blipFill>
        <p:spPr>
          <a:xfrm>
            <a:off x="0" y="762120"/>
            <a:ext cx="5181480" cy="3762360"/>
          </a:xfrm>
          <a:prstGeom prst="rect">
            <a:avLst/>
          </a:prstGeom>
          <a:ln w="0">
            <a:noFill/>
          </a:ln>
        </p:spPr>
      </p:pic>
      <p:pic>
        <p:nvPicPr>
          <p:cNvPr id="215" name="iron%20carbon2" descr=""/>
          <p:cNvPicPr/>
          <p:nvPr/>
        </p:nvPicPr>
        <p:blipFill>
          <a:blip r:embed="rId2"/>
          <a:stretch/>
        </p:blipFill>
        <p:spPr>
          <a:xfrm>
            <a:off x="533520" y="4595760"/>
            <a:ext cx="27432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00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336840" cy="4321080"/>
          </a:xfrm>
          <a:prstGeom prst="rect">
            <a:avLst/>
          </a:prstGeom>
          <a:ln w="0">
            <a:noFill/>
          </a:ln>
        </p:spPr>
      </p:pic>
      <p:pic>
        <p:nvPicPr>
          <p:cNvPr id="217" name="iron_phase_diagram_3" descr=""/>
          <p:cNvPicPr/>
          <p:nvPr/>
        </p:nvPicPr>
        <p:blipFill>
          <a:blip r:embed="rId4"/>
          <a:stretch/>
        </p:blipFill>
        <p:spPr>
          <a:xfrm>
            <a:off x="4876920" y="4576680"/>
            <a:ext cx="3581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zbrané mikrostruktury Fe-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864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ístkový graf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981080"/>
            <a:ext cx="4038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Šedá litin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oses of: 2.5-4.0%C, 1.0-3.0%Si and 0.4-1.0% Mn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rostructure: 3-D graphite flakes formed during eutectic reaction. They have pointed edges to act as voids and crack initiation site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old by class (class 20 has min. tensile strength of 20,000 psi is a high C-equivalent metal in ferrite matrix ). Class 40 would have pearlite matri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e-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64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9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y fázových přeměn, popis transformací, nomenklatur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likace fázových diagram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-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ypy fázových přemě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plyn: azeotrop, negativní azeotrop (HNO3-H2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212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figA3-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31520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4800" y="25909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é pole: l+s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á hranice (l+s)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449440" cy="23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30556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438280" cy="1930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324480" y="6248520"/>
            <a:ext cx="2552760" cy="438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tuhá fáze: eutektikum, peritektikum, kongruentní bod t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uspořádání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apalina  -tuhá fáze: úplná nemísiteln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5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1638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19480"/>
            <a:ext cx="2116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27986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ages" descr=""/>
          <p:cNvPicPr/>
          <p:nvPr/>
        </p:nvPicPr>
        <p:blipFill>
          <a:blip r:embed="rId2"/>
          <a:stretch/>
        </p:blipFill>
        <p:spPr>
          <a:xfrm>
            <a:off x="1143000" y="3586320"/>
            <a:ext cx="3657600" cy="32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45720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techiometrické fáze (intermetalika), nestechiometrické fáze (vakanc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837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uhá fáze  -tuhá fáze: odmísení, eutektoidní, peritektoid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7680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5105520" cy="2300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Fenol-anilín, Bi-Z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90360" y="11350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840" y="2295360"/>
            <a:ext cx="9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920" bIns="0" anchor="t">
            <a:spAutoFit/>
          </a:bodyPr>
          <a:p>
            <a:pPr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840" y="30877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34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plikace fázových diagram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57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Black"/>
              </a:rPr>
              <a:t>Kryoskopi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95880" cy="405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914400"/>
            <a:ext cx="320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+ RTl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Předpokla: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= 1 – 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, </a:t>
            </a:r>
            <a:r>
              <a:rPr b="1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Rovnice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00600" y="2209680"/>
                <a:ext cx="39625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M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l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553080" y="2819520"/>
            <a:ext cx="228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/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Arial"/>
              </a:rPr>
              <a:t>…zavedení snížení bodu tání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629400" y="2438280"/>
            <a:ext cx="763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5181480"/>
            <a:ext cx="2362320" cy="533520"/>
            <a:chOff x="838080" y="5181480"/>
            <a:chExt cx="2362320" cy="533520"/>
          </a:xfrm>
        </p:grpSpPr>
        <p:sp>
          <p:nvSpPr>
            <p:cNvPr id="190" name=""/>
            <p:cNvSpPr/>
            <p:nvPr/>
          </p:nvSpPr>
          <p:spPr>
            <a:xfrm>
              <a:off x="838080" y="5184360"/>
              <a:ext cx="2362320" cy="53064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88560" y="5181480"/>
                  <a:ext cx="221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Δ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l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762120" y="5943600"/>
            <a:ext cx="74674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Data: </a:t>
            </a:r>
            <a:r>
              <a:rPr b="0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6000 J/mole; 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273 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Aplikace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0 g NaCl in 1 liter 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0.036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= -3.7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agram Sn-Pb a SA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6483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6:32Z</dcterms:modified>
  <cp:revision>92</cp:revision>
  <dc:subject/>
  <dc:title>C6730 Fázové rovnováhy</dc:title>
</cp:coreProperties>
</file>