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10.wmf" ContentType="image/x-wmf"/>
  <Override PartName="/ppt/media/image25.jpeg" ContentType="image/jpeg"/>
  <Override PartName="/ppt/media/image4.jpeg" ContentType="image/jpeg"/>
  <Override PartName="/ppt/media/image8.wmf" ContentType="image/x-wmf"/>
  <Override PartName="/ppt/media/image20.jpeg" ContentType="image/jpeg"/>
  <Override PartName="/ppt/media/image7.wmf" ContentType="image/x-wmf"/>
  <Override PartName="/ppt/media/image6.wmf" ContentType="image/x-wmf"/>
  <Override PartName="/ppt/media/image23.wmf" ContentType="image/x-wmf"/>
  <Override PartName="/ppt/media/image11.jpeg" ContentType="image/jpeg"/>
  <Override PartName="/ppt/media/image12.wmf" ContentType="image/x-wmf"/>
  <Override PartName="/ppt/media/image31.wmf" ContentType="image/x-wmf"/>
  <Override PartName="/ppt/media/image28.png" ContentType="image/png"/>
  <Override PartName="/ppt/media/image2.gif" ContentType="image/gif"/>
  <Override PartName="/ppt/media/image9.wmf" ContentType="image/x-wmf"/>
  <Override PartName="/ppt/media/image30.wmf" ContentType="image/x-wmf"/>
  <Override PartName="/ppt/media/image5.wmf" ContentType="image/x-wmf"/>
  <Override PartName="/ppt/media/image13.wmf" ContentType="image/x-wmf"/>
  <Override PartName="/ppt/media/image27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8.wmf" ContentType="image/x-wmf"/>
  <Override PartName="/ppt/media/image19.wmf" ContentType="image/x-wmf"/>
  <Override PartName="/ppt/media/image21.wmf" ContentType="image/x-wmf"/>
  <Override PartName="/ppt/media/image24.jpeg" ContentType="image/jpe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C045-86EE-4359-B5A0-12EE865EAB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37C-09A2-4940-8D43-5BFA86AD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65CB-815C-408E-A122-9C71A4FF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7F90-BA89-4E9A-8256-D85FC024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1B2-FB7B-42D3-AE19-BE7E1E5E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7DCF6-7BE0-4801-AF17-DBF6BD955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68FC0-7D73-4432-990D-CA7ED17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70D58-C09B-478C-BD46-DBD4D176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6FF1-49AF-49EE-8EFB-5CD53CCA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B1A4-E5FA-4551-8D98-A005AC5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984B-C91F-4C31-91E6-EF1C9DBA4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F08-DD25-4242-B393-F84D9272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1C95-B481-4646-B9FE-78504ECB1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D38D-5B40-485B-9056-A346FC23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81F1-260F-4A0B-B4A4-48662C37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FAA8-0DFA-4176-B54A-AD2DC3C5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2558-5869-4C7D-B0B9-EDEACE91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70F1-8044-4099-8609-4EEEBD4A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BF8E-EDE5-4FBB-830A-04E82F2D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39C-5C53-4473-818B-5A63FF0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7BE-A17A-4E57-ABED-5DD55B6C9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16C9-EC5E-4D78-B7EC-24D32015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ED6A-65F5-4DF4-90AF-C59E7006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411-D1CF-4ABD-A577-270B6B7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EEC3-6901-4B2C-9E17-645ABB68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5577-2D1F-4DD1-BBD2-E4FFE9ADE26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790B-3E26-44AA-8386-25D309062540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c Typy binárních diagram a jejich využití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malgam Hg-Ag (Sn)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09480" y="1676520"/>
          <a:ext cx="4572000" cy="3429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45720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5334120" y="3639960"/>
            <a:ext cx="3276360" cy="2819520"/>
          </a:xfrm>
          <a:prstGeom prst="rect">
            <a:avLst/>
          </a:prstGeom>
          <a:ln w="0">
            <a:noFill/>
          </a:ln>
        </p:spPr>
      </p:pic>
      <p:pic>
        <p:nvPicPr>
          <p:cNvPr id="200" name="Amalgam" descr=""/>
          <p:cNvPicPr/>
          <p:nvPr/>
        </p:nvPicPr>
        <p:blipFill>
          <a:blip r:embed="rId4"/>
          <a:stretch/>
        </p:blipFill>
        <p:spPr>
          <a:xfrm>
            <a:off x="6248520" y="1676520"/>
            <a:ext cx="17524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4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onální tavba – čiště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30592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303840"/>
            <a:ext cx="2895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Čistění Al-Ag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"/>
            <a:ext cx="3270240" cy="33526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838080" y="3676680"/>
            <a:ext cx="7467840" cy="3181320"/>
          </a:xfrm>
          <a:prstGeom prst="rect">
            <a:avLst/>
          </a:prstGeom>
          <a:ln w="0">
            <a:noFill/>
          </a:ln>
        </p:spPr>
      </p:pic>
      <p:pic>
        <p:nvPicPr>
          <p:cNvPr id="206" name="Ag-Al" descr=""/>
          <p:cNvPicPr/>
          <p:nvPr/>
        </p:nvPicPr>
        <p:blipFill>
          <a:blip r:embed="rId3"/>
          <a:stretch/>
        </p:blipFill>
        <p:spPr>
          <a:xfrm>
            <a:off x="457200" y="1066680"/>
            <a:ext cx="3657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240" y="227520"/>
            <a:ext cx="21337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e-C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6600" y="229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6600" y="229068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3720" y="345132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4" name="01" descr=""/>
          <p:cNvPicPr/>
          <p:nvPr/>
        </p:nvPicPr>
        <p:blipFill>
          <a:blip r:embed="rId1"/>
          <a:stretch/>
        </p:blipFill>
        <p:spPr>
          <a:xfrm>
            <a:off x="0" y="762120"/>
            <a:ext cx="5181480" cy="3762360"/>
          </a:xfrm>
          <a:prstGeom prst="rect">
            <a:avLst/>
          </a:prstGeom>
          <a:ln w="0">
            <a:noFill/>
          </a:ln>
        </p:spPr>
      </p:pic>
      <p:pic>
        <p:nvPicPr>
          <p:cNvPr id="215" name="iron%20carbon2" descr=""/>
          <p:cNvPicPr/>
          <p:nvPr/>
        </p:nvPicPr>
        <p:blipFill>
          <a:blip r:embed="rId2"/>
          <a:stretch/>
        </p:blipFill>
        <p:spPr>
          <a:xfrm>
            <a:off x="533520" y="4595760"/>
            <a:ext cx="2743200" cy="2232000"/>
          </a:xfrm>
          <a:prstGeom prst="rect">
            <a:avLst/>
          </a:prstGeom>
          <a:ln w="0">
            <a:noFill/>
          </a:ln>
        </p:spPr>
      </p:pic>
      <p:pic>
        <p:nvPicPr>
          <p:cNvPr id="216" name="image002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3336840" cy="4321080"/>
          </a:xfrm>
          <a:prstGeom prst="rect">
            <a:avLst/>
          </a:prstGeom>
          <a:ln w="0">
            <a:noFill/>
          </a:ln>
        </p:spPr>
      </p:pic>
      <p:pic>
        <p:nvPicPr>
          <p:cNvPr id="217" name="iron_phase_diagram_3" descr=""/>
          <p:cNvPicPr/>
          <p:nvPr/>
        </p:nvPicPr>
        <p:blipFill>
          <a:blip r:embed="rId4"/>
          <a:stretch/>
        </p:blipFill>
        <p:spPr>
          <a:xfrm>
            <a:off x="4876920" y="4576680"/>
            <a:ext cx="3581280" cy="22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Vzbrané mikrostruktury Fe-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8640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Lístkový grafi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1981080"/>
            <a:ext cx="40384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Šedá litin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Composes of: 2.5-4.0%C, 1.0-3.0%Si and 0.4-1.0% Mn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rostructure: 3-D graphite flakes formed during eutectic reaction. They have pointed edges to act as voids and crack initiation sites.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Sold by class (class 20 has min. tensile strength of 20,000 psi is a high C-equivalent metal in ferrite matrix ). Class 40 would have pearlite matrix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Me-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038480" cy="3643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572000" y="1676520"/>
            <a:ext cx="4092480" cy="37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ypy fázových přeměn, popis transformací, nomenklatura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likace fázových diagramů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e-C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ypy fázových přemě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plyn: azeotrop, negativní azeotrop (HNO3-H2O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32120" y="2484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919240" y="364500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6" name="figA3-7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7315200" cy="4440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4114800" y="2590920"/>
            <a:ext cx="4572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é pole: l+s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fázová hranice (l+s)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2819520" cy="24382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657600" y="4267080"/>
            <a:ext cx="2449440" cy="2352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447920"/>
            <a:ext cx="8305560" cy="24922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6400800" y="4267080"/>
            <a:ext cx="2438280" cy="19306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6324480" y="6248520"/>
            <a:ext cx="2552760" cy="4381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790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apalina  -tuhá fáze: eutektikum, peritektikum, kongruentní bod t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0" y="1600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uspořádání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305920" cy="25509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62120" y="53352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Kapalina  -tuhá fáze: úplná nemísitelno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1520" y="1638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1520" y="1638360"/>
            <a:ext cx="18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56400" y="3219480"/>
            <a:ext cx="211608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8640" y="2798640"/>
            <a:ext cx="9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ages" descr=""/>
          <p:cNvPicPr/>
          <p:nvPr/>
        </p:nvPicPr>
        <p:blipFill>
          <a:blip r:embed="rId2"/>
          <a:stretch/>
        </p:blipFill>
        <p:spPr>
          <a:xfrm>
            <a:off x="1143000" y="3586320"/>
            <a:ext cx="3657600" cy="32716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876920" y="457200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techiometrické fáze (intermetalika), nestechiometrické fáze (vakance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8370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uhá fáze  -tuhá fáze: odmísení, eutektoidní, peritektoid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2476800" cy="2238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657600" y="2133720"/>
            <a:ext cx="5105520" cy="2300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533520" y="45720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Fenol-anilín, Bi-Z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90360" y="11350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7840" y="2295360"/>
            <a:ext cx="9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1920" bIns="0" anchor="t">
            <a:spAutoFit/>
          </a:bodyPr>
          <a:p>
            <a:pPr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7840" y="30877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image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234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-10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Aplikace fázových diagram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45720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 Black"/>
              </a:rPr>
              <a:t>Kryoskopi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6095880" cy="40590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562720" y="914400"/>
            <a:ext cx="32004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g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+ RTln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Předpokla: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= 1 – x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1, </a:t>
            </a:r>
            <a:r>
              <a:rPr b="1" lang="en-US" sz="1400" spc="-1" strike="noStrike">
                <a:solidFill>
                  <a:srgbClr val="000066"/>
                </a:solidFill>
                <a:latin typeface="Symbol"/>
                <a:ea typeface="Symbol"/>
              </a:rPr>
              <a:t></a:t>
            </a:r>
            <a:r>
              <a:rPr b="1" lang="en-US" sz="1400" spc="-1" strike="noStrike" baseline="-25000">
                <a:solidFill>
                  <a:srgbClr val="000066"/>
                </a:solidFill>
                <a:latin typeface="Arial"/>
              </a:rPr>
              <a:t>W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= 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</a:rPr>
              <a:t>Rovnice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800600" y="2209680"/>
                <a:ext cx="396252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T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WM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T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alt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6553080" y="2819520"/>
            <a:ext cx="228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/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1" lang="cs-CZ" sz="1600" spc="-1" strike="noStrike" baseline="-25000">
                <a:solidFill>
                  <a:srgbClr val="000066"/>
                </a:solidFill>
                <a:latin typeface="Arial"/>
              </a:rPr>
              <a:t>…zavedení snížení bodu tání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6629400" y="2438280"/>
            <a:ext cx="76320" cy="3812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838080" y="5181480"/>
            <a:ext cx="2362320" cy="533520"/>
            <a:chOff x="838080" y="5181480"/>
            <a:chExt cx="2362320" cy="533520"/>
          </a:xfrm>
        </p:grpSpPr>
        <p:sp>
          <p:nvSpPr>
            <p:cNvPr id="190" name=""/>
            <p:cNvSpPr/>
            <p:nvPr/>
          </p:nvSpPr>
          <p:spPr>
            <a:xfrm>
              <a:off x="838080" y="5184360"/>
              <a:ext cx="2362320" cy="530640"/>
            </a:xfrm>
            <a:prstGeom prst="rect">
              <a:avLst/>
            </a:prstGeom>
            <a:solidFill>
              <a:srgbClr val="26d2e4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988560" y="5181480"/>
                  <a:ext cx="221148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T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WM</m:t>
                          </m:r>
                        </m:sub>
                      </m:sSub>
                      <m:r>
                        <m:t xml:space="preserve">−</m:t>
                      </m:r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R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Δh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WM</m:t>
                              </m:r>
                            </m:sub>
                          </m:sSub>
                        </m:den>
                      </m:f>
                      <m:r>
                        <m:t xml:space="preserve"> 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sal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2" name=""/>
          <p:cNvSpPr/>
          <p:nvPr/>
        </p:nvSpPr>
        <p:spPr>
          <a:xfrm>
            <a:off x="762120" y="5943600"/>
            <a:ext cx="74674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Data: </a:t>
            </a:r>
            <a:r>
              <a:rPr b="0" lang="cs-CZ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6000 J/mole; T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WM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273 K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66"/>
                </a:solidFill>
                <a:latin typeface="Arial"/>
              </a:rPr>
              <a:t>Aplikace: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120 g NaCl in 1 liter H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 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x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sal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= 0.036</a:t>
            </a:r>
            <a:r>
              <a:rPr b="0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T = -3.7</a:t>
            </a:r>
            <a:r>
              <a:rPr b="1" lang="en-US" sz="1600" spc="-1" strike="noStrike" baseline="30000">
                <a:solidFill>
                  <a:srgbClr val="000066"/>
                </a:solidFill>
                <a:latin typeface="Arial"/>
              </a:rPr>
              <a:t>o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agram Sn-Pb a SAC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733920" cy="335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4267080" y="1752480"/>
            <a:ext cx="464832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46:32Z</dcterms:modified>
  <cp:revision>92</cp:revision>
  <dc:subject/>
  <dc:title>C6730 Fázové rovnováhy</dc:title>
</cp:coreProperties>
</file>