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673B-5C83-481C-ABBC-1BAA62654D6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66C-B618-43ED-A891-890C5C62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915-A6ED-4616-AEC5-990EF9DF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F1D2-6196-45BA-B423-5782F2AB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E0A1-25C4-479C-8FA7-0AEB95A1F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A66C-E21E-4988-A902-1767A729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8A24-B2D1-4AB6-8F18-96C5997A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BA85-A44F-494F-89C4-7DC9C83B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7B877-C908-4F76-89A2-505720A5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390A-0673-4034-9C8F-586E2FEA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4887-884D-4DA1-9A93-AF11DB25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5BE-51AA-4A5A-8ABF-318E0AA3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FFEF-5051-4A42-A228-AC6F66EE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AA81-83A3-4E7E-A7B6-E02832CC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5900-B032-4ED0-BCEE-28DAA012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40623-1EC9-43E0-A7E2-0AD059D7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8F22-56B7-410A-83F8-DB83C63F3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16024-DEB9-45C1-A6AE-E8800833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0807-E6C4-4329-BF81-CA85231E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B0A-32E9-4CC2-9EE6-9EDD51D4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B6F5-3AFE-422D-A841-4DDC27F1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98A6-85E3-4F35-A233-31086C0E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C32A-D8A7-4B3C-93CA-9724D329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E95D-D637-4255-B190-4067AD15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7DA1-6219-4AA6-829D-D3D2EEEC1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F601-FC1F-4A32-8063-B90955C8DDE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FFBA-7693-49C3-9FAA-D80CF459232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04b Výbraná pravidla a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bsah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plynů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5148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ování směsi ideálních a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 par nad binární směs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075440" cy="37036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1143000" y="4952880"/>
            <a:ext cx="7238880" cy="875880"/>
            <a:chOff x="1143000" y="4952880"/>
            <a:chExt cx="7238880" cy="875880"/>
          </a:xfrm>
        </p:grpSpPr>
        <p:sp>
          <p:nvSpPr>
            <p:cNvPr id="158" name=""/>
            <p:cNvSpPr/>
            <p:nvPr/>
          </p:nvSpPr>
          <p:spPr>
            <a:xfrm>
              <a:off x="1143000" y="4952880"/>
              <a:ext cx="35053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positive deviations from ideality;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, a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&gt;x</a:t>
              </a:r>
              <a:r>
                <a:rPr b="1" lang="en-US" sz="2400" spc="-1" strike="noStrike" baseline="-25000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29200" y="5168520"/>
              <a:ext cx="3352680" cy="63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A: posi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4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 Unicode MS"/>
                </a:rPr>
                <a:t>B: negative deviation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lak plynu nad kondenzovanou fáz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80880" y="1427040"/>
            <a:ext cx="845820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Ebulioskopie, kryosk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723888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1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ravidla pro změnu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318248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07T14:07:10Z</dcterms:modified>
  <cp:revision>72</cp:revision>
  <dc:subject/>
  <dc:title>C6730 Fázové rovnováhy</dc:title>
</cp:coreProperties>
</file>