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21.jpeg" ContentType="image/jpeg"/>
  <Override PartName="/ppt/media/image16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02920"/>
            <a:ext cx="7772400" cy="236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94560"/>
            <a:ext cx="7772400" cy="236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02920"/>
            <a:ext cx="3792600" cy="236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402920"/>
            <a:ext cx="3792600" cy="236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94560"/>
            <a:ext cx="3792600" cy="236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994560"/>
            <a:ext cx="3792600" cy="236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402920"/>
            <a:ext cx="2502360" cy="236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402920"/>
            <a:ext cx="2502360" cy="236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402920"/>
            <a:ext cx="2502360" cy="236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94560"/>
            <a:ext cx="2502360" cy="236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994560"/>
            <a:ext cx="2502360" cy="236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994560"/>
            <a:ext cx="2502360" cy="236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402920"/>
            <a:ext cx="7772400" cy="496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402920"/>
            <a:ext cx="7772400" cy="496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402920"/>
            <a:ext cx="3792600" cy="496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402920"/>
            <a:ext cx="3792600" cy="496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126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402920"/>
            <a:ext cx="3792600" cy="236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402920"/>
            <a:ext cx="3792600" cy="496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94560"/>
            <a:ext cx="3792600" cy="236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02920"/>
            <a:ext cx="3792600" cy="496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02920"/>
            <a:ext cx="3792600" cy="236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994560"/>
            <a:ext cx="3792600" cy="236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02920"/>
            <a:ext cx="3792600" cy="236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02920"/>
            <a:ext cx="3792600" cy="236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94560"/>
            <a:ext cx="7772400" cy="236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02920"/>
            <a:ext cx="7772400" cy="496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337880" y="6373800"/>
            <a:ext cx="163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ljko Samardz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7160" y="6348240"/>
            <a:ext cx="381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-215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gineering Materials and 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UNDAMENTALS OF METAL ALLOYS,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QUILIBRIUM DIAGRA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pter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4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3 Partial Solid Solu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4365720" y="4530600"/>
                <a:ext cx="198360" cy="1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∘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3958920"/>
            <a:ext cx="77724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gree of solubility depends on temper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max. solubility, 183 C: lead holds up to 19.2 wt% tin in a single phase solution, and tin holds up to 2.5wt% lead and still be a single ph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193840" y="839880"/>
            <a:ext cx="44290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3 Utilization of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521000" y="1065240"/>
                <a:ext cx="526248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iquid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has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mount</m:t>
                    </m:r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a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65440" y="2543040"/>
            <a:ext cx="5281560" cy="3805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479600" y="1693800"/>
                <a:ext cx="531324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olid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has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mount</m:t>
                    </m:r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as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3 Exampl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441680" y="1254240"/>
            <a:ext cx="4532400" cy="3265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384120" y="4602240"/>
                <a:ext cx="763596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iquid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has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mount</m:t>
                    </m:r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ass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395280" y="5610240"/>
                <a:ext cx="690084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olid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has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mount</m:t>
                    </m:r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6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as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244440" y="1254240"/>
                <a:ext cx="4599000" cy="29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ive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ata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mput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iqui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oli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hase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mount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y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3 Utilization of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402920"/>
            <a:ext cx="7772400" cy="496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hases pres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osition of each phase ( single phase region or two phase regio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wo phase region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ie-lin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hould be construc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mount of each phase present: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lever-la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alculation using a tie-l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3 Three Phase Re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60200" y="1844640"/>
            <a:ext cx="880596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4 Iron-Carbon Equilibrium Dia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14720" y="863640"/>
            <a:ext cx="6213600" cy="4968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47600" y="3284640"/>
                <a:ext cx="3567240" cy="29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α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errite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BCC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γ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ustenite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CC</m:t>
                            </m:r>
                          </m:e>
                        </m:d>
                      </m:e>
                      <m:e>
                        <m:r>
                          <m:t xml:space="preserve">δ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δ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ferrite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CC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e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ementite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</m:t>
                            </m:r>
                            <m:r>
                              <m:t xml:space="preserve">%C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uri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o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onmagnetic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o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agnetic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ransition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9120" y="126720"/>
            <a:ext cx="8709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.4 Iron-Carbon Equilibrium Diagra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402920"/>
            <a:ext cx="8842320" cy="496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(present only at extreme temperatur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ustenite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FCC, high formability, high solubility of C, over 2%C can be dissolved in it, most of heat treatments begin with this single phas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erri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BCC, stable form of iron below 912 deg.C, only up to 0.02 wt% C in solid solution and leads to two phase mixture in most of ste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ementi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ron-carbide), stoichiometric intermetalic compound, hard, brittle, exact melting point unknow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urrie po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770 deg. C), atomic level nonmagnetic-to-magnetic transi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527040" y="1463760"/>
                <a:ext cx="206532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ferrite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7120" y="126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4 Three Phase Re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02920"/>
            <a:ext cx="7772400" cy="496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eritect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t 1495 deg.C, with low wt% C alloys (almost no engineering importanc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utect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t 1148 deg.C, with 4.3wt% C, hapends to all alloys of more than 2.11wt% C and they are called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ast ir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tectoid, at 727 deg.C with eutectoid composition of 0.77wt% C, alloys bellow 2.11%C miss the eutectic reaction to create two-phase mixture. They ar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teel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5 Steel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798480" y="5451480"/>
                <a:ext cx="766116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ustenite</m:t>
                        </m:r>
                      </m:e>
                      <m:sub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7</m:t>
                        </m:r>
                        <m:r>
                          <m:t xml:space="preserve">%C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FCC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→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errite</m:t>
                        </m:r>
                      </m:e>
                      <m:sub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%C</m:t>
                        </m:r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BCC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ementite</m:t>
                        </m:r>
                      </m:e>
                      <m:sub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t xml:space="preserve">%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389240" y="1015920"/>
            <a:ext cx="633888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5 Eutectoid Ste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41000" y="1391760"/>
            <a:ext cx="3809880" cy="496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0.77%C by cooling from austenite (FCC) changes to BCC-ferrite (max 0.02%C) and excess C forms intermetalic cementi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mical crystalline solid separation gives fine mixture of ferrite and cementite. Perlite (right), 1000X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432320" y="1368360"/>
            <a:ext cx="4567320" cy="49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2 What is a Phas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402920"/>
            <a:ext cx="7772400" cy="496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h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form of material having characteristic structure and propertie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precisely: form of material with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identifiable composition (chemistry), definable structu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istinctive boundaries (interfaces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hich separate it from other pha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5 Hypoeutectoid Ste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85400" y="1371600"/>
            <a:ext cx="4414680" cy="49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less than 0.77%C from austenite by cooling transformation leads to growth of low-C ferrite growth. At 727deg.C austenite transforms in to pearli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xture of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oeutectoid ferri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white) and regions of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earli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nification 500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357800" y="1353960"/>
            <a:ext cx="47862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5 Hypereutectoid Ste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018800"/>
            <a:ext cx="4648320" cy="52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more than 0.77%C, from austenite transformation leads to proeutectoid primary cementite and secondary ferrite. At 727 deg.C austenite changes to pearli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 of primary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ementi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earli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gnification 500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440240" y="1249200"/>
            <a:ext cx="4703760" cy="48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6 Cast Ir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05920" y="1402920"/>
            <a:ext cx="4289400" cy="496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ron-Carbon alloys of 2.11%C or more are cast ir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 composition: 2.0-4.0%C,0.5-3.0% Si, less than 1.0% Mn and less than 0.2% 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-substitutes partially for C and promotes formation of graphite as the carbon rich component instead Fe3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422600" y="1951200"/>
            <a:ext cx="4721400" cy="40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6 Gray Cast I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360" y="1158840"/>
            <a:ext cx="5048280" cy="49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ses of: 2.5-4.0%C, 1.0-3.0%Si and 0.4-1.0% M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tructure: 3-D graphite flakes formed during eutectic reaction. They have pointed edges to act as voids and crack initiation si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d by class (class 20 has min. tensile strength of 20,000 psi is a high C-equivalent metal in ferrite matrix ). Class 40 would have pearlite matri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973760" y="1712880"/>
            <a:ext cx="417024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6 Gray Cast I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02920"/>
            <a:ext cx="8037360" cy="496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erties: excellent compressive strength, excellent machinability, good resistance to adhesive wear (self lubrication due to graphite flakes), outstanding damping capacity ( graphite flakes absorb transmitted energy), good corrosion resistance and it has good fluidity needed for casting oper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widely used, especially for large equipment parts subjected to compressive loads and vibration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6 White Cast I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402920"/>
            <a:ext cx="7772400" cy="496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oses of: 1.8-3.6%C, 0.5-1.9%Si and 0.25-0.8%M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of its carbon is in the form of  iron-carbide (Fe3C). It is called white because of distinctive white fracture surf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very hard and brittle (a lot of Fe3C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used where a high wear resistance is dominant requirement (coupled hard martensite matrix and iron-carbide). Thin coatings over steel  (mill roll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6 Malleable Cast I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402920"/>
            <a:ext cx="546408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extensive heat treatment around 900 degC, Fe3C will dissociate and form irregular shaped graphite nodules. Rapid cooling restricts production amount to up to 5 kg. Less voids and notch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rritic MCI: 10% EL,35 ksi yield strength, 50 ksi tensile strength. Excellent impact strength, good corrosion resistance and good machinabili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375160" y="2405160"/>
            <a:ext cx="3768840" cy="38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6 Pearlitic Malleable Cast I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2520" y="1914120"/>
            <a:ext cx="8292960" cy="35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arlitic MCI: by rapid cooling through eutectic transformation of austenite to pearlite or martensite matri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osition: 1-4% EL, 45-85 ksi yield strength, 65-105 ksi tensile strength. Not as machinable as ferritic malleable cast ir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uctile Cast I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402920"/>
            <a:ext cx="7772400" cy="496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out a heat treatment by addition of ferrosilicon (MgFeSi) formation of smooth spheres (nodules) of graphite is promo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erties: 2-18% EL, 40-90 ksi yield strength, 60-120 ksi tensile streng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ractive engineering material due to: good ductility, high strength, toughness, wear resistance, machinability and low melting point castabil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6 Malleable Cast Ir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722600"/>
            <a:ext cx="4183200" cy="49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ctile iron with ferrite matrix (top) and pearlite matrix (bottom) at 500X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heroidal shape of the graphite nodule is achieved in each c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545080" y="973080"/>
            <a:ext cx="2749680" cy="54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2 Ph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22080" y="1403280"/>
            <a:ext cx="4235400" cy="454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ase can be continuous (air in the room) or discontinuous (salt grains in the shaker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s, liquid or sol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e substance or solution ( uniform structure throughout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973760" y="1173240"/>
            <a:ext cx="3816360" cy="47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cro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5520" y="5283360"/>
            <a:ext cx="814716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ular cast ir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363680" y="988920"/>
            <a:ext cx="6391080" cy="42609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CC Unit Ce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895400" y="1057320"/>
            <a:ext cx="4835520" cy="52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CC Unit Ce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793880" y="1065240"/>
            <a:ext cx="585324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3 Equilibrium Phase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4000" y="1339920"/>
            <a:ext cx="4022640" cy="49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 mapping of the natural tendencies of a material or a material system (equilibrium for all possible condition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mary variables: temperature, pressure and composi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-T diagram (the simplest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376880" y="1289160"/>
            <a:ext cx="4617720" cy="47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.3 Temperature-Composition Diagra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402920"/>
            <a:ext cx="3809880" cy="496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gineering processes conducted at atmospheric pressure (P/T variation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st common: temperature-composition phase diagram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59400" y="1407960"/>
            <a:ext cx="458460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3 Cooling Cur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4120" y="1116000"/>
            <a:ext cx="7772400" cy="24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ling curves for NaCl-H20 combin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028880" y="1630440"/>
            <a:ext cx="7286400" cy="49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3 Cooling Cur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402920"/>
            <a:ext cx="7772400" cy="24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al equilibrium diagram of NaCl-H20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82680" y="2508120"/>
            <a:ext cx="8405640" cy="36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3 Solu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402920"/>
            <a:ext cx="8007480" cy="496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ubility lim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gree of solubility determines proper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-Two metals completely soluble in each 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- Two metals soluble in liquid state and insoluble in solid st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I-Two metals soluble in liquid state and partially soluble in solid st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2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3 Complete Solubilit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402920"/>
            <a:ext cx="7772400" cy="24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per-Nickel equilibrium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77960" y="1871640"/>
            <a:ext cx="727848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7T04:02:28Z</dcterms:created>
  <dc:creator>Simon and Kelly Bickerton</dc:creator>
  <dc:description/>
  <dc:language>en-US</dc:language>
  <cp:lastModifiedBy>Sopoušek Jiří</cp:lastModifiedBy>
  <cp:lastPrinted>2002-12-01T22:28:42Z</cp:lastPrinted>
  <dcterms:modified xsi:type="dcterms:W3CDTF">2007-03-09T13:08:20Z</dcterms:modified>
  <cp:revision>243</cp:revision>
  <dc:subject/>
  <dc:title>Advanced Materials Manufacturing</dc:title>
</cp:coreProperties>
</file>