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5.png" ContentType="image/png"/>
  <Override PartName="/ppt/media/image2.gif" ContentType="image/gif"/>
  <Override PartName="/ppt/media/image9.wmf" ContentType="image/x-wmf"/>
  <Override PartName="/ppt/media/image14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22.wmf" ContentType="image/x-wmf"/>
  <Override PartName="/ppt/media/image6.png" ContentType="image/png"/>
  <Override PartName="/ppt/media/image11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8953-FA58-42AC-92F4-8EA24FA39D1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B376-D19E-4299-886A-F01C40BC8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5A13-25AE-45A9-BC08-5DEAEADD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B506-6B58-4688-948E-54E13C18A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7F6-A67F-47B1-8584-2B1073E5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7F74-DFCD-4ED2-B0D0-4193510BD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0E4A3-4517-407C-9F56-86A8E854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108B-2758-464A-BD8F-24C34B0C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A8B8-CF22-436C-A4AD-65D1A2DF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88A7-9155-4F3C-926B-5F2CF3F6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5C079-07D5-4275-B01E-00BB5E1D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A4A9-D3DB-4F55-ABD2-17630327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4E9-7960-4429-848D-5EEDBCC8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BDD2-78E4-4D81-A171-A90F02DE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0249-C9CC-4899-B7E4-AF25D320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9E7F-BD8A-4171-B9D2-31007BE0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6AE1-754B-4137-B3A9-D7035E2B5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7CA46-A1BE-4BCD-B850-A4FEE6CD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3883-1952-438B-8BC3-80A42F8E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D59D-D567-4FB2-812F-95B11EC2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8F0E-FF45-43B8-8EA7-1EE903996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FEC1-C532-4491-B4E4-331E8F5EE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1ED9-9097-45B2-AB35-94428750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E758-2E87-4996-A63A-1C25F99F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AC78-F701-4F4B-9EC2-E9D23EAA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5BA06-06C6-4EC9-858F-244808BF801F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470C-CAD7-485A-9360-9635183929F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hyperlink" Target="D:\Vyuka\C6730 Term_FR\p&#345;edn&#225;&#353;ka_CZ\04tyden\03a_Gibbsova-Duhemova rovnice.shs" TargetMode="Externa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4a Molární veličiny a chemický potenciá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Chemický potenciál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620120" cy="20984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523880" y="3124080"/>
            <a:ext cx="5562720" cy="36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Termodynamická data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219320" y="1371600"/>
            <a:ext cx="6400800" cy="2523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219320" y="4876920"/>
            <a:ext cx="6324480" cy="14302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33520" y="396144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Fázová data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Molární objem, změny objemu při ideálním míšení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Změny objemu při míšení reálných kapali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Gibbs-Duhemova rovn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Molární entalpie a entropi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Molární Gibbsova energie a chemický potenciá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rmodynamická a fázová dat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měny objemu při ideálním míše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80880" y="1085760"/>
            <a:ext cx="57913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měny objemu při míšení reálných kapalin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6781680" cy="2149560"/>
          </a:xfrm>
          <a:prstGeom prst="rect">
            <a:avLst/>
          </a:prstGeom>
          <a:ln w="0">
            <a:noFill/>
          </a:ln>
        </p:spPr>
      </p:pic>
      <p:pic>
        <p:nvPicPr>
          <p:cNvPr id="156" name="275px-Excess_Volume_Mixture_of_Ethanol_and_Water" descr=""/>
          <p:cNvPicPr/>
          <p:nvPr/>
        </p:nvPicPr>
        <p:blipFill>
          <a:blip r:embed="rId2"/>
          <a:stretch/>
        </p:blipFill>
        <p:spPr>
          <a:xfrm>
            <a:off x="2286000" y="3798720"/>
            <a:ext cx="3200400" cy="27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Parciální a integrální extenzivní veličiny</a:t>
            </a: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9480" y="1355760"/>
            <a:ext cx="7391520" cy="52992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791320" y="1600200"/>
            <a:ext cx="2666880" cy="8240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Objemová expanze a kontrakce (etanol-voda, 18ml</a:t>
            </a: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/mol, 59ml/mol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360" y="172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87360" y="17240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4840" y="28843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3" name="images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3962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Gibbs-Duhemova rovn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505320" y="1066680"/>
            <a:ext cx="5257800" cy="329436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2"/>
          </p:cNvPr>
          <p:cNvSpPr/>
          <p:nvPr/>
        </p:nvSpPr>
        <p:spPr>
          <a:xfrm>
            <a:off x="6172200" y="58672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752" h="21600">
                <a:moveTo>
                  <a:pt x="6349" y="3985"/>
                </a:moveTo>
                <a:lnTo>
                  <a:pt x="13347" y="3985"/>
                </a:lnTo>
                <a:lnTo>
                  <a:pt x="17403" y="7484"/>
                </a:lnTo>
                <a:lnTo>
                  <a:pt x="17403" y="17615"/>
                </a:lnTo>
                <a:lnTo>
                  <a:pt x="6349" y="17615"/>
                </a:lnTo>
                <a:close/>
              </a:path>
              <a:path fill="darken" w="23752" h="21600">
                <a:moveTo>
                  <a:pt x="13347" y="3985"/>
                </a:moveTo>
                <a:lnTo>
                  <a:pt x="17403" y="7484"/>
                </a:lnTo>
                <a:lnTo>
                  <a:pt x="13347" y="7484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7" name="5_1_big" descr=""/>
          <p:cNvPicPr/>
          <p:nvPr/>
        </p:nvPicPr>
        <p:blipFill>
          <a:blip r:embed="rId3"/>
          <a:stretch/>
        </p:blipFill>
        <p:spPr>
          <a:xfrm>
            <a:off x="304920" y="990720"/>
            <a:ext cx="3124080" cy="541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60280" y="175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60280" y="17524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7760" y="29131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Molární entalpie a entrop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6629400" cy="4959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334120" y="4756320"/>
            <a:ext cx="3504960" cy="1901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5638680" y="1828800"/>
            <a:ext cx="312444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62120" y="2271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Dodatkoné termodynamické funkce směsi Etanol-Voda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6" name="275px-Mixing_Enthalpy_Mixture_of_Ethanol_and_Water" descr=""/>
          <p:cNvPicPr/>
          <p:nvPr/>
        </p:nvPicPr>
        <p:blipFill>
          <a:blip r:embed="rId1"/>
          <a:stretch/>
        </p:blipFill>
        <p:spPr>
          <a:xfrm>
            <a:off x="5867280" y="3446640"/>
            <a:ext cx="3276720" cy="312408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429000" y="57913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Dodatková entalpie míšení (etanol-voda) , detai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8" name="images" descr=""/>
          <p:cNvPicPr/>
          <p:nvPr/>
        </p:nvPicPr>
        <p:blipFill>
          <a:blip r:embed="rId2"/>
          <a:stretch/>
        </p:blipFill>
        <p:spPr>
          <a:xfrm>
            <a:off x="304920" y="1219320"/>
            <a:ext cx="541008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038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Molární Gibbsova energi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1347840"/>
            <a:ext cx="5257800" cy="4735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5715000" y="1295280"/>
            <a:ext cx="2817720" cy="2186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5867280" y="3962520"/>
            <a:ext cx="26672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0-24T15:00:17Z</dcterms:modified>
  <cp:revision>70</cp:revision>
  <dc:subject/>
  <dc:title>C6730 Fázové rovnováhy</dc:title>
</cp:coreProperties>
</file>