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12.wmf" ContentType="image/x-wmf"/>
  <Override PartName="/ppt/media/image27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20.jpeg" ContentType="image/jpeg"/>
  <Override PartName="/ppt/media/image4.wmf" ContentType="image/x-wmf"/>
  <Override PartName="/ppt/media/image10.wmf" ContentType="image/x-wmf"/>
  <Override PartName="/ppt/media/image24.wmf" ContentType="image/x-wmf"/>
  <Override PartName="/ppt/media/image14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8.jpeg" ContentType="image/jpeg"/>
  <Override PartName="/ppt/media/image18.png" ContentType="image/png"/>
  <Override PartName="/ppt/media/image15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BFFF-64EC-4304-B679-19B5E29AB83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ECE7-9B97-45C1-8DA5-C65D80EA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54E-3ECF-4F1E-9AF3-A20BD8AA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5A2-DE9C-4ECC-B532-5E2F7DD1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7F8-3BBA-455E-99E9-6109998E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AB53-6D40-45D9-A746-079DDA6E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7780-A6DE-455E-B4E6-05D9D681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7409-89ED-4E9C-9D1B-DCEDE691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9D75-0D07-4577-A655-4BD16738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5BB6-FC87-45BE-A03C-6FF6CCA8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863B-19E8-4F57-B88B-A3D8D5D8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5E8A-2C4F-431B-9B60-2499B270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BB31-8667-4D19-BBEA-7AA7B9AB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2E06-B279-40E5-9A80-774ABD97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FC8D-4FE8-43FC-8674-7CCFAE6E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B898-97D3-4119-8960-35300EC7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1A76-3B1E-4520-9DB3-2CF3D5FB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3B0B-F583-4952-BB1C-34E672C5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812-BC07-4E1A-A610-9FB8BDC6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92D-C26C-44F7-9EBD-906D6ABD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074-0553-4C85-9C72-83074786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828-9273-4F96-BA37-D9E4FC82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41EE-F3A4-432E-AC8D-4211768B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B99-A4D0-436B-BB97-5243BAA0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41A-0808-45F7-A2BE-717DE02C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3D7F-D95C-425F-A1A3-DDA7E5BCB8D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AA09-6786-4E8A-95CA-230A0F7EB91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D:\Vyuka\C6730 Term_FR\p&#345;edn&#225;&#353;ka_CZ\07t&#253;den\02a_NiCrMo.pdf" TargetMode="External"/><Relationship Id="rId3" Type="http://schemas.openxmlformats.org/officeDocument/2006/relationships/hyperlink" Target="D:\Vyuka\C6730 Term_FR\p&#345;edn&#225;&#353;ka_CZ\07t&#253;den\03_FD_tern&#225;rn&#237;_p&#345;&#237;klady.pdf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Vícefáz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řífázová rovnováh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648320" cy="4268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352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Tie-lin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7086600" cy="4383000"/>
          </a:xfrm>
          <a:prstGeom prst="rect">
            <a:avLst/>
          </a:prstGeom>
          <a:ln w="0">
            <a:noFill/>
          </a:ln>
        </p:spPr>
      </p:pic>
      <p:pic>
        <p:nvPicPr>
          <p:cNvPr id="173" name="ternread-d" descr=""/>
          <p:cNvPicPr/>
          <p:nvPr/>
        </p:nvPicPr>
        <p:blipFill>
          <a:blip r:embed="rId2"/>
          <a:stretch/>
        </p:blipFill>
        <p:spPr>
          <a:xfrm>
            <a:off x="5105520" y="763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ie-triangl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95280" y="1001880"/>
            <a:ext cx="6629400" cy="5856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934320" y="5334120"/>
            <a:ext cx="55872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3D projek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631800"/>
            <a:ext cx="6324480" cy="6226200"/>
          </a:xfrm>
          <a:prstGeom prst="rect">
            <a:avLst/>
          </a:prstGeom>
          <a:ln w="0">
            <a:noFill/>
          </a:ln>
        </p:spPr>
      </p:pic>
      <p:pic>
        <p:nvPicPr>
          <p:cNvPr id="179" name="ternfig1" descr=""/>
          <p:cNvPicPr/>
          <p:nvPr/>
        </p:nvPicPr>
        <p:blipFill>
          <a:blip r:embed="rId2"/>
          <a:stretch/>
        </p:blipFill>
        <p:spPr>
          <a:xfrm>
            <a:off x="6477120" y="609480"/>
            <a:ext cx="2400120" cy="221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0280" y="174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0280" y="1746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7760" y="290664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6800"/>
            <a:ext cx="77724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koncentrační řez FD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br>
              <a:rPr sz="4400"/>
            </a:b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locha liquidu a solid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2781360"/>
            <a:ext cx="6477120" cy="4076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4120" y="4495680"/>
            <a:ext cx="319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alší příklad ternárních diagram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>
            <a:hlinkClick r:id="rId2"/>
          </p:cNvPr>
          <p:cNvSpPr/>
          <p:nvPr/>
        </p:nvSpPr>
        <p:spPr>
          <a:xfrm>
            <a:off x="8153280" y="3733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15" h="21600">
                <a:moveTo>
                  <a:pt x="5280" y="3985"/>
                </a:moveTo>
                <a:lnTo>
                  <a:pt x="12278" y="3985"/>
                </a:lnTo>
                <a:lnTo>
                  <a:pt x="16334" y="7484"/>
                </a:lnTo>
                <a:lnTo>
                  <a:pt x="16334" y="17615"/>
                </a:lnTo>
                <a:lnTo>
                  <a:pt x="5280" y="17615"/>
                </a:lnTo>
                <a:close/>
              </a:path>
              <a:path fill="darken" w="21615" h="21600">
                <a:moveTo>
                  <a:pt x="12278" y="3985"/>
                </a:moveTo>
                <a:lnTo>
                  <a:pt x="16334" y="7484"/>
                </a:lnTo>
                <a:lnTo>
                  <a:pt x="1227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>
            <a:hlinkClick r:id="rId3"/>
          </p:cNvPr>
          <p:cNvSpPr/>
          <p:nvPr/>
        </p:nvSpPr>
        <p:spPr>
          <a:xfrm>
            <a:off x="8305920" y="4648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  <a:path fill="darkenLess" w="21600" h="30228">
                <a:moveTo>
                  <a:pt x="5273" y="8299"/>
                </a:moveTo>
                <a:lnTo>
                  <a:pt x="12271" y="8299"/>
                </a:lnTo>
                <a:lnTo>
                  <a:pt x="16327" y="11798"/>
                </a:lnTo>
                <a:lnTo>
                  <a:pt x="16327" y="21929"/>
                </a:lnTo>
                <a:lnTo>
                  <a:pt x="5273" y="21929"/>
                </a:lnTo>
                <a:close/>
              </a:path>
              <a:path fill="darken" w="21600" h="30228">
                <a:moveTo>
                  <a:pt x="12271" y="8299"/>
                </a:moveTo>
                <a:lnTo>
                  <a:pt x="16327" y="11798"/>
                </a:lnTo>
                <a:lnTo>
                  <a:pt x="12271" y="1179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fo-an-sio2_ternary_54-36-10" descr=""/>
          <p:cNvPicPr/>
          <p:nvPr/>
        </p:nvPicPr>
        <p:blipFill>
          <a:blip r:embed="rId4"/>
          <a:stretch/>
        </p:blipFill>
        <p:spPr>
          <a:xfrm>
            <a:off x="4572000" y="147600"/>
            <a:ext cx="4267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608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alurgie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(tepelné zpracování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0" name="AEB-L%20Phase%20Diagram%20in%20Celsius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18520" cy="5360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1080" y="662940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www.calphad.com/phase_diagrams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e-Cr-C Liquid projectio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erezová oc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tern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389480" cy="4022640"/>
          </a:xfrm>
          <a:prstGeom prst="rect">
            <a:avLst/>
          </a:prstGeom>
          <a:ln w="0">
            <a:noFill/>
          </a:ln>
        </p:spPr>
      </p:pic>
      <p:pic>
        <p:nvPicPr>
          <p:cNvPr id="195" name="o1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2857320" cy="2182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4648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e-18Ni-8C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6248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900stC, 1At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9180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Aplikace ternárních diagramů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8390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merický výpočet chemického potenciálu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Gibbsovo pravidl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řífázová rovnováh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plikace ternárních diagramů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458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aplik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5" name="phasediag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3429000" cy="2846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parace solí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A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8" name="sf_formclus1" descr="Approaching microemulsions at room temperature"/>
          <p:cNvPicPr/>
          <p:nvPr/>
        </p:nvPicPr>
        <p:blipFill>
          <a:blip r:embed="rId1"/>
          <a:stretch/>
        </p:blipFill>
        <p:spPr>
          <a:xfrm>
            <a:off x="4384800" y="762120"/>
            <a:ext cx="4098960" cy="5691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" y="2514600"/>
            <a:ext cx="3581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Fig. 1: Approaching microemulsions at room temperature ( T = 25°C) Top: test tubes of, left: equal volumes of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; centre-lef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il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n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o/w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, 2); 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ob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w/o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I, 2 ); centre-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balance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, bicontinuous microemulsion in coexistence with both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Winsor III (3). Bottom: Isothermal Gibbs triangles of the three systems at T = 25°C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746784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Calc (Švédsko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calc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TData (Velká Británie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np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o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u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advance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aterial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easurem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echnique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odellin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tdata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neak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Sage (Canada+SRN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sag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i příklady diagramů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wnloady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downloa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#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ndat (USA, Japan, Corea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puther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om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DATA (Francie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data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onlin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r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vlx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523880"/>
            <a:ext cx="82296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ttp://www.asminternational.org/portal/site/www/info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SI (koupit si diagram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baz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gt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index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ssm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niha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pringerlin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nt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100270622k03v066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055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umerický 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75438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932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alytický výpočet chemického potenciálu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pro vícemžížkový model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0773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Gibbsovo fázové pravidlo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267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6400800"/>
            <a:ext cx="853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chem.arizona.edu/~salzmanr/480a/480ants/gibbspr/gibbspr.html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Image33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771800" cy="3576600"/>
          </a:xfrm>
          <a:prstGeom prst="rect">
            <a:avLst/>
          </a:prstGeom>
          <a:ln w="0">
            <a:noFill/>
          </a:ln>
        </p:spPr>
      </p:pic>
      <p:pic>
        <p:nvPicPr>
          <p:cNvPr id="165" name="Image512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510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říklad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927000"/>
            <a:ext cx="83818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2:49:09Z</dcterms:modified>
  <cp:revision>112</cp:revision>
  <dc:subject/>
  <dc:title>C6730 Fázové rovnováhy</dc:title>
</cp:coreProperties>
</file>