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4.wmf" ContentType="image/x-wmf"/>
  <Override PartName="/ppt/media/image10.wmf" ContentType="image/x-wmf"/>
  <Override PartName="/ppt/media/image24.wmf" ContentType="image/x-wmf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18.png" ContentType="image/png"/>
  <Override PartName="/ppt/media/image15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F853-40C5-4AF6-A6AB-FD6115B2AB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F1A-8164-4097-A8A5-8BBF3191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DD6-73F1-4F02-A192-D248117E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626-C3A8-4366-BA72-076EC5AD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FD6-0107-48ED-B07A-6D6E7427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4055-77EC-4B7C-8A90-1C1FF860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1739-F3D7-44EE-9C55-FCDF6016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D488-A453-47BB-AD6B-FAA967A3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D0C4-3F6E-480C-85A6-F3055A94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65EF-FE21-4AFB-84C1-49535722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CD11-F58A-40BB-A3EC-25F4A6C2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446F-F1D7-4783-A5FD-DC536969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5E3-8E3D-42AE-9DE6-C3EE2216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48B3-2990-4BB7-90FA-CE25FA8D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9D74-94C2-429B-8DAB-C7EABF06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F533-1CB2-4724-9223-6D78396B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9D85-403C-4AC0-B72E-DAD5D01E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C385-165D-4F1C-B3AE-98E0F785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389-0A7B-44BF-9779-B20D0709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9755-D879-47CB-B822-FE528908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9AF-EB92-4162-8E40-99BDE23B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E39-ED03-4722-97C3-FF8F5E6C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C355-7446-4FD3-8E1B-D8025323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8B2-59F2-4EA5-BAD5-A9CA6725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7A3-AC91-4B72-AE60-D6E92DB7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A4B2-F748-4811-97F5-C10BBC82569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73F6-55A8-4512-B103-A9CE2B1DD87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D:\Vyuka\C6730 Term_FR\p&#345;edn&#225;&#353;ka_CZ\07t&#253;den\02a_NiCrMo.pdf" TargetMode="External"/><Relationship Id="rId3" Type="http://schemas.openxmlformats.org/officeDocument/2006/relationships/hyperlink" Target="D:\Vyuka\C6730 Term_FR\p&#345;edn&#225;&#353;ka_CZ\07t&#253;den\03_FD_tern&#225;rn&#237;_p&#345;&#237;klady.pdf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Více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řífázová rovnováh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648320" cy="42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Tie-lin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086600" cy="4383000"/>
          </a:xfrm>
          <a:prstGeom prst="rect">
            <a:avLst/>
          </a:prstGeom>
          <a:ln w="0">
            <a:noFill/>
          </a:ln>
        </p:spPr>
      </p:pic>
      <p:pic>
        <p:nvPicPr>
          <p:cNvPr id="173" name="ternread-d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ie-triangl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95280" y="1001880"/>
            <a:ext cx="6629400" cy="5856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934320" y="5334120"/>
            <a:ext cx="55872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3D projek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631800"/>
            <a:ext cx="6324480" cy="6226200"/>
          </a:xfrm>
          <a:prstGeom prst="rect">
            <a:avLst/>
          </a:prstGeom>
          <a:ln w="0">
            <a:noFill/>
          </a:ln>
        </p:spPr>
      </p:pic>
      <p:pic>
        <p:nvPicPr>
          <p:cNvPr id="179" name="ternfig1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2400120" cy="221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0280" y="174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0280" y="1746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7760" y="290664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koncentrační řez FD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br>
              <a:rPr sz="4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locha liquidu a solid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2781360"/>
            <a:ext cx="6477120" cy="4076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4120" y="449568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alší příklad ternárních diagram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>
            <a:hlinkClick r:id="rId2"/>
          </p:cNvPr>
          <p:cNvSpPr/>
          <p:nvPr/>
        </p:nvSpPr>
        <p:spPr>
          <a:xfrm>
            <a:off x="8153280" y="3733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15" h="21600">
                <a:moveTo>
                  <a:pt x="5280" y="3985"/>
                </a:moveTo>
                <a:lnTo>
                  <a:pt x="12278" y="3985"/>
                </a:lnTo>
                <a:lnTo>
                  <a:pt x="16334" y="7484"/>
                </a:lnTo>
                <a:lnTo>
                  <a:pt x="16334" y="17615"/>
                </a:lnTo>
                <a:lnTo>
                  <a:pt x="5280" y="17615"/>
                </a:lnTo>
                <a:close/>
              </a:path>
              <a:path fill="darken" w="21615" h="21600">
                <a:moveTo>
                  <a:pt x="12278" y="3985"/>
                </a:moveTo>
                <a:lnTo>
                  <a:pt x="16334" y="7484"/>
                </a:lnTo>
                <a:lnTo>
                  <a:pt x="1227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>
            <a:hlinkClick r:id="rId3"/>
          </p:cNvPr>
          <p:cNvSpPr/>
          <p:nvPr/>
        </p:nvSpPr>
        <p:spPr>
          <a:xfrm>
            <a:off x="8305920" y="4648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  <a:path fill="darkenLess" w="21600" h="30228">
                <a:moveTo>
                  <a:pt x="5273" y="8299"/>
                </a:moveTo>
                <a:lnTo>
                  <a:pt x="12271" y="8299"/>
                </a:lnTo>
                <a:lnTo>
                  <a:pt x="16327" y="11798"/>
                </a:lnTo>
                <a:lnTo>
                  <a:pt x="16327" y="21929"/>
                </a:lnTo>
                <a:lnTo>
                  <a:pt x="5273" y="21929"/>
                </a:lnTo>
                <a:close/>
              </a:path>
              <a:path fill="darken" w="21600" h="30228">
                <a:moveTo>
                  <a:pt x="12271" y="8299"/>
                </a:moveTo>
                <a:lnTo>
                  <a:pt x="16327" y="11798"/>
                </a:lnTo>
                <a:lnTo>
                  <a:pt x="12271" y="1179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fo-an-sio2_ternary_54-36-10" descr=""/>
          <p:cNvPicPr/>
          <p:nvPr/>
        </p:nvPicPr>
        <p:blipFill>
          <a:blip r:embed="rId4"/>
          <a:stretch/>
        </p:blipFill>
        <p:spPr>
          <a:xfrm>
            <a:off x="4572000" y="14760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alurgie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(tepelné zpracován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0" name="AEB-L%20Phase%20Diagram%20in%20Celsius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18520" cy="5360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66294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www.calphad.com/phase_diagram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e-Cr-C Liquid projectio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erezová oc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tern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389480" cy="4022640"/>
          </a:xfrm>
          <a:prstGeom prst="rect">
            <a:avLst/>
          </a:prstGeom>
          <a:ln w="0">
            <a:noFill/>
          </a:ln>
        </p:spPr>
      </p:pic>
      <p:pic>
        <p:nvPicPr>
          <p:cNvPr id="195" name="o1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2857320" cy="2182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e-18Ni-8C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00stC, 1At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Aplikace ternárních diagramů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8390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merický výpočet chemického potenciál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Gibbsovo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řífázová rovnováh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plikace ternárních diagramů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aplik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hasediag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3429000" cy="2846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parace solí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A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sf_formclus1" descr="Approaching microemulsions at room temperature"/>
          <p:cNvPicPr/>
          <p:nvPr/>
        </p:nvPicPr>
        <p:blipFill>
          <a:blip r:embed="rId1"/>
          <a:stretch/>
        </p:blipFill>
        <p:spPr>
          <a:xfrm>
            <a:off x="4384800" y="762120"/>
            <a:ext cx="4098960" cy="5691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2514600"/>
            <a:ext cx="3581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Fig. 1: Approaching microemulsions at room temperature ( T = 25°C) Top: test tubes of, left: equal volumes of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; centre-lef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il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n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o/w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, 2); 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ob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w/o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I, 2 ); centre-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balance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, bicontinuous microemulsion in coexistence with both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Winsor III (3). Bottom: Isothermal Gibbs triangles of the three systems at T = 25°C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746784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ttp://www.asminternational.org/portal/site/www/info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05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umerický 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5438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32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alytický výpočet chemického potenciálu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pro vícemžížkový model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0773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Gibbsovo fázové pravidlo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267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6400800"/>
            <a:ext cx="853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chem.arizona.edu/~salzmanr/480a/480ants/gibbspr/gibbspr.html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Image33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771800" cy="3576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512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510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říklad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83818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2:49:09Z</dcterms:modified>
  <cp:revision>112</cp:revision>
  <dc:subject/>
  <dc:title>C6730 Fázové rovnováhy</dc:title>
</cp:coreProperties>
</file>