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26.png" ContentType="image/png"/>
  <Override PartName="/ppt/media/image13.wmf" ContentType="image/x-wmf"/>
  <Override PartName="/ppt/media/image2.gif" ContentType="image/gif"/>
  <Override PartName="/ppt/media/image9.png" ContentType="image/png"/>
  <Override PartName="/ppt/media/image17.wmf" ContentType="image/x-wmf"/>
  <Override PartName="/ppt/media/image12.wmf" ContentType="image/x-wmf"/>
  <Override PartName="/ppt/media/image27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20.jpeg" ContentType="image/jpeg"/>
  <Override PartName="/ppt/media/image4.wmf" ContentType="image/x-wmf"/>
  <Override PartName="/ppt/media/image10.wmf" ContentType="image/x-wmf"/>
  <Override PartName="/ppt/media/image24.wmf" ContentType="image/x-wmf"/>
  <Override PartName="/ppt/media/image14.png" ContentType="image/png"/>
  <Override PartName="/ppt/media/image25.wmf" ContentType="image/x-wmf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8.jpeg" ContentType="image/jpeg"/>
  <Override PartName="/ppt/media/image18.png" ContentType="image/png"/>
  <Override PartName="/ppt/media/image15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B72F-DCF4-4000-BC5C-44A8845134A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01CB-45D6-48CB-A8D5-C08A3165D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351A-9D8B-4B9B-979A-F014E1EF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F75A-CA61-48E3-B9C9-C2BD4C00E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5265-47D6-4AFC-9E3E-28E7EBC6B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CD16-CA42-4F9A-BDEC-00B785EA2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A36C-F54C-4366-A7A0-56EF3CE9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1390-DC79-4C5B-B6B5-97451CFA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B061-F051-4749-8AC8-CD8AD479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27DC-334B-49C6-BAD7-6734A3FC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0852-11EC-4B6B-BAC5-A3354ED6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DB8C-7A42-4892-A871-50C4AEB2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3419-3E6D-4FD3-8566-BB1E24C0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0D7E-641D-4B6D-9765-849F2BE6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7665-EF92-4707-8A02-F32D56B1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A147-3DF1-41E8-A02E-C8AAE55D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B8B3-8304-496F-99D1-9F55B4AC6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9B56-CF8B-4C9D-BF91-3834C3FD5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2369-E911-4ABD-847A-08E5CF5D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837C-CD53-46FB-BB13-E2A30D81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B281-51FA-405B-9225-9A953350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7BDF-94E7-4EC6-A8A5-57F3EBC3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89C2-F1E1-4ADF-AC30-1575B586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D1C1-D748-4DA1-BF14-ED997789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DBC0-8154-4E45-85A0-EFE19B65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DDB7-5F75-4021-9BDF-654AAECC840E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FC39-7391-4A9B-AC44-6F8FEE67AE6B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D:\Vyuka\C6730 Term_FR\p&#345;edn&#225;&#353;ka_CZ\07t&#253;den\02a_NiCrMo.pdf" TargetMode="External"/><Relationship Id="rId3" Type="http://schemas.openxmlformats.org/officeDocument/2006/relationships/hyperlink" Target="D:\Vyuka\C6730 Term_FR\p&#345;edn&#225;&#353;ka_CZ\07t&#253;den\03_FD_tern&#225;rn&#237;_p&#345;&#237;klady.pdf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Vícefázové rovnováh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řífázová rovnováh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4648320" cy="42685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334120" y="2133720"/>
            <a:ext cx="33526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Tie-lin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7086600" cy="4383000"/>
          </a:xfrm>
          <a:prstGeom prst="rect">
            <a:avLst/>
          </a:prstGeom>
          <a:ln w="0">
            <a:noFill/>
          </a:ln>
        </p:spPr>
      </p:pic>
      <p:pic>
        <p:nvPicPr>
          <p:cNvPr id="173" name="ternread-d" descr=""/>
          <p:cNvPicPr/>
          <p:nvPr/>
        </p:nvPicPr>
        <p:blipFill>
          <a:blip r:embed="rId2"/>
          <a:stretch/>
        </p:blipFill>
        <p:spPr>
          <a:xfrm>
            <a:off x="5105520" y="76320"/>
            <a:ext cx="32763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Tie-triangl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295280" y="1001880"/>
            <a:ext cx="6629400" cy="5856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934320" y="5334120"/>
            <a:ext cx="558720" cy="1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2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3D projek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04920" y="631800"/>
            <a:ext cx="6324480" cy="6226200"/>
          </a:xfrm>
          <a:prstGeom prst="rect">
            <a:avLst/>
          </a:prstGeom>
          <a:ln w="0">
            <a:noFill/>
          </a:ln>
        </p:spPr>
      </p:pic>
      <p:pic>
        <p:nvPicPr>
          <p:cNvPr id="179" name="ternfig1" descr=""/>
          <p:cNvPicPr/>
          <p:nvPr/>
        </p:nvPicPr>
        <p:blipFill>
          <a:blip r:embed="rId2"/>
          <a:stretch/>
        </p:blipFill>
        <p:spPr>
          <a:xfrm>
            <a:off x="6477120" y="609480"/>
            <a:ext cx="2400120" cy="221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60280" y="1746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0280" y="1746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7760" y="290664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226800"/>
            <a:ext cx="777240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Isokoncentrační řez FD</a:t>
            </a: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 </a:t>
            </a:r>
            <a:br>
              <a:rPr sz="4400"/>
            </a:b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Plocha liquidu a solidu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8600" y="2781360"/>
            <a:ext cx="6477120" cy="4076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334120" y="4495680"/>
            <a:ext cx="319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Další příklad ternárních diagramů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>
            <a:hlinkClick r:id="rId2"/>
          </p:cNvPr>
          <p:cNvSpPr/>
          <p:nvPr/>
        </p:nvSpPr>
        <p:spPr>
          <a:xfrm>
            <a:off x="8153280" y="3733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15" h="21600">
                <a:moveTo>
                  <a:pt x="5280" y="3985"/>
                </a:moveTo>
                <a:lnTo>
                  <a:pt x="12278" y="3985"/>
                </a:lnTo>
                <a:lnTo>
                  <a:pt x="16334" y="7484"/>
                </a:lnTo>
                <a:lnTo>
                  <a:pt x="16334" y="17615"/>
                </a:lnTo>
                <a:lnTo>
                  <a:pt x="5280" y="17615"/>
                </a:lnTo>
                <a:close/>
              </a:path>
              <a:path fill="darken" w="21615" h="21600">
                <a:moveTo>
                  <a:pt x="12278" y="3985"/>
                </a:moveTo>
                <a:lnTo>
                  <a:pt x="16334" y="7484"/>
                </a:lnTo>
                <a:lnTo>
                  <a:pt x="12278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>
            <a:hlinkClick r:id="rId3"/>
          </p:cNvPr>
          <p:cNvSpPr/>
          <p:nvPr/>
        </p:nvSpPr>
        <p:spPr>
          <a:xfrm>
            <a:off x="8305920" y="4648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  <a:path fill="darkenLess" w="21600" h="30228">
                <a:moveTo>
                  <a:pt x="5273" y="8299"/>
                </a:moveTo>
                <a:lnTo>
                  <a:pt x="12271" y="8299"/>
                </a:lnTo>
                <a:lnTo>
                  <a:pt x="16327" y="11798"/>
                </a:lnTo>
                <a:lnTo>
                  <a:pt x="16327" y="21929"/>
                </a:lnTo>
                <a:lnTo>
                  <a:pt x="5273" y="21929"/>
                </a:lnTo>
                <a:close/>
              </a:path>
              <a:path fill="darken" w="21600" h="30228">
                <a:moveTo>
                  <a:pt x="12271" y="8299"/>
                </a:moveTo>
                <a:lnTo>
                  <a:pt x="16327" y="11798"/>
                </a:lnTo>
                <a:lnTo>
                  <a:pt x="12271" y="11798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8" name="fo-an-sio2_ternary_54-36-10" descr=""/>
          <p:cNvPicPr/>
          <p:nvPr/>
        </p:nvPicPr>
        <p:blipFill>
          <a:blip r:embed="rId4"/>
          <a:stretch/>
        </p:blipFill>
        <p:spPr>
          <a:xfrm>
            <a:off x="4572000" y="147600"/>
            <a:ext cx="4267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3608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alurgie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(tepelné zpracování)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0" name="AEB-L%20Phase%20Diagram%20in%20Celsius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418520" cy="53607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981080" y="662940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http://www.calphad.com/phase_diagrams.htm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Fe-Cr-C Liquid projectio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Nerezová ocel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4" name="tern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4389480" cy="4022640"/>
          </a:xfrm>
          <a:prstGeom prst="rect">
            <a:avLst/>
          </a:prstGeom>
          <a:ln w="0">
            <a:noFill/>
          </a:ln>
        </p:spPr>
      </p:pic>
      <p:pic>
        <p:nvPicPr>
          <p:cNvPr id="195" name="o1" descr=""/>
          <p:cNvPicPr/>
          <p:nvPr/>
        </p:nvPicPr>
        <p:blipFill>
          <a:blip r:embed="rId2"/>
          <a:stretch/>
        </p:blipFill>
        <p:spPr>
          <a:xfrm>
            <a:off x="5562720" y="2286000"/>
            <a:ext cx="2857320" cy="21826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46483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Fe-18Ni-8C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624852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900stC, 1At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9180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Aplikace ternárních diagramů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Extrak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91540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038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Black"/>
              </a:rPr>
              <a:t>Extrakce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83908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merický výpočet chemického potenciálu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Gibbsovo pravidl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řífázová rovnováh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Aplikace ternárních diagramů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845820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alší aplika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5" name="phasediag" descr=""/>
          <p:cNvPicPr/>
          <p:nvPr/>
        </p:nvPicPr>
        <p:blipFill>
          <a:blip r:embed="rId1"/>
          <a:stretch/>
        </p:blipFill>
        <p:spPr>
          <a:xfrm>
            <a:off x="4114800" y="2133720"/>
            <a:ext cx="3429000" cy="28461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parace solí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PAL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8" name="sf_formclus1" descr="Approaching microemulsions at room temperature"/>
          <p:cNvPicPr/>
          <p:nvPr/>
        </p:nvPicPr>
        <p:blipFill>
          <a:blip r:embed="rId1"/>
          <a:stretch/>
        </p:blipFill>
        <p:spPr>
          <a:xfrm>
            <a:off x="4384800" y="762120"/>
            <a:ext cx="4098960" cy="56912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57200" y="2514600"/>
            <a:ext cx="35812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Fig. 1: Approaching microemulsions at room temperature ( T = 25°C) Top: test tubes of, left: equal volumes of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and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; centre-left: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–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- hydrophilic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surfactant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rovides an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-in-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(o/w) microemulsion in coexistence with an excess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hase (Winsor I, 2); right: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–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- hydrophobic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surfactant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rovides a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-in-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(w/o) microemulsion in coexistence with an excess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hase (Winsor II, 2 ); centre-right: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–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- balanced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surfactant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, bicontinuous microemulsion in coexistence with both excess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and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Winsor III (3). Bottom: Isothermal Gibbs triangles of the three systems at T = 25°C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1828800"/>
            <a:ext cx="7467840" cy="31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rogramy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rmoCalc (Švédsko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thermocalc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TData (Velká Británie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np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co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uk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advanced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-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aterials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easuremen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-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techniques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odelling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tdata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neak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actSage (Canada+SRN)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factsag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i příklady diagramů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ownloady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r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olymt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ca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fa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download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hp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#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andat (USA, Japan, Corea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puther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om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m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RMODATA (Francie)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thermodata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onlin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fr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LXE (polymery) free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vlx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57200" y="1523880"/>
            <a:ext cx="822960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agramy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M 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ttp://www.asminternational.org/portal/site/www/info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SI (koupit si diagram)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atabaze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GE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r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olymt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ca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sgt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index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hp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sessma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Kniha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springerlink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nten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100270622k03v066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Výpočet chemického potenciál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30556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Numerický výpočet chemického potenciál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75438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93200"/>
            <a:ext cx="77724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nalytický výpočet chemického potenciálu</a:t>
            </a:r>
            <a:br>
              <a:rPr sz="2800"/>
            </a:b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(pro vícemžížkový model)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807732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7724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Gibbsovo fázové pravidlo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5267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04920" y="6400800"/>
            <a:ext cx="8534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66"/>
                </a:solidFill>
                <a:latin typeface="Times New Roman"/>
              </a:rPr>
              <a:t>http://www.chem.arizona.edu/~salzmanr/480a/480ants/gibbspr/gibbspr.html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4" name="Image333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771800" cy="3576600"/>
          </a:xfrm>
          <a:prstGeom prst="rect">
            <a:avLst/>
          </a:prstGeom>
          <a:ln w="0">
            <a:noFill/>
          </a:ln>
        </p:spPr>
      </p:pic>
      <p:pic>
        <p:nvPicPr>
          <p:cNvPr id="165" name="Image512" descr=""/>
          <p:cNvPicPr/>
          <p:nvPr/>
        </p:nvPicPr>
        <p:blipFill>
          <a:blip r:embed="rId2"/>
          <a:stretch/>
        </p:blipFill>
        <p:spPr>
          <a:xfrm>
            <a:off x="3733920" y="2590920"/>
            <a:ext cx="510516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Příklad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927000"/>
            <a:ext cx="838188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1T12:49:09Z</dcterms:modified>
  <cp:revision>112</cp:revision>
  <dc:subject/>
  <dc:title>C6730 Fázové rovnováhy</dc:title>
</cp:coreProperties>
</file>