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26.png" ContentType="image/png"/>
  <Override PartName="/ppt/media/image13.wmf" ContentType="image/x-wmf"/>
  <Override PartName="/ppt/media/image2.gif" ContentType="image/gif"/>
  <Override PartName="/ppt/media/image9.png" ContentType="image/png"/>
  <Override PartName="/ppt/media/image17.wmf" ContentType="image/x-wmf"/>
  <Override PartName="/ppt/media/image12.wmf" ContentType="image/x-wmf"/>
  <Override PartName="/ppt/media/image27.png" ContentType="image/png"/>
  <Override PartName="/ppt/media/image8.png" ContentType="image/png"/>
  <Override PartName="/ppt/media/image16.wmf" ContentType="image/x-wmf"/>
  <Override PartName="/ppt/media/image7.wmf" ContentType="image/x-wmf"/>
  <Override PartName="/ppt/media/image20.jpeg" ContentType="image/jpeg"/>
  <Override PartName="/ppt/media/image4.wmf" ContentType="image/x-wmf"/>
  <Override PartName="/ppt/media/image10.wmf" ContentType="image/x-wmf"/>
  <Override PartName="/ppt/media/image24.wmf" ContentType="image/x-wmf"/>
  <Override PartName="/ppt/media/image14.png" ContentType="image/png"/>
  <Override PartName="/ppt/media/image25.wmf" ContentType="image/x-wmf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8.jpeg" ContentType="image/jpeg"/>
  <Override PartName="/ppt/media/image18.png" ContentType="image/png"/>
  <Override PartName="/ppt/media/image15.wmf" ContentType="image/x-wmf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4FF89-69B8-4A87-9B73-EE6408FB517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DC78-6B4A-4BA3-ABE6-CA6D52025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FABE-E9D9-4539-AC8D-3FC5C73E3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D753-9EED-45ED-81DF-5E852ED9B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3EB6-6994-4D20-BEA1-EE8BD8DD9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75EAA-D495-405F-B32B-780F15621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69813-06E2-4B7F-9FFD-8F5CE1EAD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5F9F9-6D95-493C-A017-F6957EB05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92326-C43D-49A3-A6DC-AF58C6C77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DC046-A652-4658-BBFC-85737D2CC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3EC28-7656-4951-B109-E02BE69CF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C31F0-06F7-4000-BAB2-032DA7B6B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C306-01E0-4506-B5CF-8951F7B59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2E29A-52A7-4753-937C-1B1E2AE09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4E9E1-A5D9-40F1-91E0-6ED6E346E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23611-913C-4BF1-8576-7C5557ACB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ACFD3-5FD2-43B5-AC55-BE0B8B0DA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9A428-24F2-42CF-8223-061098B50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2968-F812-4CA0-BD56-D4071C4D0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B46F-5F51-496B-822B-8189D6F34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B405-3CC9-4103-83D9-0EF40E6E0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FA39-E9F2-4E27-840A-A72EC6369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C334-32B0-48AF-8B69-06B9703E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D077-73A4-4C3A-9E23-589B5E64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4EEA-D424-408E-BF7B-9C8D432F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8B01D-8EA3-4765-A464-C2018777F569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72EF9-1FC1-4AE9-93D5-DE6A786666DF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D:\Vyuka\C6730 Term_FR\p&#345;edn&#225;&#353;ka_CZ\07t&#253;den\02a_NiCrMo.pdf" TargetMode="External"/><Relationship Id="rId3" Type="http://schemas.openxmlformats.org/officeDocument/2006/relationships/hyperlink" Target="D:\Vyuka\C6730 Term_FR\p&#345;edn&#225;&#353;ka_CZ\07t&#253;den\03_FD_tern&#225;rn&#237;_p&#345;&#237;klady.pdf" TargetMode="External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07 Vícefázové rovnováh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303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Třífázová rovnováha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28600" y="2362320"/>
            <a:ext cx="4648320" cy="42685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5334120" y="2133720"/>
            <a:ext cx="33526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4564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Tie-lin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7086600" cy="4383000"/>
          </a:xfrm>
          <a:prstGeom prst="rect">
            <a:avLst/>
          </a:prstGeom>
          <a:ln w="0">
            <a:noFill/>
          </a:ln>
        </p:spPr>
      </p:pic>
      <p:pic>
        <p:nvPicPr>
          <p:cNvPr id="173" name="ternread-d" descr=""/>
          <p:cNvPicPr/>
          <p:nvPr/>
        </p:nvPicPr>
        <p:blipFill>
          <a:blip r:embed="rId2"/>
          <a:stretch/>
        </p:blipFill>
        <p:spPr>
          <a:xfrm>
            <a:off x="5105520" y="76320"/>
            <a:ext cx="327636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-1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Tie-triangl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295280" y="1001880"/>
            <a:ext cx="6629400" cy="58561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6934320" y="5334120"/>
            <a:ext cx="558720" cy="1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5120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3D projekce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04920" y="631800"/>
            <a:ext cx="6324480" cy="6226200"/>
          </a:xfrm>
          <a:prstGeom prst="rect">
            <a:avLst/>
          </a:prstGeom>
          <a:ln w="0">
            <a:noFill/>
          </a:ln>
        </p:spPr>
      </p:pic>
      <p:pic>
        <p:nvPicPr>
          <p:cNvPr id="179" name="ternfig1" descr=""/>
          <p:cNvPicPr/>
          <p:nvPr/>
        </p:nvPicPr>
        <p:blipFill>
          <a:blip r:embed="rId2"/>
          <a:stretch/>
        </p:blipFill>
        <p:spPr>
          <a:xfrm>
            <a:off x="6477120" y="609480"/>
            <a:ext cx="2400120" cy="22100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60280" y="1746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60280" y="174636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47760" y="290664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520" y="226800"/>
            <a:ext cx="7772400" cy="11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Isokoncentrační řez FD</a:t>
            </a: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 </a:t>
            </a:r>
            <a:br>
              <a:rPr sz="4400"/>
            </a:b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Plocha liquidu a solidu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28600" y="2781360"/>
            <a:ext cx="6477120" cy="40766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5334120" y="4495680"/>
            <a:ext cx="319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Další příklad ternárních diagramů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>
            <a:hlinkClick r:id="rId2"/>
          </p:cNvPr>
          <p:cNvSpPr/>
          <p:nvPr/>
        </p:nvSpPr>
        <p:spPr>
          <a:xfrm>
            <a:off x="8153280" y="37339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15" h="21600">
                <a:moveTo>
                  <a:pt x="5280" y="3985"/>
                </a:moveTo>
                <a:lnTo>
                  <a:pt x="12278" y="3985"/>
                </a:lnTo>
                <a:lnTo>
                  <a:pt x="16334" y="7484"/>
                </a:lnTo>
                <a:lnTo>
                  <a:pt x="16334" y="17615"/>
                </a:lnTo>
                <a:lnTo>
                  <a:pt x="5280" y="17615"/>
                </a:lnTo>
                <a:close/>
              </a:path>
              <a:path fill="darken" w="21615" h="21600">
                <a:moveTo>
                  <a:pt x="12278" y="3985"/>
                </a:moveTo>
                <a:lnTo>
                  <a:pt x="16334" y="7484"/>
                </a:lnTo>
                <a:lnTo>
                  <a:pt x="12278" y="748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>
            <a:hlinkClick r:id="rId3"/>
          </p:cNvPr>
          <p:cNvSpPr/>
          <p:nvPr/>
        </p:nvSpPr>
        <p:spPr>
          <a:xfrm>
            <a:off x="8305920" y="4648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  <a:path fill="darkenLess" w="21600" h="30228">
                <a:moveTo>
                  <a:pt x="5273" y="8299"/>
                </a:moveTo>
                <a:lnTo>
                  <a:pt x="12271" y="8299"/>
                </a:lnTo>
                <a:lnTo>
                  <a:pt x="16327" y="11798"/>
                </a:lnTo>
                <a:lnTo>
                  <a:pt x="16327" y="21929"/>
                </a:lnTo>
                <a:lnTo>
                  <a:pt x="5273" y="21929"/>
                </a:lnTo>
                <a:close/>
              </a:path>
              <a:path fill="darken" w="21600" h="30228">
                <a:moveTo>
                  <a:pt x="12271" y="8299"/>
                </a:moveTo>
                <a:lnTo>
                  <a:pt x="16327" y="11798"/>
                </a:lnTo>
                <a:lnTo>
                  <a:pt x="12271" y="11798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8" name="fo-an-sio2_ternary_54-36-10" descr=""/>
          <p:cNvPicPr/>
          <p:nvPr/>
        </p:nvPicPr>
        <p:blipFill>
          <a:blip r:embed="rId4"/>
          <a:stretch/>
        </p:blipFill>
        <p:spPr>
          <a:xfrm>
            <a:off x="4572000" y="147600"/>
            <a:ext cx="42670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3608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Metalurgie</a:t>
            </a:r>
            <a:br>
              <a:rPr sz="2800"/>
            </a:b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(tepelné zpracování)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0" name="AEB-L%20Phase%20Diagram%20in%20Celsius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418520" cy="53607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981080" y="662940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66"/>
                </a:solidFill>
                <a:latin typeface="Times New Roman"/>
              </a:rPr>
              <a:t>http://www.calphad.com/phase_diagrams.html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Fe-Cr-C Liquid projection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Nerezová ocel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4" name="tern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4389480" cy="4022640"/>
          </a:xfrm>
          <a:prstGeom prst="rect">
            <a:avLst/>
          </a:prstGeom>
          <a:ln w="0">
            <a:noFill/>
          </a:ln>
        </p:spPr>
      </p:pic>
      <p:pic>
        <p:nvPicPr>
          <p:cNvPr id="195" name="o1" descr=""/>
          <p:cNvPicPr/>
          <p:nvPr/>
        </p:nvPicPr>
        <p:blipFill>
          <a:blip r:embed="rId2"/>
          <a:stretch/>
        </p:blipFill>
        <p:spPr>
          <a:xfrm>
            <a:off x="5562720" y="2286000"/>
            <a:ext cx="2857320" cy="21826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5638680" y="464832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Fe-18Ni-8C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23880" y="6248520"/>
            <a:ext cx="243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900stC, 1Atm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9180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Aplikace ternárních diagramů</a:t>
            </a:r>
            <a:br>
              <a:rPr sz="2800"/>
            </a:b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Extrak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915400" cy="50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303840"/>
            <a:ext cx="77724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 Black"/>
              </a:rPr>
              <a:t>Extrakce</a:t>
            </a:r>
            <a:endParaRPr b="0" lang="en-US" sz="20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83908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Numerický výpočet chemického potenciálu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Gibbsovo pravidlo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Třífázová rovnováha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Aplikace ternárních diagramů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380880" y="2362320"/>
            <a:ext cx="8458200" cy="31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alší aplikac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5" name="phasediag" descr=""/>
          <p:cNvPicPr/>
          <p:nvPr/>
        </p:nvPicPr>
        <p:blipFill>
          <a:blip r:embed="rId1"/>
          <a:stretch/>
        </p:blipFill>
        <p:spPr>
          <a:xfrm>
            <a:off x="4114800" y="2133720"/>
            <a:ext cx="3429000" cy="28461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parace solí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PAL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8" name="sf_formclus1" descr="Approaching microemulsions at room temperature"/>
          <p:cNvPicPr/>
          <p:nvPr/>
        </p:nvPicPr>
        <p:blipFill>
          <a:blip r:embed="rId1"/>
          <a:stretch/>
        </p:blipFill>
        <p:spPr>
          <a:xfrm>
            <a:off x="4384800" y="762120"/>
            <a:ext cx="4098960" cy="56912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457200" y="2514600"/>
            <a:ext cx="358128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Fig. 1: Approaching microemulsions at room temperature ( T = 25°C) Top: test tubes of, left: equal volumes of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water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and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il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; centre-left: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water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–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il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- hydrophilic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surfactant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provides an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il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-in-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water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(o/w) microemulsion in coexistence with an excess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il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phase (Winsor I, 2); right: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water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–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il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- hydrophobic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surfactant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provides a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water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-in-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il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(w/o) microemulsion in coexistence with an excess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water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phase (Winsor II, 2 ); centre-right: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water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–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il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- balanced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surfactant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, bicontinuous microemulsion in coexistence with both excess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water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and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il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Winsor III (3). Bottom: Isothermal Gibbs triangles of the three systems at T = 25°C.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11" name=""/>
          <p:cNvSpPr/>
          <p:nvPr/>
        </p:nvSpPr>
        <p:spPr>
          <a:xfrm>
            <a:off x="838080" y="1828800"/>
            <a:ext cx="7467840" cy="31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rogramy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hermoCalc (Švédsko):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thermocalc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com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TData (Velká Británie):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npl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co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uk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advanced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-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materials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measurement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-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techniques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modelling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mtdata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neak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FactSage (Canada+SRN)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: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factsage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com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(i příklady diagramů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ownloady: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crct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polymtl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ca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fact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download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php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#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andat (USA, Japan, Corea):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computherm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com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ome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ml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HERMODATA (Francie)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: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tp:/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thermodata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online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fr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VLXE (polymery) free: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vlxe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com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457200" y="1523880"/>
            <a:ext cx="8229600" cy="40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iagramy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SM :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http://www.asminternational.org/portal/site/www/info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SI (koupit si diagram)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atabaze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TGE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: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crct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polymtl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ca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sgte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index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php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ssessma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Kniha: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springerlink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com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content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100270622k03v066/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Výpočet chemického potenciálu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8305560" cy="43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Numerický výpočet chemického potenciálu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33520" y="2362320"/>
            <a:ext cx="754380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493200"/>
            <a:ext cx="777240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Analytický výpočet chemického potenciálu</a:t>
            </a:r>
            <a:br>
              <a:rPr sz="2800"/>
            </a:b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(pro vícemžížkový model)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57200" y="2438280"/>
            <a:ext cx="8077320" cy="37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777240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Gibbsovo fázové pravidlo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8382240" cy="52675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304920" y="6400800"/>
            <a:ext cx="8534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000066"/>
                </a:solidFill>
                <a:latin typeface="Times New Roman"/>
              </a:rPr>
              <a:t>http://www.chem.arizona.edu/~salzmanr/480a/480ants/gibbspr/gibbspr.html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4" name="Image333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771800" cy="3576600"/>
          </a:xfrm>
          <a:prstGeom prst="rect">
            <a:avLst/>
          </a:prstGeom>
          <a:ln w="0">
            <a:noFill/>
          </a:ln>
        </p:spPr>
      </p:pic>
      <p:pic>
        <p:nvPicPr>
          <p:cNvPr id="165" name="Image512" descr=""/>
          <p:cNvPicPr/>
          <p:nvPr/>
        </p:nvPicPr>
        <p:blipFill>
          <a:blip r:embed="rId2"/>
          <a:stretch/>
        </p:blipFill>
        <p:spPr>
          <a:xfrm>
            <a:off x="3733920" y="2590920"/>
            <a:ext cx="510516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2278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Příklady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57200" y="927000"/>
            <a:ext cx="8381880" cy="59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1-21T12:49:09Z</dcterms:modified>
  <cp:revision>112</cp:revision>
  <dc:subject/>
  <dc:title>C6730 Fázové rovnováhy</dc:title>
</cp:coreProperties>
</file>