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.gif" ContentType="image/gif"/>
  <Override PartName="/ppt/media/image9.png" ContentType="image/png"/>
  <Override PartName="/ppt/media/image13.png" ContentType="image/png"/>
  <Override PartName="/ppt/media/image18.jpeg" ContentType="image/jpeg"/>
  <Override PartName="/ppt/media/image7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6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6B8E-40F3-49BE-B1E1-E84F8F063D1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871D-C5E7-4CE4-B4CB-F98C77F15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D0F1-64D9-42CF-9BD3-877849B3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6204-1C73-41A4-8AB1-0A405BDE3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7663-76AA-4EF6-8B74-31CBFE336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3B51-403E-4590-814F-4E99B3A95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E388-8E60-4B41-8B42-74B7F6AA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7477-886C-4F70-9566-D2A6B10C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149E-95D6-4D2F-95CC-2FF3E35E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8F01-01B1-471F-9F07-55187DB4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E76C-F841-4844-A552-8C1AD033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2F04-ABBC-4049-8BF1-03CC1A4D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FDAA-2210-4473-9D1F-768C3F92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359C-44D4-4448-A005-0303B353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D4F4-8439-482B-8646-67AFE9FC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5ECD-C944-47D5-8966-C366DA9D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22EF-167F-4B92-A2AF-6E887D03B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77F9-494E-417B-BD01-3167E83F9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AA56-A2CF-4FE1-A1F5-730AACB1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792D-9647-44DC-95CD-4FDD86C0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01C6-9AD1-484C-9F27-B9FF8D51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EB41-C584-4818-B2F7-2CE7D314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C756-6E4F-4A00-B13C-FCE42930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C5C4-BE95-4EE8-B74E-3DCE65F1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640A-DD65-4D26-B919-1E7CB6D3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6E37-3818-4C3A-ACF8-67503CF6DB74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E335-B247-4CA3-AEC6-0CD64B006CC7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08a Quatermární soustav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Žáropevné oceli P91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3" name="Fig_FD_P91_oK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5867640" cy="5311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400800" y="1066680"/>
            <a:ext cx="2514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P=1Atm,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Fe-9wt%Cr-1%Mo-0,2%V-0,01%N-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05120" y="24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05120" y="2484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92600" y="36450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8" name="reasonable_price_of_P91_steel_alloy_pipe" descr=""/>
          <p:cNvPicPr/>
          <p:nvPr/>
        </p:nvPicPr>
        <p:blipFill>
          <a:blip r:embed="rId2"/>
          <a:stretch/>
        </p:blipFill>
        <p:spPr>
          <a:xfrm>
            <a:off x="6248520" y="2362320"/>
            <a:ext cx="2609640" cy="1931760"/>
          </a:xfrm>
          <a:prstGeom prst="rect">
            <a:avLst/>
          </a:prstGeom>
          <a:ln w="0">
            <a:noFill/>
          </a:ln>
        </p:spPr>
      </p:pic>
      <p:pic>
        <p:nvPicPr>
          <p:cNvPr id="189" name="T91p91_1" descr=""/>
          <p:cNvPicPr/>
          <p:nvPr/>
        </p:nvPicPr>
        <p:blipFill>
          <a:blip r:embed="rId3"/>
          <a:stretch/>
        </p:blipFill>
        <p:spPr>
          <a:xfrm>
            <a:off x="6324480" y="4290840"/>
            <a:ext cx="2362320" cy="21225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400800" y="64771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Pevnost při creep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a_01_ph2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350120" cy="54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385920"/>
            <a:ext cx="82296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85920"/>
            <a:ext cx="9144000" cy="36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5" name="a_03_ph2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5832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redikce FD 4 – složkové soustav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Quaternární soustav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65320"/>
            <a:ext cx="4495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Projekce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447920"/>
            <a:ext cx="77724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763120" cy="5311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965160" y="24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5160" y="2484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695920" y="3859200"/>
            <a:ext cx="248292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52640" y="36450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62120" y="3429000"/>
            <a:ext cx="274608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22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Směsné sulfid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1" name="CAgSbZ3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4114800" cy="3911760"/>
          </a:xfrm>
          <a:prstGeom prst="rect">
            <a:avLst/>
          </a:prstGeom>
          <a:ln w="0">
            <a:noFill/>
          </a:ln>
        </p:spPr>
      </p:pic>
      <p:pic>
        <p:nvPicPr>
          <p:cNvPr id="162" name="CAgSbZ6" descr="Three assemblages"/>
          <p:cNvPicPr/>
          <p:nvPr/>
        </p:nvPicPr>
        <p:blipFill>
          <a:blip r:embed="rId2"/>
          <a:stretch/>
        </p:blipFill>
        <p:spPr>
          <a:xfrm>
            <a:off x="4648320" y="1143000"/>
            <a:ext cx="4149720" cy="3944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28600" y="5334120"/>
            <a:ext cx="861048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'sphalerite' ….ZnS,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ArgCal … argentite-chalcocite solid solution (Ag,Cu)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,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Miargyrite….AgSbS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. Pyrargyrite…Ag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bS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Fahlore…Cu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b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4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13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86600" y="533412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http://research.amnh.org/~debel/sulfide/fahlore/CASZsys1.htm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30420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Cryovolcanism on icy satellites: Application to Titan.</a:t>
            </a:r>
            <a:endParaRPr b="0" lang="en-US" sz="1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2930400" y="24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30400" y="2484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17880" y="36450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phase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5154480" cy="48574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019920" y="1143000"/>
            <a:ext cx="259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http://www.es.ucl.ac.uk/research/planetary/undergraduate/dom/weathering_titan/chap7.ht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1" name="clastic" descr=""/>
          <p:cNvPicPr/>
          <p:nvPr/>
        </p:nvPicPr>
        <p:blipFill>
          <a:blip r:embed="rId2"/>
          <a:stretch/>
        </p:blipFill>
        <p:spPr>
          <a:xfrm>
            <a:off x="5867280" y="2590920"/>
            <a:ext cx="29354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Oceli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Fe-4Mo-Cr-C%20at%201000%20degree%20C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789444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449568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Nerez ocel Fe-18Cr-8Ni-0,2%C-N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5" name="83265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4000680" cy="3782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572000" y="3048120"/>
            <a:ext cx="3581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666666"/>
                </a:solidFill>
                <a:latin typeface="Verdana"/>
              </a:rPr>
              <a:t>Fig 1 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Phase diagram</a:t>
            </a:r>
            <a:r>
              <a:rPr b="1" lang="cs-CZ" sz="1600" spc="-1" strike="noStrike">
                <a:solidFill>
                  <a:srgbClr val="666666"/>
                </a:solidFill>
                <a:latin typeface="Verdana"/>
              </a:rPr>
              <a:t> of stainless 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steel</a:t>
            </a:r>
            <a:r>
              <a:rPr b="1" lang="cs-CZ" sz="1600" spc="-1" strike="noStrike">
                <a:solidFill>
                  <a:srgbClr val="666666"/>
                </a:solidFill>
                <a:latin typeface="Verdana"/>
              </a:rPr>
              <a:t> AISI 420 (X20Cr13) calculated by Thermocalc including isobars of equilibrium N2 pressure. At a temperature of 1100¿C and P(n2) just below 1 bar, for example, a nitrogen content of 0.35% is expected in the 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steel</a:t>
            </a:r>
            <a:r>
              <a:rPr b="1" lang="cs-CZ" sz="1600" spc="-1" strike="noStrike">
                <a:solidFill>
                  <a:srgbClr val="666666"/>
                </a:solidFill>
                <a:latin typeface="Verdana"/>
              </a:rPr>
              <a:t> surface which, together with 0.2% C in the bulk material, is sufficient to produce a surface hardness of about 59 HRC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7" name="83266" descr=""/>
          <p:cNvPicPr/>
          <p:nvPr/>
        </p:nvPicPr>
        <p:blipFill>
          <a:blip r:embed="rId2"/>
          <a:stretch/>
        </p:blipFill>
        <p:spPr>
          <a:xfrm>
            <a:off x="6781680" y="304920"/>
            <a:ext cx="1871640" cy="27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097000" y="304920"/>
            <a:ext cx="62755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99840" y="227160"/>
            <a:ext cx="6705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Nb-oceli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1" name="1-66591" descr=""/>
          <p:cNvPicPr/>
          <p:nvPr/>
        </p:nvPicPr>
        <p:blipFill>
          <a:blip r:embed="rId1"/>
          <a:stretch/>
        </p:blipFill>
        <p:spPr>
          <a:xfrm>
            <a:off x="533520" y="895320"/>
            <a:ext cx="655308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1T15:29:23Z</dcterms:modified>
  <cp:revision>117</cp:revision>
  <dc:subject/>
  <dc:title>C6730 Fázové rovnováhy</dc:title>
</cp:coreProperties>
</file>