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3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6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1E13-4F5A-4142-AC65-B9B62CDA9FF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5A8-845C-4CC2-97F9-633A15B4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7CB-1B7D-4992-B550-2695BB14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D69-C6C5-45C2-B4E3-B6EC83FD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B3C-2C2A-48A7-A5F0-CE63FC5C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6F8E-BA7C-4B8A-AC5A-0E580624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0A28-4EC8-4493-BA06-45E040C8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709E-B4B7-4F32-9943-8D8AAE36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24A4-04EC-48DA-B906-34854A45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398D-E137-4E62-B5BC-0E846384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45F0-4712-4FD3-9D50-42AB056A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A0B4-2521-4895-A84A-EFE572BA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E2A-0C92-4920-B893-140DA77D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90F5-3941-4210-86FA-7F66E2AE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B6F1-07B2-4AA7-848A-1C1BA97C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DF0D-2C32-42D0-843B-808D911C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2B04-DE97-478C-B4E7-06A4A168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FC5D-AC8F-42D5-A537-6239CF17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EB1-298E-4E1D-8A1C-B45B2712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017-BA94-4F8A-83FD-7063F4F2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862-ED63-4BA3-93AB-2DA77F27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484-1408-4C99-976F-F83FBBB7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10B-8F8B-44EE-BC60-B875BAE5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5AD-C4DE-44E9-B889-F35E0CFF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F33-6A68-4383-9964-938043A7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8C6D-85B6-4F48-929F-2FE868CEF6F2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FAF1-60FF-43D1-9734-9F2FCC17E1F2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8a Quatermární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Žáropevné oceli P91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Fig_FD_P91_oK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867640" cy="5311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400800" y="1066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=1Atm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e-9wt%Cr-1%Mo-0,2%V-0,01%N-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51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051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26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reasonable_price_of_P91_steel_alloy_pip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609640" cy="1931760"/>
          </a:xfrm>
          <a:prstGeom prst="rect">
            <a:avLst/>
          </a:prstGeom>
          <a:ln w="0">
            <a:noFill/>
          </a:ln>
        </p:spPr>
      </p:pic>
      <p:pic>
        <p:nvPicPr>
          <p:cNvPr id="189" name="T91p91_1" descr=""/>
          <p:cNvPicPr/>
          <p:nvPr/>
        </p:nvPicPr>
        <p:blipFill>
          <a:blip r:embed="rId3"/>
          <a:stretch/>
        </p:blipFill>
        <p:spPr>
          <a:xfrm>
            <a:off x="6324480" y="4290840"/>
            <a:ext cx="2362320" cy="2122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00800" y="6477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evnost při cree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a_01_ph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5012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85920"/>
            <a:ext cx="8229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85920"/>
            <a:ext cx="9144000" cy="36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a_03_ph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83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edikce FD 4 – složkové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Quaternární soustav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5320"/>
            <a:ext cx="4495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rojekce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311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6516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516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95920" y="3859200"/>
            <a:ext cx="2482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5264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2746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měsné sulfid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CAgSbZ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114800" cy="3911760"/>
          </a:xfrm>
          <a:prstGeom prst="rect">
            <a:avLst/>
          </a:prstGeom>
          <a:ln w="0">
            <a:noFill/>
          </a:ln>
        </p:spPr>
      </p:pic>
      <p:pic>
        <p:nvPicPr>
          <p:cNvPr id="162" name="CAgSbZ6" descr="Three assemblages"/>
          <p:cNvPicPr/>
          <p:nvPr/>
        </p:nvPicPr>
        <p:blipFill>
          <a:blip r:embed="rId2"/>
          <a:stretch/>
        </p:blipFill>
        <p:spPr>
          <a:xfrm>
            <a:off x="4648320" y="1143000"/>
            <a:ext cx="4149720" cy="3944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5334120"/>
            <a:ext cx="86104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'sphalerite' ….ZnS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rgCal … argentite-chalcocite solid solution (Ag,Cu)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,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Miargyrite….Ag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Pyrargyrite…Ag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ahlore…Cu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5334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research.amnh.org/~debel/sulfide/fahlore/CASZsys1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20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ryovolcanism on icy satellites: Application to Titan.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93040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3040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788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hase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154480" cy="4857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9920" y="11430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www.es.ucl.ac.uk/research/planetary/undergraduate/dom/weathering_titan/chap7.ht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clastic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935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Fe-4Mo-Cr-C%20at%201000%20degree%20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894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44956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Nerez ocel Fe-18Cr-8Ni-0,2%C-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8326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00680" cy="378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0" y="3048120"/>
            <a:ext cx="358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Fig 1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hase diagram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of stainless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AISI 420 (X20Cr13) calculated by Thermocalc including isobars of equilibrium N2 pressure. At a temperature of 1100¿C and P(n2) just below 1 bar, for example, a nitrogen content of 0.35% is expected in the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surface which, together with 0.2% C in the bulk material, is sufficient to produce a surface hardness of about 59 HRC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83266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18716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97000" y="304920"/>
            <a:ext cx="627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22716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b-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1-66591" descr=""/>
          <p:cNvPicPr/>
          <p:nvPr/>
        </p:nvPicPr>
        <p:blipFill>
          <a:blip r:embed="rId1"/>
          <a:stretch/>
        </p:blipFill>
        <p:spPr>
          <a:xfrm>
            <a:off x="533520" y="895320"/>
            <a:ext cx="65530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5:29:23Z</dcterms:modified>
  <cp:revision>117</cp:revision>
  <dc:subject/>
  <dc:title>C6730 Fázové rovnováhy</dc:title>
</cp:coreProperties>
</file>