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16.wmf" ContentType="image/x-wmf"/>
  <Override PartName="/ppt/media/image14.jpeg" ContentType="image/jpeg"/>
  <Override PartName="/ppt/media/image1.png" ContentType="image/png"/>
  <Override PartName="/ppt/media/image5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A7E3-1520-43A1-9C13-EEB1AB3C0D5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1B3D-7146-4AE9-921B-AEE7E130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5BA-B360-4891-A339-41601F6A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B2A-6072-4D1F-B3E2-268BAF31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758-06FE-46E7-AD9A-EF14FE09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BF8D-3066-460F-BED5-D9348E9F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84BF-DB80-4695-BC03-38489CC9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FEE4-1F3D-43CF-8951-0F0157D4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F9A2-8006-44FB-9D65-FCFCF013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348B-C158-4FFF-A3D6-A69995A0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93FA-E3D6-482B-9C04-86F108A0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36D6-37AA-45BE-845E-F4CD92F7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5F5-BD39-40D7-BB01-65D08C76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977D-BBB0-488C-B83B-13F12BE6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D3CF-6BEA-43A3-B8E6-941C2302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FE55-90CB-4FC7-860C-CC272E86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6C6C-E7E8-47CA-91B6-9505626E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02D1-3E6F-4DA4-99F8-3C7FD009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8E0-344F-48E3-A1AC-D2F1C677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8F2-985A-40A6-9FC9-C6F20D60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7B25-06D9-421B-ABC5-02F52B14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3AB-594B-42F6-9948-7CAEA5E7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5E5A-9818-410A-91A8-5C176FB6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4767-F8BB-4C32-90B9-0226106A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4DF-9942-4CBC-98C2-8317AE41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9360-7721-42CF-8DA3-F70291DAF093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1016-8DC2-46DE-A915-4C77A2D6B9B2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rct.polymtl.ca/thermo_databases.html" TargetMode="External"/><Relationship Id="rId3" Type="http://schemas.openxmlformats.org/officeDocument/2006/relationships/hyperlink" Target="http://www.crct.polymtl.ca/thermo_databases.html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vlxe.com/" TargetMode="External"/><Relationship Id="rId6" Type="http://schemas.openxmlformats.org/officeDocument/2006/relationships/hyperlink" Target="http://www.vlxe.com/" TargetMode="External"/><Relationship Id="rId7" Type="http://schemas.openxmlformats.org/officeDocument/2006/relationships/hyperlink" Target="http://www.vlxe.com/" TargetMode="External"/><Relationship Id="rId8" Type="http://schemas.openxmlformats.org/officeDocument/2006/relationships/hyperlink" Target="http://www.vlxe.com/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asminternational.org/asmenterprise/apd/default.aspx" TargetMode="External"/><Relationship Id="rId11" Type="http://schemas.openxmlformats.org/officeDocument/2006/relationships/hyperlink" Target="http://www.asminternational.org/asmenterprise/apd/default.aspx" TargetMode="External"/><Relationship Id="rId12" Type="http://schemas.openxmlformats.org/officeDocument/2006/relationships/hyperlink" Target="http://www.asminternational.org/asmenterprise/apd/default.aspx" TargetMode="External"/><Relationship Id="rId13" Type="http://schemas.openxmlformats.org/officeDocument/2006/relationships/hyperlink" Target="http://www.asminternational.org/asmenterprise/apd/default.aspx" TargetMode="External"/><Relationship Id="rId14" Type="http://schemas.openxmlformats.org/officeDocument/2006/relationships/hyperlink" Target="http://www.asminternational.org/asmenterprise/apd/default.aspx" TargetMode="External"/><Relationship Id="rId15" Type="http://schemas.openxmlformats.org/officeDocument/2006/relationships/hyperlink" Target="http://www.asminternational.org/asmenterprise/apd/default.aspx" TargetMode="External"/><Relationship Id="rId16" Type="http://schemas.openxmlformats.org/officeDocument/2006/relationships/hyperlink" Target="http://www.asminternational.org/asmenterprise/apd/default.aspx" TargetMode="External"/><Relationship Id="rId17" Type="http://schemas.openxmlformats.org/officeDocument/2006/relationships/hyperlink" Target="http://www.asminternational.org/asmenterprise/apd/default.aspx" TargetMode="External"/><Relationship Id="rId18" Type="http://schemas.openxmlformats.org/officeDocument/2006/relationships/hyperlink" Target="http://www.asminternational.org/asmenterprise/apd/default.aspx" TargetMode="External"/><Relationship Id="rId19" Type="http://schemas.openxmlformats.org/officeDocument/2006/relationships/hyperlink" Target="http://www.asminternational.org/asmenterprise/apd/default.aspx" TargetMode="External"/><Relationship Id="rId20" Type="http://schemas.openxmlformats.org/officeDocument/2006/relationships/hyperlink" Target="http://www.asminternational.org/asmenterprise/apd/default.aspx" TargetMode="External"/><Relationship Id="rId21" Type="http://schemas.openxmlformats.org/officeDocument/2006/relationships/image" Target="../media/image1.png"/><Relationship Id="rId22" Type="http://schemas.openxmlformats.org/officeDocument/2006/relationships/hyperlink" Target="http://www1.asminternational.org/AsmEnterprise/APD/" TargetMode="External"/><Relationship Id="rId23" Type="http://schemas.openxmlformats.org/officeDocument/2006/relationships/image" Target="../media/image1.png"/><Relationship Id="rId24" Type="http://schemas.openxmlformats.org/officeDocument/2006/relationships/hyperlink" Target="http://www.crct.polymtl.ca/sgte/index.php" TargetMode="External"/><Relationship Id="rId25" Type="http://schemas.openxmlformats.org/officeDocument/2006/relationships/hyperlink" Target="http://www.crct.polymtl.ca/sgte/index.php" TargetMode="External"/><Relationship Id="rId26" Type="http://schemas.openxmlformats.org/officeDocument/2006/relationships/hyperlink" Target="http://www.crct.polymtl.ca/sgte/index.php" TargetMode="External"/><Relationship Id="rId27" Type="http://schemas.openxmlformats.org/officeDocument/2006/relationships/hyperlink" Target="http://www.crct.polymtl.ca/sgte/index.php" TargetMode="External"/><Relationship Id="rId28" Type="http://schemas.openxmlformats.org/officeDocument/2006/relationships/hyperlink" Target="http://www.crct.polymtl.ca/sgte/index.php" TargetMode="External"/><Relationship Id="rId29" Type="http://schemas.openxmlformats.org/officeDocument/2006/relationships/hyperlink" Target="http://www.crct.polymtl.ca/sgte/index.php" TargetMode="External"/><Relationship Id="rId30" Type="http://schemas.openxmlformats.org/officeDocument/2006/relationships/hyperlink" Target="http://www.crct.polymtl.ca/sgte/index.php" TargetMode="External"/><Relationship Id="rId31" Type="http://schemas.openxmlformats.org/officeDocument/2006/relationships/hyperlink" Target="http://www.crct.polymtl.ca/sgte/index.php" TargetMode="External"/><Relationship Id="rId32" Type="http://schemas.openxmlformats.org/officeDocument/2006/relationships/image" Target="../media/image12.png"/><Relationship Id="rId33" Type="http://schemas.openxmlformats.org/officeDocument/2006/relationships/hyperlink" Target="http://www.nims.go.jp/cmsc/pst/database/periodic.htm" TargetMode="External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3.jpeg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rmocalc.com/" TargetMode="External"/><Relationship Id="rId2" Type="http://schemas.openxmlformats.org/officeDocument/2006/relationships/hyperlink" Target="http://www.thermocalc.com/" TargetMode="External"/><Relationship Id="rId3" Type="http://schemas.openxmlformats.org/officeDocument/2006/relationships/hyperlink" Target="http://www.thermocalc.com/" TargetMode="External"/><Relationship Id="rId4" Type="http://schemas.openxmlformats.org/officeDocument/2006/relationships/hyperlink" Target="http://www.computherm.com/home.html" TargetMode="External"/><Relationship Id="rId5" Type="http://schemas.openxmlformats.org/officeDocument/2006/relationships/hyperlink" Target="http://www.factsage.com/" TargetMode="External"/><Relationship Id="rId6" Type="http://schemas.openxmlformats.org/officeDocument/2006/relationships/hyperlink" Target="http://www.crct.polymtl.ca/thermo_databases.html" TargetMode="External"/><Relationship Id="rId7" Type="http://schemas.openxmlformats.org/officeDocument/2006/relationships/hyperlink" Target="http://resource.npl.co.uk/mtdata/mtdatasoftware.htm" TargetMode="External"/><Relationship Id="rId8" Type="http://schemas.openxmlformats.org/officeDocument/2006/relationships/hyperlink" Target="http://www.npl.co.uk/science-technology/advanced-materials/measurement-techniques/mtdata/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hermodata.online.fr/anglais.html" TargetMode="External"/><Relationship Id="rId2" Type="http://schemas.openxmlformats.org/officeDocument/2006/relationships/hyperlink" Target="http://thermodata.online.fr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8 SW a termodynamické databáze pro výpočty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2096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799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zdroje informací o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2"/>
              </a:rPr>
              <a:t>http://www.crct.polymtl.ca/thermo_databases.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3"/>
              </a:rPr>
              <a:t>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vlx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com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ttp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asminternationa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org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asmenterpris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apd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/default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aspx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http://www1.asminternational.org/AsmEnterprise/APD/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crct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6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7"/>
              </a:rPr>
              <a:t>polymt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8"/>
              </a:rPr>
              <a:t>.ca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9"/>
              </a:rPr>
              <a:t>sgt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0"/>
              </a:rPr>
              <a:t>/index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1"/>
              </a:rPr>
              <a:t>php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Diagramy (JP) NIMS: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http://www.nims.go.jp/cmsc/pst/database/periodic.htm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ssess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Kniha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ttp://www.springerlink.com/content/100270622k03v066/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7" name="nims_logo" descr=""/>
          <p:cNvPicPr/>
          <p:nvPr/>
        </p:nvPicPr>
        <p:blipFill>
          <a:blip r:embed="rId37"/>
          <a:stretch/>
        </p:blipFill>
        <p:spPr>
          <a:xfrm>
            <a:off x="6553080" y="4191120"/>
            <a:ext cx="1494000" cy="1093680"/>
          </a:xfrm>
          <a:prstGeom prst="rect">
            <a:avLst/>
          </a:prstGeom>
          <a:ln w="0">
            <a:noFill/>
          </a:ln>
        </p:spPr>
      </p:pic>
      <p:pic>
        <p:nvPicPr>
          <p:cNvPr id="198" name="ASM_Logo" descr=""/>
          <p:cNvPicPr/>
          <p:nvPr/>
        </p:nvPicPr>
        <p:blipFill>
          <a:blip r:embed="rId38"/>
          <a:stretch/>
        </p:blipFill>
        <p:spPr>
          <a:xfrm>
            <a:off x="6705720" y="1600200"/>
            <a:ext cx="19764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Thermodynamic_2" descr=""/>
          <p:cNvPicPr/>
          <p:nvPr/>
        </p:nvPicPr>
        <p:blipFill>
          <a:blip r:embed="rId1"/>
          <a:stretch/>
        </p:blipFill>
        <p:spPr>
          <a:xfrm>
            <a:off x="914400" y="1349280"/>
            <a:ext cx="70642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PH_p91" descr=""/>
          <p:cNvPicPr/>
          <p:nvPr/>
        </p:nvPicPr>
        <p:blipFill>
          <a:blip r:embed="rId1"/>
          <a:stretch/>
        </p:blipFill>
        <p:spPr>
          <a:xfrm>
            <a:off x="0" y="140976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828800" y="2133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114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ahoma"/>
              </a:rPr>
              <a:t>bcc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ahoma"/>
              </a:rPr>
              <a:t>carbid M23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Carbonitrid 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95760" y="2590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5486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3048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 MX+M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114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b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1600200"/>
            <a:ext cx="2682720" cy="30348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Řez FD  žárupevné oceli P91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Fe-9%Cr-0,1%Ni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96%Mo-0,3%V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045%N-0,1%C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n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b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1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bc</a:t>
            </a: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c+MX+M23+M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2 bcc+fc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3 bcc+M23+M7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66"/>
                </a:solidFill>
                <a:latin typeface="Webdings"/>
                <a:ea typeface="Webdings"/>
              </a:rPr>
              <a:t>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lgoritmus výpočtu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ssessmen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W pro metodu CALPHAD a Termodynamické datab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lgoritmus výpočtz FR metodou CALPHAD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1147680"/>
            <a:ext cx="73152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met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792520" y="234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92520" y="234000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9640" y="350028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990720"/>
            <a:ext cx="3809880" cy="533160"/>
          </a:xfrm>
          <a:prstGeom prst="rect">
            <a:avLst/>
          </a:prstGeom>
          <a:solidFill>
            <a:srgbClr val="ffe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Termodynamická datab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9810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5257800"/>
            <a:ext cx="29718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Řešení fázové rovnováhy (složení koexistujících fází,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5486400"/>
            <a:ext cx="228600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Fázový diagram soustav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62840" y="556272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39320" y="35053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91600" y="15238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15280" y="48769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3276720"/>
            <a:ext cx="3429000" cy="167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Celkové složení soustavy, T,p, vazné podmínky (zákon zachování hmoty, stechiometrie, elektroneutrality)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809880"/>
            <a:ext cx="34290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Minimalizace celkové Gibbsovy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soustav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2096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24382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všech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15120" y="388620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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914400"/>
            <a:ext cx="5181480" cy="1066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Termodynamické parametry (experimentálně dosažitelné z termodynamických měření, získatelné z fázových dat,  „ab-initio výpočet“ 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2133720"/>
            <a:ext cx="495288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modynamické modely f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343400"/>
            <a:ext cx="39625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dmíněná minimalizace účelové funkce mnoha proměnnýc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22716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lgoritmus assessmentu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ALPHAD assess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Calphad%20Scheme" descr=""/>
          <p:cNvPicPr/>
          <p:nvPr/>
        </p:nvPicPr>
        <p:blipFill>
          <a:blip r:embed="rId1"/>
          <a:stretch/>
        </p:blipFill>
        <p:spPr>
          <a:xfrm>
            <a:off x="457200" y="1130400"/>
            <a:ext cx="7543800" cy="5056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600200" y="6095880"/>
            <a:ext cx="541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flyhy.eu/science_wp3.htm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-1440"/>
            <a:ext cx="8534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SW - </a:t>
            </a:r>
            <a:r>
              <a:rPr b="1" lang="en-US" sz="1600" spc="-1" strike="noStrike">
                <a:solidFill>
                  <a:srgbClr val="4d4d4d"/>
                </a:solidFill>
                <a:latin typeface="Arial Unicode MS"/>
              </a:rPr>
              <a:t>DATABASES IN CHEMICAL THERMODYNAMICS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33520" y="838080"/>
          <a:ext cx="8305560" cy="5132520"/>
        </p:xfrm>
        <a:graphic>
          <a:graphicData uri="http://schemas.openxmlformats.org/drawingml/2006/table">
            <a:tbl>
              <a:tblPr/>
              <a:tblGrid>
                <a:gridCol w="1371600"/>
                <a:gridCol w="1447560"/>
                <a:gridCol w="3200400"/>
                <a:gridCol w="2286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Thermo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-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3"/>
                        </a:rPr>
                        <a:t>Calc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Royal Institut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Technolog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Swe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for thermodynam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phase diagram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alculations, speciall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esigned for systems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trongly non-ideal phases. Assessmen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 and workstation, commert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4"/>
                        </a:rPr>
                        <a:t>Panda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puTherm LLC</a:t>
                      </a:r>
                      <a:br>
                        <a:rPr sz="1600"/>
                      </a:b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JP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hase diagrams and related thermodynamic calculations. Celkova G energie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mercial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5"/>
                        </a:rPr>
                        <a:t>F*A*C*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6"/>
                        </a:rPr>
                        <a:t>École Polytechnique_x000b_de Montréal</a:t>
                      </a: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 (FR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grated 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 which coupl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data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nline, P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web. Commertil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7"/>
                        </a:rPr>
                        <a:t>MT-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8"/>
                        </a:rPr>
                        <a:t>NPL</a:t>
                      </a:r>
                      <a:r>
                        <a:rPr b="0" lang="en-US" sz="16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 (UK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nk system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 data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-disks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merc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Thermo_Calc_logo" descr=""/>
          <p:cNvPicPr/>
          <p:nvPr/>
        </p:nvPicPr>
        <p:blipFill>
          <a:blip r:embed="rId9"/>
          <a:stretch/>
        </p:blipFill>
        <p:spPr>
          <a:xfrm>
            <a:off x="7772400" y="1905120"/>
            <a:ext cx="884160" cy="766800"/>
          </a:xfrm>
          <a:prstGeom prst="rect">
            <a:avLst/>
          </a:prstGeom>
          <a:ln w="0">
            <a:noFill/>
          </a:ln>
        </p:spPr>
      </p:pic>
      <p:pic>
        <p:nvPicPr>
          <p:cNvPr id="187" name="wwf_panda_logo_1978" descr=""/>
          <p:cNvPicPr/>
          <p:nvPr/>
        </p:nvPicPr>
        <p:blipFill>
          <a:blip r:embed="rId10"/>
          <a:stretch/>
        </p:blipFill>
        <p:spPr>
          <a:xfrm>
            <a:off x="7772400" y="3124080"/>
            <a:ext cx="993600" cy="925560"/>
          </a:xfrm>
          <a:prstGeom prst="rect">
            <a:avLst/>
          </a:prstGeom>
          <a:ln w="0">
            <a:noFill/>
          </a:ln>
        </p:spPr>
      </p:pic>
      <p:pic>
        <p:nvPicPr>
          <p:cNvPr id="188" name="sp_factsage" descr=""/>
          <p:cNvPicPr/>
          <p:nvPr/>
        </p:nvPicPr>
        <p:blipFill>
          <a:blip r:embed="rId11"/>
          <a:stretch/>
        </p:blipFill>
        <p:spPr>
          <a:xfrm>
            <a:off x="6553080" y="4648320"/>
            <a:ext cx="217188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4488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44880" y="2484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32000" y="3645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2" name="demlog160" descr=""/>
          <p:cNvPicPr/>
          <p:nvPr/>
        </p:nvPicPr>
        <p:blipFill>
          <a:blip r:embed="rId12"/>
          <a:stretch/>
        </p:blipFill>
        <p:spPr>
          <a:xfrm>
            <a:off x="7772400" y="5486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1365120"/>
          <a:ext cx="8077320" cy="508644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3200400"/>
                <a:gridCol w="228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om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Thermodoc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Gemin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THERMO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elements and substa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 inorganic chemistry,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ir reaction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Bibliographic refere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ertaining to th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 of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elements, stoichiometr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tances, alloys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-stoichiometric phas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interest to dry miner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hemistry)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ranspac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rne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ropert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ICST. factu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s (JOIS-F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 relate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 for inorganic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low molecular weight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pounds and up to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3-component system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lanned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WWW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cript.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te: this servic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s temporary dow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2-12T15:02:49Z</dcterms:modified>
  <cp:revision>122</cp:revision>
  <dc:subject/>
  <dc:title>C6730 Fázové rovnováhy</dc:title>
</cp:coreProperties>
</file>