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.gif" ContentType="image/gif"/>
  <Override PartName="/ppt/media/image9.png" ContentType="image/png"/>
  <Override PartName="/ppt/media/image13.png" ContentType="image/png"/>
  <Override PartName="/ppt/media/image18.jpeg" ContentType="image/jpeg"/>
  <Override PartName="/ppt/media/image7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6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0B77-7D32-4957-A125-DC37655C72F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D4D0-61A5-40BC-9EED-9170269A8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2BFE-DAC7-400F-B81C-BF4DC707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7643-DDB3-44FD-ABDF-A92332FAA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85D5-70BE-49DF-8EE7-6DD5A3BD4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23E3-227B-405B-B774-5F1BB82EB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2F62-D54D-4692-98AB-0273C605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109E-EADD-41B8-9E3A-53FBF8B3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5E5D-3ED7-462B-84EC-5810C073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AAC8-DB09-4E29-B751-5676D5A3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67F7-F146-4A1C-A862-4BB75992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E44A-647F-4C33-8086-322A505B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8D09-85DD-42A3-9EA7-B65D7F66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7DCD-1BD3-40E4-A128-6D60D766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1F50-18F5-4803-94EC-07A5454D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B6A9-C788-4C31-AC3E-10B2A9D0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494E-198D-47A4-A1A9-946F435DE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E059-8A20-4CDD-982E-DA947D1AF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DBED-436B-4101-9C81-7054E4B1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34B0-C794-4F13-A784-65991DF1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2FA2-33D2-477E-A122-0326481A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1AC1-DF29-46A7-A28E-5FF1BAEA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F220-3068-49A1-AE64-DDF55007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9122-EAAC-490D-B765-E7406E43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32F1-3388-4DD3-B1F9-C20D94CD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7A39-EC97-495F-A5D0-78C8F6AC8EBE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79EA-592E-49AC-BF11-95A032201B00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08a Quatermární soustav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Žáropevné oceli P91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3" name="Fig_FD_P91_oK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867640" cy="5311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400800" y="1066680"/>
            <a:ext cx="2514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=1Atm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Fe-9wt%Cr-1%Mo-0,2%V-0,01%N-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0512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0512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260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8" name="reasonable_price_of_P91_steel_alloy_pipe" descr=""/>
          <p:cNvPicPr/>
          <p:nvPr/>
        </p:nvPicPr>
        <p:blipFill>
          <a:blip r:embed="rId2"/>
          <a:stretch/>
        </p:blipFill>
        <p:spPr>
          <a:xfrm>
            <a:off x="6248520" y="2362320"/>
            <a:ext cx="2609640" cy="1931760"/>
          </a:xfrm>
          <a:prstGeom prst="rect">
            <a:avLst/>
          </a:prstGeom>
          <a:ln w="0">
            <a:noFill/>
          </a:ln>
        </p:spPr>
      </p:pic>
      <p:pic>
        <p:nvPicPr>
          <p:cNvPr id="189" name="T91p91_1" descr=""/>
          <p:cNvPicPr/>
          <p:nvPr/>
        </p:nvPicPr>
        <p:blipFill>
          <a:blip r:embed="rId3"/>
          <a:stretch/>
        </p:blipFill>
        <p:spPr>
          <a:xfrm>
            <a:off x="6324480" y="4290840"/>
            <a:ext cx="2362320" cy="21225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400800" y="6477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Pevnost při creep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a_01_ph2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350120" cy="54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385920"/>
            <a:ext cx="82296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85920"/>
            <a:ext cx="9144000" cy="36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5" name="a_03_ph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832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redikce FD 4 – složkové soustav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Quaternární soustav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65320"/>
            <a:ext cx="4495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Projekce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447920"/>
            <a:ext cx="77724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763120" cy="5311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96516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516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95920" y="3859200"/>
            <a:ext cx="2482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5264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62120" y="3429000"/>
            <a:ext cx="27460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22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měsné sulfid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1" name="CAgSbZ3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4114800" cy="3911760"/>
          </a:xfrm>
          <a:prstGeom prst="rect">
            <a:avLst/>
          </a:prstGeom>
          <a:ln w="0">
            <a:noFill/>
          </a:ln>
        </p:spPr>
      </p:pic>
      <p:pic>
        <p:nvPicPr>
          <p:cNvPr id="162" name="CAgSbZ6" descr="Three assemblages"/>
          <p:cNvPicPr/>
          <p:nvPr/>
        </p:nvPicPr>
        <p:blipFill>
          <a:blip r:embed="rId2"/>
          <a:stretch/>
        </p:blipFill>
        <p:spPr>
          <a:xfrm>
            <a:off x="4648320" y="1143000"/>
            <a:ext cx="4149720" cy="3944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8600" y="5334120"/>
            <a:ext cx="861048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'sphalerite' ….ZnS,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ArgCal … argentite-chalcocite solid solution (Ag,Cu)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,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Miargyrite….AgSbS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. Pyrargyrite…Ag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bS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Fahlore…Cu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b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4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13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86600" y="53341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http://research.amnh.org/~debel/sulfide/fahlore/CASZsys1.htm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30420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Cryovolcanism on icy satellites: Application to Titan.</a:t>
            </a:r>
            <a:endParaRPr b="0" lang="en-US" sz="1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293040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3040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1788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phase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5154480" cy="48574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019920" y="1143000"/>
            <a:ext cx="259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http://www.es.ucl.ac.uk/research/planetary/undergraduate/dom/weathering_titan/chap7.ht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1" name="clastic" descr=""/>
          <p:cNvPicPr/>
          <p:nvPr/>
        </p:nvPicPr>
        <p:blipFill>
          <a:blip r:embed="rId2"/>
          <a:stretch/>
        </p:blipFill>
        <p:spPr>
          <a:xfrm>
            <a:off x="5867280" y="2590920"/>
            <a:ext cx="29354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Oceli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Fe-4Mo-Cr-C%20at%201000%20degree%20C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789444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449568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Nerez ocel Fe-18Cr-8Ni-0,2%C-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5" name="83265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000680" cy="3782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572000" y="3048120"/>
            <a:ext cx="3581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Fig 1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Phase diagram</a:t>
            </a: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 of stainless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steel</a:t>
            </a: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 AISI 420 (X20Cr13) calculated by Thermocalc including isobars of equilibrium N2 pressure. At a temperature of 1100¿C and P(n2) just below 1 bar, for example, a nitrogen content of 0.35% is expected in the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steel</a:t>
            </a: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 surface which, together with 0.2% C in the bulk material, is sufficient to produce a surface hardness of about 59 HRC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7" name="83266" descr=""/>
          <p:cNvPicPr/>
          <p:nvPr/>
        </p:nvPicPr>
        <p:blipFill>
          <a:blip r:embed="rId2"/>
          <a:stretch/>
        </p:blipFill>
        <p:spPr>
          <a:xfrm>
            <a:off x="6781680" y="304920"/>
            <a:ext cx="187164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097000" y="304920"/>
            <a:ext cx="62755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99840" y="227160"/>
            <a:ext cx="6705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Nb-oceli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1-66591" descr=""/>
          <p:cNvPicPr/>
          <p:nvPr/>
        </p:nvPicPr>
        <p:blipFill>
          <a:blip r:embed="rId1"/>
          <a:stretch/>
        </p:blipFill>
        <p:spPr>
          <a:xfrm>
            <a:off x="533520" y="895320"/>
            <a:ext cx="655308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1T15:29:23Z</dcterms:modified>
  <cp:revision>117</cp:revision>
  <dc:subject/>
  <dc:title>C6730 Fázové rovnováhy</dc:title>
</cp:coreProperties>
</file>