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.gif" ContentType="image/gif"/>
  <Override PartName="/ppt/media/image9.png" ContentType="image/png"/>
  <Override PartName="/ppt/media/image13.png" ContentType="image/png"/>
  <Override PartName="/ppt/media/image18.jpeg" ContentType="image/jpeg"/>
  <Override PartName="/ppt/media/image7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6.png" ContentType="image/png"/>
  <Override PartName="/ppt/media/image15.jpeg" ContentType="image/jpeg"/>
  <Override PartName="/ppt/media/image3.wmf" ContentType="image/x-wmf"/>
  <Override PartName="/ppt/media/image4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1ECB-D574-4E2B-8070-B07444DD6DF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D159-7C26-46F2-9846-C9ADA14CB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741F-0AFF-44AA-A8D6-70562F10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CECC-81CF-4744-8D99-8C0232DE4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837F-5CCB-45D1-9731-AC37C81F7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A9AB-7DD4-4071-877D-6A69FDF8A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544CB-4177-4631-BFCB-24C79CDC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86619-805A-4019-AD56-39BC15EA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24C7-E2F5-4674-B545-6B1D6F0E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5763D-6FD1-4012-9699-39A2CFA6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C75B-095C-43A5-BF88-5C2C2862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4ED8-EC3F-4945-B14C-FAE5E719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DAC2-7067-437A-A114-5D4F5198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9A9C-37E0-4092-804D-585A8EA4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4DF75-7136-4CF7-A212-16A4240C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C8AC-A91E-42B5-B567-83648240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F21F-5627-4050-8B6F-10F51EC6E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5096C-DE84-4AB3-98AA-F1933C2C3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056F-2F28-4335-904E-D57973AD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F4EB-0BC2-45E5-9E68-47E185C5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A34B-E37D-4887-8F22-8A02491D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A45C-1AEA-44F9-B72B-AE19AA2A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7BE3-9173-41D8-9E87-FC81D631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C006-2A02-47E7-96E7-5C1094A4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0304-0B0F-4107-8305-6042E439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654D-BF98-458D-B635-76C8B8A20E64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018A-373C-4C23-BD49-55519177AE3D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P08a Quatermární soustav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Žáropevné oceli P91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3" name="Fig_FD_P91_oK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5867640" cy="53118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400800" y="1066680"/>
            <a:ext cx="2514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P=1Atm,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Fe-9wt%Cr-1%Mo-0,2%V-0,01%N-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05120" y="248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05120" y="24843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92600" y="364500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8" name="reasonable_price_of_P91_steel_alloy_pipe" descr=""/>
          <p:cNvPicPr/>
          <p:nvPr/>
        </p:nvPicPr>
        <p:blipFill>
          <a:blip r:embed="rId2"/>
          <a:stretch/>
        </p:blipFill>
        <p:spPr>
          <a:xfrm>
            <a:off x="6248520" y="2362320"/>
            <a:ext cx="2609640" cy="1931760"/>
          </a:xfrm>
          <a:prstGeom prst="rect">
            <a:avLst/>
          </a:prstGeom>
          <a:ln w="0">
            <a:noFill/>
          </a:ln>
        </p:spPr>
      </p:pic>
      <p:pic>
        <p:nvPicPr>
          <p:cNvPr id="189" name="T91p91_1" descr=""/>
          <p:cNvPicPr/>
          <p:nvPr/>
        </p:nvPicPr>
        <p:blipFill>
          <a:blip r:embed="rId3"/>
          <a:stretch/>
        </p:blipFill>
        <p:spPr>
          <a:xfrm>
            <a:off x="6324480" y="4290840"/>
            <a:ext cx="2362320" cy="21225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400800" y="64771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Pevnost při creep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a_01_ph2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350120" cy="54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385920"/>
            <a:ext cx="82296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85920"/>
            <a:ext cx="9144000" cy="36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5" name="a_03_ph2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58320" cy="60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Predikce FD 4 – složkové soustav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Quaternární soustava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65320"/>
            <a:ext cx="4495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Projekce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447920"/>
            <a:ext cx="77724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763120" cy="5311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965160" y="248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5160" y="24843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695920" y="3859200"/>
            <a:ext cx="248292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52640" y="364500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62120" y="3429000"/>
            <a:ext cx="274608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22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Směsné sulfid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1" name="CAgSbZ3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4114800" cy="3911760"/>
          </a:xfrm>
          <a:prstGeom prst="rect">
            <a:avLst/>
          </a:prstGeom>
          <a:ln w="0">
            <a:noFill/>
          </a:ln>
        </p:spPr>
      </p:pic>
      <p:pic>
        <p:nvPicPr>
          <p:cNvPr id="162" name="CAgSbZ6" descr="Three assemblages"/>
          <p:cNvPicPr/>
          <p:nvPr/>
        </p:nvPicPr>
        <p:blipFill>
          <a:blip r:embed="rId2"/>
          <a:stretch/>
        </p:blipFill>
        <p:spPr>
          <a:xfrm>
            <a:off x="4648320" y="1143000"/>
            <a:ext cx="4149720" cy="3944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28600" y="5334120"/>
            <a:ext cx="8610480" cy="15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'sphalerite' ….ZnS,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ArgCal … argentite-chalcocite solid solution (Ag,Cu)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,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Miargyrite….AgSbS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. Pyrargyrite…Ag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bS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Fahlore…Cu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b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4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13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86600" y="533412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http://research.amnh.org/~debel/sulfide/fahlore/CASZsys1.html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30420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Cryovolcanism on icy satellites: Application to Titan.</a:t>
            </a:r>
            <a:endParaRPr b="0" lang="en-US" sz="1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2930400" y="248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30400" y="24843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17880" y="364500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phase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5154480" cy="48574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019920" y="1143000"/>
            <a:ext cx="2590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http://www.es.ucl.ac.uk/research/planetary/undergraduate/dom/weathering_titan/chap7.ht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1" name="clastic" descr=""/>
          <p:cNvPicPr/>
          <p:nvPr/>
        </p:nvPicPr>
        <p:blipFill>
          <a:blip r:embed="rId2"/>
          <a:stretch/>
        </p:blipFill>
        <p:spPr>
          <a:xfrm>
            <a:off x="5867280" y="2590920"/>
            <a:ext cx="29354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Oceli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3" name="Fe-4Mo-Cr-C%20at%201000%20degree%20C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789444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449568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Nerez ocel Fe-18Cr-8Ni-0,2%C-N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5" name="83265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4000680" cy="3782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572000" y="3048120"/>
            <a:ext cx="3581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666666"/>
                </a:solidFill>
                <a:latin typeface="Verdana"/>
              </a:rPr>
              <a:t>Fig 1 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Phase diagram</a:t>
            </a:r>
            <a:r>
              <a:rPr b="1" lang="cs-CZ" sz="1600" spc="-1" strike="noStrike">
                <a:solidFill>
                  <a:srgbClr val="666666"/>
                </a:solidFill>
                <a:latin typeface="Verdana"/>
              </a:rPr>
              <a:t> of stainless 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steel</a:t>
            </a:r>
            <a:r>
              <a:rPr b="1" lang="cs-CZ" sz="1600" spc="-1" strike="noStrike">
                <a:solidFill>
                  <a:srgbClr val="666666"/>
                </a:solidFill>
                <a:latin typeface="Verdana"/>
              </a:rPr>
              <a:t> AISI 420 (X20Cr13) calculated by Thermocalc including isobars of equilibrium N2 pressure. At a temperature of 1100¿C and P(n2) just below 1 bar, for example, a nitrogen content of 0.35% is expected in the 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steel</a:t>
            </a:r>
            <a:r>
              <a:rPr b="1" lang="cs-CZ" sz="1600" spc="-1" strike="noStrike">
                <a:solidFill>
                  <a:srgbClr val="666666"/>
                </a:solidFill>
                <a:latin typeface="Verdana"/>
              </a:rPr>
              <a:t> surface which, together with 0.2% C in the bulk material, is sufficient to produce a surface hardness of about 59 HRC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7" name="83266" descr=""/>
          <p:cNvPicPr/>
          <p:nvPr/>
        </p:nvPicPr>
        <p:blipFill>
          <a:blip r:embed="rId2"/>
          <a:stretch/>
        </p:blipFill>
        <p:spPr>
          <a:xfrm>
            <a:off x="6781680" y="304920"/>
            <a:ext cx="1871640" cy="27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097000" y="304920"/>
            <a:ext cx="62755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99840" y="227160"/>
            <a:ext cx="6705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Nb-oceli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1" name="1-66591" descr=""/>
          <p:cNvPicPr/>
          <p:nvPr/>
        </p:nvPicPr>
        <p:blipFill>
          <a:blip r:embed="rId1"/>
          <a:stretch/>
        </p:blipFill>
        <p:spPr>
          <a:xfrm>
            <a:off x="533520" y="895320"/>
            <a:ext cx="655308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1T15:29:23Z</dcterms:modified>
  <cp:revision>117</cp:revision>
  <dc:subject/>
  <dc:title>C6730 Fázové rovnováhy</dc:title>
</cp:coreProperties>
</file>