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20D6-29F4-4F92-816A-BEC7EB4C9D7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61EA-BC36-4E07-A2FB-579F7A65E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FF77-9640-4DCE-B247-F8D0F686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E439-D922-4103-8FAB-3135F0765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0127-C1E3-4044-949C-990E41F79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B369-F203-4FF9-BD98-C825073D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5B39-63B4-44FF-89FE-923DF78F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AC46-868B-40B8-A2A0-14221ECC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D3D3-72FC-4E2A-9C21-BC9DABD83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34B6-A9B8-439D-82D3-9892A18E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BB20-E881-4008-B6BA-F49C9CF3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F022-87CF-4179-A8E3-38D17D0B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A7CA-25A7-4E43-ABAA-96ABE807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3E360-F403-46F8-9D27-E6968803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04AC-BA68-4D1F-A9C0-C8CB82E5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7795-D7DC-4750-8E8D-A05C1025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4DAB-04C1-40DF-A538-F81087E9E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A443-EE56-4E45-BC37-211EFF404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A8E9-4BBC-48ED-ACA1-7F345C6C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442C-4ADF-4434-A9E8-CB1BB29A7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987A-5F04-42CD-A3DD-671EF397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6E01-86C5-4797-9B06-36FC6A21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8716-63AE-4EDB-912F-29DB3E57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978E-6345-4B9C-9CC9-B7127BAE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94A4-8B8A-4298-99B9-49B86C4F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EDD3-3892-4659-B90F-FFC8601BDD5E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429D-9D0C-4C9A-B5F1-40D5AF67637C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9a Difú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Fickovy záko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Řečení difúzních rovn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Vybrané Difúzní problém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Fickovy záko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543800" cy="3870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04920" y="5410080"/>
            <a:ext cx="8610480" cy="11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6344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772400" cy="2455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219320" y="3809880"/>
            <a:ext cx="693396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07:14Z</dcterms:modified>
  <cp:revision>117</cp:revision>
  <dc:subject/>
  <dc:title>C6730 Fázové rovnováhy</dc:title>
</cp:coreProperties>
</file>