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7829-5272-4C74-A5AD-8AFA2D5B57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D9C-D87B-487B-A8A3-88E5A8B1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C9B-235A-4088-94AB-3EEB68B0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053-55A3-4418-BF3B-B619521A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D08B-946F-4B2B-9CAE-6F86F14A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2D9E-EE83-4D81-AC09-D4467207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3274-CFBD-4B1C-AE65-DFF651C4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3ACC-BB80-4B56-9A08-05321E17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2621-7AAB-4136-B612-3462D159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4558-88C9-44B7-8802-B5D7C3A4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98ED-4690-45D6-85BD-618A1123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FB13-11E4-487E-8B46-ED5EEA87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E9A-D6C9-4E0B-B5E5-0FC5EF45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0DAA-539F-48B9-BFAC-EF2C5CDF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6CFC-32D3-4F61-B80C-F878004C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7FC9-1238-4E2B-896D-87F26850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4F0C-C997-40D0-BAA0-86805E3F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828E-0D60-4DC8-9083-C1108B76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185-47FB-4C8D-8910-B20ED425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140-1057-4E01-A625-EC2316D1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4F25-A49E-4FA7-9A35-FBE5C524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ADF-9BC5-48BE-8172-96C89E6D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03F-52BF-4BF1-922D-25288E2D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3EA-7F36-43AE-9A0C-5051B4F9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0D6-2382-42CD-B96E-5162A7E4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15B9-9A4F-4F46-A12D-F6B2754F82C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5C7C-15C8-43A9-890F-853183AF5FF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9a Difú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Fickovy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Řečení difúzních rovn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Vybrané Difúzní problé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ickovy záko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387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86104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245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9339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07:14Z</dcterms:modified>
  <cp:revision>117</cp:revision>
  <dc:subject/>
  <dc:title>C6730 Fázové rovnováhy</dc:title>
</cp:coreProperties>
</file>