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9246-3506-4712-A1C0-277CB42DD67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396-8165-40D5-8AEE-1F59484B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944-F8BB-4B0E-84B4-05831FFE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0706-0D67-4435-97A4-C739DF47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AE9-8BF2-4D1E-8850-7F58AA9C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90DD-5F69-4373-88C3-D152E634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3902-0F59-42A6-BA02-33942B37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3C1D-ACA0-4D07-BC5D-FE95146A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26A3-BD48-4ACA-A4DC-00D15D90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9074-E653-4D25-8BA8-C33B9FAD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B86C-52E4-4207-AEA4-56E41C1A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5923-1441-4D36-8324-D4D5A08A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884-CE42-49A1-A0D3-88075169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43C1-BB67-462F-B89E-C92F6E07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D7BA-E4D1-4EBA-9885-D52E8F95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55F0-F0E8-4342-98C6-645B1915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F461-093F-4C69-B750-E90B029D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20B6-5C27-4DAF-AD20-8220ED46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AD0-0AAF-4B83-9DB8-FEFAE79B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E8A-8CD0-46A5-B86A-B3809DD0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14E3-02A4-440F-B8A5-02D589B0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7759-11AF-4C02-B8B7-F63D3E67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E9D-3EA2-4448-9E4C-D5B2B1CE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5F6-7E1F-4507-B676-F72EBB80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1598-76DD-4FE2-9288-6DFFB9D5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5F49-F720-429B-B68A-88ACA980379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EB61-74BA-4AD5-BF99-70BB37360303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9a Difú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Fickovy záko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Řečení difúzních rovn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Vybrané Difúzní problém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ickovy záko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543800" cy="387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861048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34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772400" cy="2455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69339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07:14Z</dcterms:modified>
  <cp:revision>117</cp:revision>
  <dc:subject/>
  <dc:title>C6730 Fázové rovnováhy</dc:title>
</cp:coreProperties>
</file>