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33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0.jpeg" ContentType="image/jpeg"/>
  <Override PartName="/ppt/media/image3.jpeg" ContentType="image/jpeg"/>
  <Override PartName="/ppt/media/image9.jpeg" ContentType="image/jpeg"/>
  <Override PartName="/ppt/media/image28.jpeg" ContentType="image/jpeg"/>
  <Override PartName="/ppt/media/image23.wmf" ContentType="image/x-wmf"/>
  <Override PartName="/ppt/media/image34.png" ContentType="image/png"/>
  <Override PartName="/ppt/media/image17.wmf" ContentType="image/x-wmf"/>
  <Override PartName="/ppt/media/image6.wmf" ContentType="image/x-wmf"/>
  <Override PartName="/ppt/media/image11.wmf" ContentType="image/x-wmf"/>
  <Override PartName="/ppt/media/image36.png" ContentType="image/png"/>
  <Override PartName="/ppt/media/image35.wmf" ContentType="image/x-wmf"/>
  <Override PartName="/ppt/media/image5.wmf" ContentType="image/x-wmf"/>
  <Override PartName="/ppt/media/image27.jpeg" ContentType="image/jpeg"/>
  <Override PartName="/ppt/media/image2.gif" ContentType="image/gi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8.wmf" ContentType="image/x-wmf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2657-4388-468B-9A6E-45F9347095D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90B2-B48C-4CA5-B60A-C5BF4608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8F57-E498-4D82-84BA-75D1C8B10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C8F3-B5FD-41D2-82C3-25A505F46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4A18-9A58-4D5B-904D-81E611888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D304-42DE-4434-9C90-41E46091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70C63-388C-4551-90EF-E4ACD3D11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309D-920B-4D44-A4B9-1B0E0AD2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5916-8463-414D-BD58-3734C9598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DB7CA-E811-4770-9D95-17D8C9D3F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FB14-C41B-4140-8CE3-4AC3757B5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9844-F8F0-414E-9778-1B13C265B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921B-66CA-4A7E-9F54-70E26937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1888-E761-40AE-BB04-90706939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E763C-853C-48CA-887E-956BB79B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6966D-67E5-4D1A-AAA8-3F352965B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12193-1491-4F9A-B5C9-32098F26B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0966E-7D24-499B-83F0-B3D26870C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BC31-C6D9-454A-BCD9-048A435C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4CC9-B9B8-419C-A629-A34409523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B3C4-6C1E-4B6C-A97B-4B6EF82FE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D39B-6B4B-4218-BF26-6C42A45AF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0C9B-EFB8-4FE7-A912-7BDBBEDC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A896-5540-46D6-ACF1-1B876E33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E38E-18BD-4446-910F-79C6F371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EBF9-4963-42AE-8AE6-3430ACE64417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376DB-4CCF-4653-9293-AE270AC63599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www.google.cz/imgres?q=nucleation+centre&amp;hl=cs&amp;biw=996&amp;bih=522&amp;gbv=2&amp;tbm=isch&amp;tbnid=HX9uUSL_-sqqGM:&amp;imgrefurl=http://www.epj.org/news.html&amp;docid=uVTPgN-MOViRAM&amp;imgurl=http://www.epj.org/_img/news/news_2011-02_5.jpg&amp;w=150&amp;h=197&amp;ei=2KPTTobyFNSYsAbvvYSCBA&amp;zoom=1" TargetMode="External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png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7 Kinetika vzniku vícefázových struktur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Rychlost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838080"/>
            <a:ext cx="7848360" cy="12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NewRoman,Bold"/>
              </a:rPr>
              <a:t>Rychlost: r = 1 / t0.5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Platí Arrheniova závislost: </a:t>
            </a:r>
            <a:r>
              <a:rPr b="0" lang="cs-CZ" sz="1800" spc="-1" strike="noStrike">
                <a:solidFill>
                  <a:srgbClr val="000000"/>
                </a:solidFill>
                <a:latin typeface="TimesNewRoman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r = A exp (-</a:t>
            </a:r>
            <a:r>
              <a:rPr b="1" lang="cs-CZ" sz="1800" spc="-1" strike="noStrike">
                <a:solidFill>
                  <a:srgbClr val="008100"/>
                </a:solidFill>
                <a:latin typeface="TimesNewRoman,Bold"/>
              </a:rPr>
              <a:t>QA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kT) = A exp (-</a:t>
            </a:r>
            <a:r>
              <a:rPr b="1" lang="cs-CZ" sz="1800" spc="-1" strike="noStrike">
                <a:solidFill>
                  <a:srgbClr val="3333cd"/>
                </a:solidFill>
                <a:latin typeface="TimesNewRoman,Bold"/>
              </a:rPr>
              <a:t>Qm</a:t>
            </a:r>
            <a:r>
              <a:rPr b="1" lang="cs-CZ" sz="1800" spc="-1" strike="noStrike">
                <a:solidFill>
                  <a:srgbClr val="000000"/>
                </a:solidFill>
                <a:latin typeface="TimesNewRoman,Bold"/>
              </a:rPr>
              <a:t>/ RT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7594560" cy="39798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990720" y="61722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Rekrystalizace měd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805680"/>
            <a:ext cx="32767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TT křivky Fe-C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368520" cy="3193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3733920" y="235080"/>
            <a:ext cx="5132160" cy="66229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228600" y="5148360"/>
            <a:ext cx="1797120" cy="17096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2057400" y="60199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rlit Fe-0,8wt%C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ikrostruktura a TTT křivk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457200" y="1981080"/>
            <a:ext cx="5607000" cy="41817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324480" y="1905120"/>
            <a:ext cx="251460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he thickness of the ferrite and cementite layers in pearlit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s ~ 8:1. The absolute layer thickness depends on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 of the transformation. The higher th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temperature, the thicker the layer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79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aini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5085000" cy="54147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5638680" y="1371600"/>
            <a:ext cx="35053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If transformation temperature is low enough (</a:t>
            </a:r>
            <a:r>
              <a:rPr b="0" lang="cs-CZ" sz="1800" spc="-1" strike="noStrike">
                <a:solidFill>
                  <a:srgbClr val="000066"/>
                </a:solidFill>
                <a:latin typeface="SymbolMT"/>
              </a:rPr>
              <a:t>≤</a:t>
            </a: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540°C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TimesNewRoman"/>
              </a:rPr>
              <a:t>bainite rather than fine pearlite forms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5562720" y="2895480"/>
            <a:ext cx="1542960" cy="19558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7238880" y="2895480"/>
            <a:ext cx="1731960" cy="21160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5943600" y="5133960"/>
            <a:ext cx="2666880" cy="17240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7238880" y="5943600"/>
            <a:ext cx="1676520" cy="703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Sferitizace (700st)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4564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hrnutí difůzně řízených přeměn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1066680"/>
            <a:ext cx="853416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family of S-shaped curves at different T are used to construct the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The TTT diagrams are for the 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isothermal 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(constant T) transformations (material is cooled quickly to a given temperature before the transformation occurs, and then keep it at that temperature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low temperatures, the transformation occurs sooner (it is controlled by the rate of nucleation) and grain growth (that is controlled by diffusion) is reduced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Slow diffusion at low temperatures leads to fine-grained microstructure with thin-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fin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At higher temperatures, high diffusion rates allow for larger grain growth and formation of thick layered structure of pearlite (</a:t>
            </a:r>
            <a:r>
              <a:rPr b="1" lang="cs-CZ" sz="2000" spc="-1" strike="noStrike">
                <a:solidFill>
                  <a:srgbClr val="3333cd"/>
                </a:solidFill>
                <a:latin typeface="TimesNewRoman,Bold"/>
              </a:rPr>
              <a:t>coarse pearlite</a:t>
            </a:r>
            <a:r>
              <a:rPr b="0" lang="cs-CZ" sz="2000" spc="-1" strike="noStrike">
                <a:solidFill>
                  <a:srgbClr val="000000"/>
                </a:solidFill>
                <a:latin typeface="TimesNewRoman"/>
              </a:rPr>
              <a:t>). At compositions other than eutectoid, a proeutectoid phase (ferrite or cementite) coexist with pearlite. Additional curves for proeutectoid transformation must be included on TTT diagrams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Bezdifúzní přeměn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086080" cy="3517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5254560" y="3581280"/>
            <a:ext cx="3889440" cy="29084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600200" y="58672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„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Matrenzitické přeměny“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-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685800"/>
            <a:ext cx="86868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forms when austenite is rapidly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quenched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 to room T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The austenite-martensite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does not involve diffusion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→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no thermal activation is needed,this is called an </a:t>
            </a: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athermal transformation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Each atom displaces a small (sub-atomic) distance to transform FCC </a:t>
            </a:r>
            <a:r>
              <a:rPr b="0" lang="cs-CZ" sz="2400" spc="-1" strike="noStrike">
                <a:solidFill>
                  <a:srgbClr val="000000"/>
                </a:solidFill>
                <a:latin typeface="SymbolMT"/>
              </a:rPr>
              <a:t>γ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Fe (austenite) to martensite which has a Body Centered Tetragonal (BCT) unit cell (like BCC, but one unit cell axis is longer than the other two)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•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Martensite is </a:t>
            </a:r>
            <a:r>
              <a:rPr b="0" lang="cs-CZ" sz="2400" spc="-1" strike="noStrike">
                <a:solidFill>
                  <a:srgbClr val="3333cd"/>
                </a:solidFill>
                <a:latin typeface="TimesNewRoman"/>
              </a:rPr>
              <a:t>metastabl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can persist indefinitely at room temperature, but will transform to equilibrium phases on annealing at an elevated temperature. Martensite can coexist with other phases and/or microstructures in Fe-C systém. It does not appear in phase Fe-C phase diagra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248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artenzi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3179880" y="228600"/>
            <a:ext cx="5284800" cy="64771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304920" y="4724280"/>
            <a:ext cx="2819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TimesNewRoman"/>
              </a:rPr>
              <a:t>Austenite-to-martensite is diffusionless and very fast. The amount of martensite formed depends on temperature only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531800" y="173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31800" y="173988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89440" y="3848040"/>
            <a:ext cx="23130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19280" y="29005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images" descr=""/>
          <p:cNvPicPr/>
          <p:nvPr/>
        </p:nvPicPr>
        <p:blipFill>
          <a:blip r:embed="rId2"/>
          <a:stretch/>
        </p:blipFill>
        <p:spPr>
          <a:xfrm>
            <a:off x="228600" y="1143000"/>
            <a:ext cx="2590920" cy="1940040"/>
          </a:xfrm>
          <a:prstGeom prst="rect">
            <a:avLst/>
          </a:prstGeom>
          <a:ln w="0">
            <a:noFill/>
          </a:ln>
        </p:spPr>
      </p:pic>
      <p:pic>
        <p:nvPicPr>
          <p:cNvPr id="217" name="martensite-1500x" descr=""/>
          <p:cNvPicPr/>
          <p:nvPr/>
        </p:nvPicPr>
        <p:blipFill>
          <a:blip r:embed="rId3"/>
          <a:stretch/>
        </p:blipFill>
        <p:spPr>
          <a:xfrm>
            <a:off x="838080" y="3200400"/>
            <a:ext cx="1284480" cy="15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3244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NewRoman"/>
              </a:rPr>
              <a:t>Tepelné zpracování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581280" y="304920"/>
            <a:ext cx="4849920" cy="6167160"/>
          </a:xfrm>
          <a:prstGeom prst="rect">
            <a:avLst/>
          </a:prstGeom>
          <a:ln w="0">
            <a:noFill/>
          </a:ln>
        </p:spPr>
      </p:pic>
      <p:pic>
        <p:nvPicPr>
          <p:cNvPr id="220" name="44" descr=""/>
          <p:cNvPicPr/>
          <p:nvPr/>
        </p:nvPicPr>
        <p:blipFill>
          <a:blip r:embed="rId2"/>
          <a:stretch/>
        </p:blipFill>
        <p:spPr>
          <a:xfrm>
            <a:off x="304920" y="1627200"/>
            <a:ext cx="3124080" cy="2340000"/>
          </a:xfrm>
          <a:prstGeom prst="rect">
            <a:avLst/>
          </a:prstGeom>
          <a:ln w="0">
            <a:noFill/>
          </a:ln>
        </p:spPr>
      </p:pic>
      <p:pic>
        <p:nvPicPr>
          <p:cNvPr id="221" name="6100CT-heat%20treatment" descr=""/>
          <p:cNvPicPr/>
          <p:nvPr/>
        </p:nvPicPr>
        <p:blipFill>
          <a:blip r:embed="rId3"/>
          <a:stretch/>
        </p:blipFill>
        <p:spPr>
          <a:xfrm>
            <a:off x="228600" y="4191120"/>
            <a:ext cx="3124080" cy="22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Zpracování Fe-C slitin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057400" y="1981080"/>
            <a:ext cx="502920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5181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Termodynamická podmínka vzniku nové fáz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Nukleace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fúzní a bezdifúzní přeměn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76200" y="195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76200" y="19526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3680" y="311292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images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486400" y="3124080"/>
            <a:ext cx="2681280" cy="3505320"/>
          </a:xfrm>
          <a:prstGeom prst="rect">
            <a:avLst/>
          </a:prstGeom>
          <a:ln w="0">
            <a:noFill/>
          </a:ln>
        </p:spPr>
      </p:pic>
      <p:pic>
        <p:nvPicPr>
          <p:cNvPr id="156" name="Soda_bubbles_macro" descr=""/>
          <p:cNvPicPr/>
          <p:nvPr/>
        </p:nvPicPr>
        <p:blipFill>
          <a:blip r:embed="rId7"/>
          <a:stretch/>
        </p:blipFill>
        <p:spPr>
          <a:xfrm>
            <a:off x="5486400" y="1168560"/>
            <a:ext cx="27432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Další fázové transform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6855120" cy="31687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4114800" y="4110120"/>
            <a:ext cx="4784760" cy="27478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0" y="4005360"/>
            <a:ext cx="304812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Tvarová paměť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9" name=""/>
          <p:cNvSpPr/>
          <p:nvPr/>
        </p:nvSpPr>
        <p:spPr>
          <a:xfrm>
            <a:off x="231120" y="1447920"/>
            <a:ext cx="70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hMYC-bLMLZQ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youtube.com/watch?v=fsBHF_j2FJ4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30" name="phase4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4819680" cy="38322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94360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NiTi,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33" name=""/>
          <p:cNvSpPr/>
          <p:nvPr/>
        </p:nvSpPr>
        <p:spPr>
          <a:xfrm>
            <a:off x="838080" y="1828800"/>
            <a:ext cx="74678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0812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Termodynamická podmínka vzniku nové fá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868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Energetika kuloviré části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7391160" cy="39132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867280" y="4716360"/>
            <a:ext cx="302112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ukleace nové fáz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304920" y="1981080"/>
            <a:ext cx="8610480" cy="25117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457200" y="5334120"/>
            <a:ext cx="3962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etastabilní stavy: přechlazení a přehřát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4960" y="18032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64960" y="180324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24560" y="3902040"/>
            <a:ext cx="245592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52440" y="296388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9" name="images" descr=""/>
          <p:cNvPicPr/>
          <p:nvPr/>
        </p:nvPicPr>
        <p:blipFill>
          <a:blip r:embed="rId2"/>
          <a:stretch/>
        </p:blipFill>
        <p:spPr>
          <a:xfrm>
            <a:off x="5181480" y="4216320"/>
            <a:ext cx="3219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Možnosti snížení nukleační bariér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534160" cy="50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Metody usnadňující dosažení rovnovážného stav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18921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228600" y="4794120"/>
            <a:ext cx="7696080" cy="206388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04920" y="3657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Faktory ovlivňující růst nové fáz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sss7-29-08-2008" descr=""/>
          <p:cNvPicPr/>
          <p:nvPr/>
        </p:nvPicPr>
        <p:blipFill>
          <a:blip r:embed="rId3"/>
          <a:stretch/>
        </p:blipFill>
        <p:spPr>
          <a:xfrm>
            <a:off x="6019920" y="2590920"/>
            <a:ext cx="2590560" cy="2263680"/>
          </a:xfrm>
          <a:prstGeom prst="rect">
            <a:avLst/>
          </a:prstGeom>
          <a:ln w="9360">
            <a:solidFill>
              <a:srgbClr val="cc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92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ázových transforma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1676520"/>
            <a:ext cx="7924680" cy="340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bez změny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melting, solidification of pure metal, allotropic transformations, recrystallization, etc.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Difúzí řízené se změnou chemického složení a počtu fází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(e.g. Eutectoid transformations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Bezdifúzní transformace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- produces a metastable phase by cooperative small displacements of all atoms in structure (e.g. martensitic transformation discussed in later in this chapter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38016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 Black"/>
              </a:rPr>
              <a:t>Kinetika FT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143000"/>
            <a:ext cx="74678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Nucleation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of the new phase - formation of stable small particles (nuclei) of the new phase. Nuclei are often formed at grain boundaries and other defects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cd"/>
                </a:solidFill>
                <a:latin typeface="TimesNewRoman,Bold"/>
              </a:rPr>
              <a:t>Growth </a:t>
            </a:r>
            <a:r>
              <a:rPr b="0" lang="cs-CZ" sz="2400" spc="-1" strike="noStrike">
                <a:solidFill>
                  <a:srgbClr val="000000"/>
                </a:solidFill>
                <a:latin typeface="TimesNewRoman"/>
              </a:rPr>
              <a:t>of new phase at the expense of the original phase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981080" y="3200400"/>
            <a:ext cx="4826160" cy="34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28T15:54:39Z</dcterms:modified>
  <cp:revision>119</cp:revision>
  <dc:subject/>
  <dc:title>C6730 Fázové rovnováhy</dc:title>
</cp:coreProperties>
</file>