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F1EF-0D96-48EF-89EA-840EE5F352F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B408-AAEB-421A-B145-BC7684DC6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303A-0F68-4B55-9168-2400D75D4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7B0-C5EB-4894-B5FC-74FD6EFA7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840E-8B62-49F1-A395-3198D094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961F6-0F91-4B1E-870A-7FE2A8215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0A08-1450-4975-A44E-837264DE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DC3F-9722-4A1E-94B2-B82A65AA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ED8EB-76AD-46B8-974E-3FC8C364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ED74-18C1-4551-AA99-46DDEE5B6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EBEC-35CB-47CC-8D16-28820AFF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11E7-1EFE-43A6-8E5F-96F3EDA5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DE9A-32D1-40FA-898C-2007FC44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EB66A-BC1D-427C-8C11-E5788186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9ECB-20F1-4BC2-B32F-9C6604A37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CF310-5E7D-4411-878A-FA269DE2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ED118-A4E3-463F-8EAE-FF5D6B679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9645-5D0B-490C-BD0B-F28037B5A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5D1A-30A4-4590-9D2D-4C5A2FE6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B9F-77EA-4DB1-A427-F708A0C8D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5F5-BC79-44CF-9B19-CE9B0C35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12B6-0FB3-4C81-94AF-3FD1EE3F5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E686-A44F-4C4C-8559-DB9F8A33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BC0B-8870-4E43-AAA1-3E36310A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E984-F105-46D0-90FC-1B88A1D2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E22B-D088-4D40-A1EB-FC6E58B1C7CD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C466-4450-42BC-A77F-FE99E5C2FFB5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9a Difú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Fickovy záko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Řečení difúzních rovnic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Vybrané Difúzní problé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ickovy záko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685800" y="1143000"/>
            <a:ext cx="7543800" cy="387036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861048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16344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772400" cy="245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19320" y="3809880"/>
            <a:ext cx="693396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9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07:14Z</dcterms:modified>
  <cp:revision>117</cp:revision>
  <dc:subject/>
  <dc:title>C6730 Fázové rovnováhy</dc:title>
</cp:coreProperties>
</file>